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B7CA9-A050-4D98-BF81-37F13D1E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2C733-D32C-472B-AEDA-00ED6612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5EEB9-0C41-42F6-8480-9A8502CB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25F4B-CB48-464A-B50E-D833CD6B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EB62F-DA08-4F9C-BC57-01627CFE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B6F7C-A157-4B45-9522-221B0284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F6A4E-971D-47A9-9A1C-FEA27B33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C4926-A782-4B5B-8685-4B757577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6D837-1705-45E2-8546-830279FD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BE4F9-C546-4001-947E-1DEE20EE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1EE58-DE2D-436C-A9F4-3FFC1C72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CBFE8-6A83-4A3B-A800-C25C331A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94FD6-36B7-4BA8-AC5D-539D95FE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2FC95-D8A4-4756-BBDE-6858F97C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8E138-FF3F-4CD6-B532-3A1EB191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67016-28EE-4870-8F17-D14247B2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B1DF1-024B-4352-B211-27C2E72E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06C17-3213-45DE-8B78-B51E6421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2E7B5-5B62-45AC-82B8-F8C12C9B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902A2-B682-4906-981E-6EC35D12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6A589-1086-4781-B38B-E9252E40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3DFF4-10EC-42DC-B64A-74C8E003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80FB6-8B60-41AF-9B7D-F376A3DA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6A113-71D7-4603-A46F-86740757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AC9A1-C44B-4754-A77B-7BF0A733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6B050-1B97-49EB-8FBC-6DFB0997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4ED40-59B9-43A4-95A8-CBE6AFD8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BB28E-45EF-4CA3-93F7-492F753C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597FE-91C5-47F9-9110-7A239814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61CDD-24E4-4809-B24C-2E1E8B97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C3DF2-EA55-4D66-B862-ADE09825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E82E0-354E-4779-AD4D-BD1962B5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820B0-F3F2-4103-B2B1-37A52698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F2AF8-D136-4937-BA5D-5100DAA8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DBF0-E5A2-46FD-806D-37FC913B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30CBA-EF38-43C5-BB2D-EE53E492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FD442-967C-455D-BE11-138A204C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65D33-979E-45CD-BD03-5E903512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6708D-C39F-4BB3-95A8-0B181FDB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DD54B-5BEC-4DDA-8149-B21F2404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E9947-944F-4F98-B8E5-E7873F3B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73812-907E-4648-9613-E715E1D4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647F9-E460-4EBB-B7D6-EAC8161C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433C8-A7E9-494D-B403-2953DD05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EB933-291A-4101-B795-72F281B4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AB12-D907-4E80-86AF-CD94F38B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25FB3-3D8E-4D65-A9D2-ACB8B314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4E3C3-F913-46AE-9EFE-C51860C0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9A59B-3859-4715-8F28-A2F3B346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6ED9B-635E-44CA-A487-E726E6EC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56B03-47A7-4B69-8CD5-918370C7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1E7541-857F-4DF5-A622-FB0639F3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0B3AEA-E658-4B3E-B7C7-23F503E5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E5A895-17F1-44F7-9356-5DC77DBD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4F66AE-9D7F-4F58-B641-28439175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2FE519-A948-4586-AC59-21501E6D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3D2F-7A95-46BB-9007-90E68E81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35A0E2-F261-4B21-883E-10761021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D54F4E-A0B9-4CE6-88D6-9E9D9B5C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435BC3-DFA3-4273-AF91-9CE99022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4BD529-A35A-49E4-A057-69F95C1A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6CA945-8011-4E16-9980-A703F4F9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AA1EFE-1E74-430D-9242-94B01819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5F1F05-4C9A-4C8D-9E79-B5E325EE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CE016F-7523-4A8D-B630-7A02FC86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CFDBBB-DC69-4693-B353-6F3AFE79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1AB21B-2747-4808-9DCA-29944721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837E-8A97-4590-B7E1-F525EB08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E69DD1-E106-4747-8D27-CCB61056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F9B8A1-D73E-42CD-892C-F834713B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51646F-4442-469E-9DCE-81A8225F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004290-9E91-43E4-977E-BC990F73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C3BE55-B5C5-4F21-A196-53C5625D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143ADE-CC1F-449F-AE00-13C2787B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BBCDA8-5DF6-40D8-95C7-789AF956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F5C2A4-9DAC-464E-A585-45518CF0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50B56E-8894-4E28-8E40-0584C38F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ECC5FA-A7B4-4A44-8421-1B952FF3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2492-4BFA-4D6C-A9A7-3C78E527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4EDBCE-4A9D-4466-A819-A5913DDC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A9F6FC-C712-4169-8507-7837D877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ED099D-FEC6-415E-B74A-569E9E85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B78EB9-A877-44F8-99F3-3F0CAE62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3440AB-5D0C-4399-9BCC-A7947686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4CDC53-D05F-4762-8A51-B1DE252D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FB9898-CB9D-417F-AA69-D57E6ECF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ECE56B-E604-483B-961F-D7FA6C69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857C4B-FC07-4CB8-B083-84AAAC5D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343258-CA3E-4333-8A97-34F7C8CA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EC18-E569-4A61-A04C-26C0C829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FD1E1A-AC13-4A28-89AB-DD6E70A7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F999-CA86-4597-BB29-49F0F5B8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A43D7-459C-4DD1-B223-60E8F86B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B9C0-896A-4E4F-AFDB-6EBEA240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90B7-3A75-4D5A-821C-289FF9D7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8505-B297-4CB8-8A48-9E1EB7C6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2647-CF69-41BC-8FA1-3B06BBA8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DD1B-A942-4B0A-B352-73EE7DB6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369D6-450A-4157-8023-984F8B9F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93706-70DB-44D5-93DF-3D2ED745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5CEB6-B931-4CC1-9269-0C05B374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4257F-7C6C-4A6B-8623-CD182613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70424-4E68-4474-8E91-62CD613F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D4FE1-EB0C-4D60-A9DD-484FA4F0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5724E-6547-4FC6-9512-233BD74B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C0F9C-5A98-4409-80AB-5A14A118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CE562-EB41-4250-9385-10977DF0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CD835-3DA8-432C-BF83-EB1341CB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6433D-B56C-4C10-B0AF-4C1BB1F6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C007C-EFD2-4E57-AD91-1D9A35B3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0639B-9ADB-4F6B-9B24-AC3F987F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B5EA62-78C7-4D00-AB9D-28CEF7A9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304B91-FC45-421B-A9E7-1F625B49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2975DF-CA78-4B77-8415-434219A2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89F07-F9BB-4301-A526-E0027165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04666A-9A1D-4D15-895C-8988AD72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543D1C-A7CF-4687-911D-3A944594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D0E62C-BCC9-4919-8FCE-6BA38D70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C70568-4F09-452E-9FBD-2B6E8226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B0796C-9EF6-4DBA-A1D8-ACBFEB3D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A7FADE-20DF-44CD-AD33-942C7AED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909F0E-C8D0-4B3C-A61C-C2416113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D38014-DA0F-47AB-9511-7812886A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34EE6E-D121-44F6-B2D2-B934A858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62EB9-E194-4EF9-99C5-C3439496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F7384-B6C8-4C2C-96BF-F7454DCA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119CB-0E8F-4366-8622-E1B57AD1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0F425-00FB-434F-AFB2-89235DF0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4DBA5-0D0A-471A-9AFE-C43519B1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CBD36-2A1A-4F92-93BF-8B73E16B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C615D-1D82-4FF6-B785-9C9ED06B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4FF15-0518-4B19-8B94-C659AFBF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5085A-1563-432F-9024-F4FB8389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EAECE-F6F7-4ED3-AE81-628F4ABB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B264D-2366-4458-820B-F9A5A7DE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2EB6C-1FFF-4753-AFCD-3B597756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D5942-0C7D-4693-8820-A5B89745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F5242-1554-485C-831C-E55A9A00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48981-FE3B-4071-A01C-D1B3092D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40D96-4093-4974-8EA5-9CD8C770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6F69C-E821-461B-B3BF-880D2315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3EE72-6D67-4387-AF8B-6A61C27B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ECE8B-FEEB-4EE7-A53D-BC3DA499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56762-14A9-487E-83ED-7EBED692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29D91-782F-4B77-A3D3-A3C81386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67DA0-ACDB-4604-AA56-F9FFFD6B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2135E-CFC3-4FBB-8AE0-BB5F64E2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3E855-BD55-46CD-9F84-FCDDC4C1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BD6B1-3A26-421F-90FA-49682051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89E3A-7392-4ADA-98C8-910C9815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093E7-5029-47B0-81A7-FEE8FF9E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D0F47-7CEA-4880-9B0C-9B666419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9F4DE-15E5-4EC4-9B4B-6F0D31DD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79C42-44EA-458E-B29F-DF32E40A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11F5A-3874-4D69-9958-E0CECA06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41844-AA39-4693-989D-DBF536D7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5F45C-913F-4334-8EB4-F98DFBBE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51E74-04BE-40BF-97BE-D69FBB36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6D2AF-F6A0-4030-9F3A-314D7A78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5ADC3-BDC4-4739-B604-FC7C1416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C24AE-3B3F-4016-8AC3-EF8758C7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67735-1FC5-411E-82F9-36B50C10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D70B6-63B4-4F68-83B9-09D1AF81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CC42D-707A-4758-8935-A9D2A118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3D969-E625-40EC-B57E-40C4FA28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7E3FB-2122-4185-8570-C5DDC868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CD3A6-84AF-4065-86F6-4E7DE267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B3A1A-1A06-4AEE-B0BE-F46325CE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6B99C-3AC4-4CED-81FC-C54E522D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FCB89-A9F1-4FA9-8310-81E2B909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3735B-3B0B-49CD-812F-32ACDB2E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26A9B-58CB-47D6-9A7B-B3274B92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C138D-C76A-43D8-9D6D-0C9C4A51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A468A-47F1-4836-B977-24839A0A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74C37-25CD-48CA-83BC-5260E885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6179F-B9EB-4DFB-BB3B-D6BAD2F8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12D6F-BA72-4146-A5AB-D7B543E0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9DC09-D6A7-4E26-ACAF-133DF362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13402-462F-4938-A3CC-A84D6479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93462-7F92-4DA7-8E0A-43E15638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56"/>
                </a:gs>
                <a:gs pos="5000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2"/>
                </a:gs>
                <a:gs pos="50000">
                  <a:srgbClr val="000066"/>
                </a:gs>
                <a:gs pos="100000">
                  <a:srgbClr val="00006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2"/>
                </a:gs>
                <a:gs pos="50000">
                  <a:srgbClr val="000066"/>
                </a:gs>
                <a:gs pos="100000">
                  <a:srgbClr val="00006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7073f"/>
                </a:gs>
                <a:gs pos="50000">
                  <a:srgbClr val="00003a"/>
                </a:gs>
                <a:gs pos="100000">
                  <a:srgbClr val="0707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33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0430A7-7F3D-458F-BC9D-99D4C4DCE2E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9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ef00ef"/>
                </a:gs>
                <a:gs pos="100000">
                  <a:srgbClr val="ff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474a2"/>
                </a:gs>
                <a:gs pos="100000">
                  <a:srgbClr val="ff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8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9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361E952-CB67-481C-9149-8CEB5E1C431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03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700d7"/>
                </a:gs>
                <a:gs pos="100000">
                  <a:srgbClr val="ff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7474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dt" idx="3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ftr" idx="3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AC89C8A-4476-401D-9758-E211837B0BF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title"/>
          </p:nvPr>
        </p:nvSpPr>
        <p:spPr>
          <a:xfrm>
            <a:off x="685800" y="139968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cc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4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99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600880" y="5897520"/>
              <a:ext cx="1257120" cy="827280"/>
              <a:chOff x="5600880" y="5897520"/>
              <a:chExt cx="1257120" cy="827280"/>
            </a:xfrm>
          </p:grpSpPr>
          <p:sp>
            <p:nvSpPr>
              <p:cNvPr id="549" name=""/>
              <p:cNvSpPr/>
              <p:nvPr/>
            </p:nvSpPr>
            <p:spPr>
              <a:xfrm>
                <a:off x="58532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1660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00552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068880" y="6184800"/>
                <a:ext cx="41616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12288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67684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86728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66748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410160" y="5907240"/>
                <a:ext cx="15264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208560" y="6267600"/>
                <a:ext cx="13356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8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9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grpSp>
            <p:nvGrpSpPr>
              <p:cNvPr id="60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33cc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33cc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ff33cc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33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3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3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214AFAB-5BC5-4A69-8A7F-0537F07D8E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5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99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5600880" y="5897520"/>
              <a:ext cx="1257120" cy="827280"/>
              <a:chOff x="5600880" y="5897520"/>
              <a:chExt cx="1257120" cy="827280"/>
            </a:xfrm>
          </p:grpSpPr>
          <p:sp>
            <p:nvSpPr>
              <p:cNvPr id="654" name=""/>
              <p:cNvSpPr/>
              <p:nvPr/>
            </p:nvSpPr>
            <p:spPr>
              <a:xfrm>
                <a:off x="58532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91660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00552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068880" y="6184800"/>
                <a:ext cx="41616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12288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67684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86728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66748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410160" y="5907240"/>
                <a:ext cx="15264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208560" y="6267600"/>
                <a:ext cx="13356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6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8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0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grpSp>
            <p:nvGrpSpPr>
              <p:cNvPr id="71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33cc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33cc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ff33cc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33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dt" idx="3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ftr" idx="3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5465B93-1B00-4463-BA93-77143AC236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"/>
          <p:cNvGrpSpPr/>
          <p:nvPr/>
        </p:nvGrpSpPr>
        <p:grpSpPr>
          <a:xfrm>
            <a:off x="-85320" y="-92880"/>
            <a:ext cx="2772720" cy="6949440"/>
            <a:chOff x="-85320" y="-92880"/>
            <a:chExt cx="2772720" cy="6949440"/>
          </a:xfrm>
        </p:grpSpPr>
        <p:sp>
          <p:nvSpPr>
            <p:cNvPr id="756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69480" y="3922560"/>
              <a:ext cx="889560" cy="718560"/>
              <a:chOff x="69480" y="3922560"/>
              <a:chExt cx="889560" cy="718560"/>
            </a:xfrm>
          </p:grpSpPr>
          <p:sp>
            <p:nvSpPr>
              <p:cNvPr id="758" name=""/>
              <p:cNvSpPr/>
              <p:nvPr/>
            </p:nvSpPr>
            <p:spPr>
              <a:xfrm flipH="1" rot="14940000">
                <a:off x="119160" y="3943800"/>
                <a:ext cx="226800" cy="263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 rot="14940000">
                <a:off x="276480" y="4310640"/>
                <a:ext cx="388800" cy="219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 rot="14940000">
                <a:off x="630720" y="415584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-1440" y="2602080"/>
              <a:ext cx="2688840" cy="3119400"/>
              <a:chOff x="-1440" y="2602080"/>
              <a:chExt cx="2688840" cy="3119400"/>
            </a:xfrm>
          </p:grpSpPr>
          <p:sp>
            <p:nvSpPr>
              <p:cNvPr id="763" name=""/>
              <p:cNvSpPr/>
              <p:nvPr/>
            </p:nvSpPr>
            <p:spPr>
              <a:xfrm flipH="1" rot="780000">
                <a:off x="385200" y="2698560"/>
                <a:ext cx="974520" cy="1004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 rot="780000">
                <a:off x="102600" y="2842920"/>
                <a:ext cx="815760" cy="102240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 rot="780000">
                <a:off x="357120" y="3053880"/>
                <a:ext cx="289080" cy="51804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 rot="780000">
                <a:off x="882720" y="379368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 rot="780000">
                <a:off x="805680" y="3854160"/>
                <a:ext cx="6516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grpSp>
            <p:nvGrpSpPr>
              <p:cNvPr id="768" name=""/>
              <p:cNvGrpSpPr/>
              <p:nvPr/>
            </p:nvGrpSpPr>
            <p:grpSpPr>
              <a:xfrm>
                <a:off x="853200" y="4052160"/>
                <a:ext cx="1834200" cy="1669320"/>
                <a:chOff x="853200" y="4052160"/>
                <a:chExt cx="1834200" cy="1669320"/>
              </a:xfrm>
            </p:grpSpPr>
            <p:sp>
              <p:nvSpPr>
                <p:cNvPr id="769" name=""/>
                <p:cNvSpPr/>
                <p:nvPr/>
              </p:nvSpPr>
              <p:spPr>
                <a:xfrm flipH="1" rot="7140000">
                  <a:off x="1262160" y="3946320"/>
                  <a:ext cx="473400" cy="121464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33cc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flipH="1" rot="7140000">
                  <a:off x="2325600" y="4975560"/>
                  <a:ext cx="109800" cy="4982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33cc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flipH="1" rot="7140000">
                  <a:off x="2503080" y="5571720"/>
                  <a:ext cx="19872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ff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2" name=""/>
            <p:cNvGrpSpPr/>
            <p:nvPr/>
          </p:nvGrpSpPr>
          <p:grpSpPr>
            <a:xfrm>
              <a:off x="469800" y="6174720"/>
              <a:ext cx="791280" cy="632160"/>
              <a:chOff x="469800" y="6174720"/>
              <a:chExt cx="791280" cy="632160"/>
            </a:xfrm>
          </p:grpSpPr>
          <p:sp>
            <p:nvSpPr>
              <p:cNvPr id="773" name=""/>
              <p:cNvSpPr/>
              <p:nvPr/>
            </p:nvSpPr>
            <p:spPr>
              <a:xfrm rot="6240000">
                <a:off x="1016280" y="6174720"/>
                <a:ext cx="19692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6240000">
                <a:off x="762840" y="651312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6240000">
                <a:off x="387360" y="6410880"/>
                <a:ext cx="352440" cy="106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319320" y="1776600"/>
              <a:ext cx="784080" cy="693360"/>
              <a:chOff x="319320" y="1776600"/>
              <a:chExt cx="784080" cy="693360"/>
            </a:xfrm>
          </p:grpSpPr>
          <p:sp>
            <p:nvSpPr>
              <p:cNvPr id="777" name=""/>
              <p:cNvSpPr/>
              <p:nvPr/>
            </p:nvSpPr>
            <p:spPr>
              <a:xfrm rot="4980000">
                <a:off x="839520" y="1747800"/>
                <a:ext cx="206280" cy="298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4980000">
                <a:off x="694080" y="2154960"/>
                <a:ext cx="354240" cy="247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4980000">
                <a:off x="218880" y="2205000"/>
                <a:ext cx="369720" cy="125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1293840" y="0"/>
              <a:ext cx="547560" cy="581040"/>
              <a:chOff x="1293840" y="0"/>
              <a:chExt cx="547560" cy="581040"/>
            </a:xfrm>
          </p:grpSpPr>
          <p:sp>
            <p:nvSpPr>
              <p:cNvPr id="781" name=""/>
              <p:cNvSpPr/>
              <p:nvPr/>
            </p:nvSpPr>
            <p:spPr>
              <a:xfrm>
                <a:off x="1293840" y="0"/>
                <a:ext cx="173160" cy="219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544760" y="103320"/>
                <a:ext cx="296640" cy="180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484280" y="488880"/>
                <a:ext cx="30960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sp>
          <p:nvSpPr>
            <p:cNvPr id="784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840000">
              <a:off x="385920" y="540396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840000">
              <a:off x="423360" y="570240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1560000">
              <a:off x="31320" y="64908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560000">
              <a:off x="383760" y="119808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1560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560000">
              <a:off x="376200" y="1143000"/>
              <a:ext cx="9864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60000">
              <a:off x="930240" y="738000"/>
              <a:ext cx="114480" cy="6480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1560000">
              <a:off x="88560" y="1314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</p:grp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40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4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A11F980-FC62-488B-9EBB-6FD232CABCB8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9" name=""/>
          <p:cNvGrpSpPr/>
          <p:nvPr/>
        </p:nvGrpSpPr>
        <p:grpSpPr>
          <a:xfrm>
            <a:off x="-19800" y="0"/>
            <a:ext cx="9060480" cy="6858000"/>
            <a:chOff x="-19800" y="0"/>
            <a:chExt cx="9060480" cy="6858000"/>
          </a:xfrm>
        </p:grpSpPr>
        <p:grpSp>
          <p:nvGrpSpPr>
            <p:cNvPr id="840" name=""/>
            <p:cNvGrpSpPr/>
            <p:nvPr/>
          </p:nvGrpSpPr>
          <p:grpSpPr>
            <a:xfrm>
              <a:off x="5394240" y="59760"/>
              <a:ext cx="3646440" cy="6134040"/>
              <a:chOff x="5394240" y="59760"/>
              <a:chExt cx="3646440" cy="6134040"/>
            </a:xfrm>
          </p:grpSpPr>
          <p:sp>
            <p:nvSpPr>
              <p:cNvPr id="841" name=""/>
              <p:cNvSpPr/>
              <p:nvPr/>
            </p:nvSpPr>
            <p:spPr>
              <a:xfrm flipV="1" rot="12000000">
                <a:off x="6585120" y="34992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 rot="12000000">
                <a:off x="7424280" y="196272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 rot="12000000">
                <a:off x="6828840" y="259560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 rot="12000000">
                <a:off x="7254000" y="67644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V="1" rot="12000000">
                <a:off x="7156800" y="2646360"/>
                <a:ext cx="16416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 rot="12000000">
                <a:off x="7142040" y="1240560"/>
                <a:ext cx="19080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V="1" rot="12000000">
                <a:off x="5937840" y="2933640"/>
                <a:ext cx="523800" cy="326916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sp>
          <p:nvSpPr>
            <p:cNvPr id="848" name=""/>
            <p:cNvSpPr/>
            <p:nvPr/>
          </p:nvSpPr>
          <p:spPr>
            <a:xfrm flipH="1" rot="360000">
              <a:off x="32400" y="3107880"/>
              <a:ext cx="51264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rot="360000">
              <a:off x="1425240" y="453348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rot="360000">
              <a:off x="1266480" y="473040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4144680" y="1039680"/>
              <a:ext cx="1012320" cy="1262160"/>
              <a:chOff x="4144680" y="1039680"/>
              <a:chExt cx="1012320" cy="1262160"/>
            </a:xfrm>
          </p:grpSpPr>
          <p:sp>
            <p:nvSpPr>
              <p:cNvPr id="855" name=""/>
              <p:cNvSpPr/>
              <p:nvPr/>
            </p:nvSpPr>
            <p:spPr>
              <a:xfrm rot="3240000">
                <a:off x="4557960" y="107676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3240000">
                <a:off x="4641480" y="160956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3240000">
                <a:off x="4104000" y="196776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5645520" y="299160"/>
              <a:ext cx="888840" cy="835200"/>
              <a:chOff x="5645520" y="299160"/>
              <a:chExt cx="888840" cy="835200"/>
            </a:xfrm>
          </p:grpSpPr>
          <p:sp>
            <p:nvSpPr>
              <p:cNvPr id="859" name=""/>
              <p:cNvSpPr/>
              <p:nvPr/>
            </p:nvSpPr>
            <p:spPr>
              <a:xfrm rot="14880000">
                <a:off x="5757480" y="802800"/>
                <a:ext cx="177840" cy="362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4880000">
                <a:off x="5706720" y="483480"/>
                <a:ext cx="306360" cy="29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4880000">
                <a:off x="6243480" y="399960"/>
                <a:ext cx="320400" cy="152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957600" y="5280480"/>
              <a:ext cx="1059840" cy="836280"/>
              <a:chOff x="957600" y="5280480"/>
              <a:chExt cx="1059840" cy="836280"/>
            </a:xfrm>
          </p:grpSpPr>
          <p:sp>
            <p:nvSpPr>
              <p:cNvPr id="863" name=""/>
              <p:cNvSpPr/>
              <p:nvPr/>
            </p:nvSpPr>
            <p:spPr>
              <a:xfrm rot="8520000">
                <a:off x="1699920" y="5551200"/>
                <a:ext cx="252360" cy="298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8520000">
                <a:off x="1183680" y="5762520"/>
                <a:ext cx="430200" cy="247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8520000">
                <a:off x="948960" y="5405040"/>
                <a:ext cx="44928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363240" y="434880"/>
              <a:ext cx="1685880" cy="1146960"/>
              <a:chOff x="363240" y="434880"/>
              <a:chExt cx="1685880" cy="1146960"/>
            </a:xfrm>
          </p:grpSpPr>
          <p:sp>
            <p:nvSpPr>
              <p:cNvPr id="867" name=""/>
              <p:cNvSpPr/>
              <p:nvPr/>
            </p:nvSpPr>
            <p:spPr>
              <a:xfrm flipH="1" rot="4140000">
                <a:off x="1559520" y="1055520"/>
                <a:ext cx="355680" cy="5302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 rot="4140000">
                <a:off x="1005840" y="577440"/>
                <a:ext cx="60984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 rot="4140000">
                <a:off x="263880" y="1094040"/>
                <a:ext cx="636840" cy="225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7396560" y="3696840"/>
              <a:ext cx="1157040" cy="1608120"/>
              <a:chOff x="7396560" y="3696840"/>
              <a:chExt cx="1157040" cy="1608120"/>
            </a:xfrm>
          </p:grpSpPr>
          <p:sp>
            <p:nvSpPr>
              <p:cNvPr id="871" name=""/>
              <p:cNvSpPr/>
              <p:nvPr/>
            </p:nvSpPr>
            <p:spPr>
              <a:xfrm flipH="1" rot="10020000">
                <a:off x="7451640" y="4741200"/>
                <a:ext cx="355680" cy="5302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 rot="10020000">
                <a:off x="7902000" y="4442040"/>
                <a:ext cx="609480" cy="441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 rot="10020000">
                <a:off x="7598880" y="3765600"/>
                <a:ext cx="636840" cy="225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 rot="9840000">
              <a:off x="3427200" y="164160"/>
              <a:ext cx="1081080" cy="94104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 rot="9840000">
              <a:off x="3171600" y="1361520"/>
              <a:ext cx="523800" cy="44136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 rot="9840000">
              <a:off x="3531960" y="1284480"/>
              <a:ext cx="19512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 rot="9840000">
              <a:off x="345276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</p:grpSp>
      <p:sp>
        <p:nvSpPr>
          <p:cNvPr id="881" name="PlaceHolder 1"/>
          <p:cNvSpPr>
            <a:spLocks noGrp="1"/>
          </p:cNvSpPr>
          <p:nvPr>
            <p:ph type="dt" idx="43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ftr" idx="4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C906BF6-D705-438E-AB36-9DA25DDC3832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128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56"/>
                </a:gs>
                <a:gs pos="5000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2"/>
                </a:gs>
                <a:gs pos="50000">
                  <a:srgbClr val="000066"/>
                </a:gs>
                <a:gs pos="100000">
                  <a:srgbClr val="00006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2"/>
                </a:gs>
                <a:gs pos="50000">
                  <a:srgbClr val="000066"/>
                </a:gs>
                <a:gs pos="100000">
                  <a:srgbClr val="00006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7073f"/>
                </a:gs>
                <a:gs pos="50000">
                  <a:srgbClr val="00003a"/>
                </a:gs>
                <a:gs pos="100000">
                  <a:srgbClr val="0707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08040"/>
            <a:ext cx="77709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33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001C694-768D-4408-BB26-BCC931A3417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6876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2271403-750F-41E2-91B5-AD141AD85D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323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10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84F553E-368F-4BF4-B2FC-3EC63AE26B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2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09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11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80880" y="1494000"/>
                <a:ext cx="8305920" cy="144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796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352320" y="624816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DC0FF8D-1745-4DC8-89C9-B397B112AAB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56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58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4876920"/>
                <a:ext cx="990720" cy="144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62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35040" y="685800"/>
                <a:ext cx="8077320" cy="144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796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7"/>
          </p:nvPr>
        </p:nvSpPr>
        <p:spPr>
          <a:xfrm>
            <a:off x="33541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075ED05-A800-4687-A458-993F562D354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5cfe"/>
            </a:gs>
            <a:gs pos="100000">
              <a:srgbClr val="99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0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9900ff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dt" idx="19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ftr" idx="20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6DEFC0B-51FC-43C2-BD8D-C61F05B35F6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5cfe"/>
            </a:gs>
            <a:gs pos="100000">
              <a:srgbClr val="99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6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9900ff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Arial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09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dt" idx="22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ftr" idx="23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D93C183-FFE5-43BE-A5E7-906CF6BF3FC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5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6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80E5D29-AD3E-46F3-8971-053B661544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33cc"/>
                </a:solidFill>
                <a:latin typeface="Arial"/>
              </a:rPr>
              <a:t>Развитие</a:t>
            </a:r>
            <a:endParaRPr b="0" lang="en-US" sz="8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33cc"/>
                </a:solidFill>
                <a:latin typeface="Arial"/>
              </a:rPr>
              <a:t>-это изменение</a:t>
            </a:r>
            <a:endParaRPr b="0" lang="en-US" sz="48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914400" y="208080"/>
            <a:ext cx="7772400" cy="13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-684360" y="0"/>
            <a:ext cx="11161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5cfe"/>
            </a:gs>
            <a:gs pos="100000">
              <a:srgbClr val="99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6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 пещеру горного короля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 Аравийскую пустыню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 страну гномов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«В пещере горного короля»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324000" y="4508640"/>
            <a:ext cx="8229600" cy="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5920" bIns="25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5651640" y="0"/>
            <a:ext cx="3492360" cy="6858000"/>
          </a:xfrm>
          <a:prstGeom prst="rect">
            <a:avLst/>
          </a:prstGeom>
          <a:ln w="0">
            <a:noFill/>
          </a:ln>
        </p:spPr>
      </p:pic>
      <p:pic>
        <p:nvPicPr>
          <p:cNvPr id="9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24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33cc"/>
                </a:solidFill>
                <a:latin typeface="Arial Black"/>
              </a:rPr>
              <a:t>Динамическое развитие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33cc"/>
                </a:solidFill>
                <a:latin typeface="Arial Black"/>
              </a:rPr>
              <a:t>Темповое развитие</a:t>
            </a:r>
            <a:endParaRPr b="0" lang="en-US" sz="60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 -6 3.33333 -6  C 0.06892 3.33333 -6  0.125 0.02847  0.125 0.06389  C 0.125 0.09907  0.06892 0.12777  3.61111 -6 0.12777  C -0.0691 0.12777  -0.125 0.09907  -0.125 0.06389  C -0.125 0.02847  -0.0691 3.33333 -6  3.61111 -6 3.33333 -6  Z">
                                      <p:cBhvr>
                                        <p:cTn id="6" dur="2000" fill="hold"/>
                                        <p:tgtEl>
                                          <p:spTgt spid="9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761080" cy="70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ffff"/>
                </a:solidFill>
                <a:latin typeface="Arial Black"/>
              </a:rPr>
              <a:t>Динамическое</a:t>
            </a:r>
            <a:r>
              <a:rPr b="0" lang="ru-RU" sz="4400" spc="-1" strike="noStrike">
                <a:solidFill>
                  <a:srgbClr val="00ffff"/>
                </a:solidFill>
                <a:latin typeface="Arial Black"/>
              </a:rPr>
              <a:t> </a:t>
            </a:r>
            <a:r>
              <a:rPr b="0" lang="ru-RU" sz="5400" spc="-1" strike="noStrike">
                <a:solidFill>
                  <a:srgbClr val="00ffff"/>
                </a:solidFill>
                <a:latin typeface="Arial Black"/>
              </a:rPr>
              <a:t>развитие-</a:t>
            </a:r>
            <a:r>
              <a:rPr b="0" lang="ru-RU" sz="4400" spc="-1" strike="noStrike">
                <a:solidFill>
                  <a:srgbClr val="00ffff"/>
                </a:solidFill>
                <a:latin typeface="Arial Black"/>
              </a:rPr>
              <a:t> когда изменяется динамика.</a:t>
            </a:r>
            <a:br>
              <a:rPr sz="4400"/>
            </a:br>
            <a:br>
              <a:rPr sz="4400"/>
            </a:br>
            <a:r>
              <a:rPr b="0" lang="ru-RU" sz="5400" spc="-1" strike="noStrike">
                <a:solidFill>
                  <a:srgbClr val="00ffff"/>
                </a:solidFill>
                <a:latin typeface="Arial Black"/>
              </a:rPr>
              <a:t>Темповое развитие-</a:t>
            </a:r>
            <a:r>
              <a:rPr b="0" lang="ru-RU" sz="4400" spc="-1" strike="noStrike">
                <a:solidFill>
                  <a:srgbClr val="00ffff"/>
                </a:solidFill>
                <a:latin typeface="Arial Black"/>
              </a:rPr>
              <a:t> когда изменяется темп.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50920" y="6525720"/>
            <a:ext cx="82296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8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-179280" y="385920"/>
            <a:ext cx="9144000" cy="77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1. У моей России длинные косички,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У моей России светлые реснички</a:t>
            </a: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У моей России голубые очи,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На меня Россия ты похожа очень.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Припев:Солнце светит, ветры дуют,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Ливни льются над Россией.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 небе радуга цветная -нет земли красивей!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2. Для меня Россия — белые берёзы,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Для меня Россия — утренние росы.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Для меня Россия ты всего дороже.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До чего на маму ты мою похожа.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3. Ты моя Россия всех теплом согреешь, 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Ты моя Россия песни петь умеешь. 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Ты моя Россия не разлучна с нами.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едь Россия наша — это мы с друзьями.</a:t>
            </a:r>
            <a:br>
              <a:rPr sz="2800"/>
            </a:br>
            <a:br>
              <a:rPr sz="2800"/>
            </a:b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95280" y="6788160"/>
            <a:ext cx="822960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713800" cy="627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43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33cc"/>
                </a:solidFill>
                <a:latin typeface="Arial"/>
              </a:rPr>
              <a:t>Динамическое</a:t>
            </a:r>
            <a:br>
              <a:rPr sz="8800"/>
            </a:br>
            <a:r>
              <a:rPr b="0" lang="ru-RU" sz="8800" spc="-1" strike="noStrike">
                <a:solidFill>
                  <a:srgbClr val="ff33cc"/>
                </a:solidFill>
                <a:latin typeface="Arial"/>
              </a:rPr>
              <a:t>развитие</a:t>
            </a:r>
            <a:endParaRPr b="0" lang="en-US" sz="88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7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8800" spc="-1" strike="noStrike">
                <a:solidFill>
                  <a:srgbClr val="ffff00"/>
                </a:solidFill>
                <a:latin typeface="Arial"/>
              </a:rPr>
              <a:t>Темповое</a:t>
            </a:r>
            <a:br>
              <a:rPr sz="8800"/>
            </a:br>
            <a:r>
              <a:rPr b="0" lang="ru-RU" sz="8800" spc="-1" strike="noStrike">
                <a:solidFill>
                  <a:srgbClr val="ffff00"/>
                </a:solidFill>
                <a:latin typeface="Arial"/>
              </a:rPr>
              <a:t>     развитие</a:t>
            </a:r>
            <a:endParaRPr b="0" lang="en-US" sz="8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26920" y="544500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Times New Roman"/>
              </a:rPr>
              <a:t>Эдвард Григ (1843-1907)</a:t>
            </a:r>
            <a:endParaRPr b="0" lang="en-US" sz="4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914400" y="6600960"/>
            <a:ext cx="77724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392720" cy="4753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914400" y="208080"/>
            <a:ext cx="7772400" cy="13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08:12:42Z</dcterms:created>
  <dc:creator/>
  <dc:description/>
  <dc:language>en-US</dc:language>
  <cp:lastModifiedBy>user</cp:lastModifiedBy>
  <dcterms:modified xsi:type="dcterms:W3CDTF">2007-02-15T12:40:46Z</dcterms:modified>
  <cp:revision>11</cp:revision>
  <dc:subject/>
  <dc:title>Развитие</dc:title>
</cp:coreProperties>
</file>