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80D6-9E3D-4AFD-9406-8328D59B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11C2-EA94-4610-A059-5D7DD71D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8F052-FAED-4D12-8C9D-4160E7F3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E4169-234F-4B70-AF02-BC48BBD5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2E688-EF1F-4026-9066-743E602D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BD94E-76C8-45C2-BB39-CBAEE825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3BBCE-9E65-4B35-8419-B056C32D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7B614-3424-4133-AE48-07E39967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D44B3-C67B-48CB-8639-B267D18B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47A37-B73D-40D8-A07C-F2232F6F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5836C-0A03-4BA8-B702-5D704112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C7F0E-F8C9-492C-AE1A-E646E1D4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9407-64F3-453F-9AF0-723AF574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AB1C8-C950-4543-A1B3-2E3F85C3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F6FAF-941B-4322-A4EC-0E29545D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4E646-AE5F-4811-882B-6D875256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47367-B739-45AE-8493-1FD098C7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7A23B-13B6-41D6-A482-6562F970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654DB-4C99-46B8-8B23-446B0FD8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F7A61-120E-48D6-8421-D397CCC7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35E39-0D6B-47C2-ADF0-1879DE54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BEE2C-EE25-4D56-A0A1-1722BADB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99DE7-6F4E-4C01-8310-0CBDD830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F097-8E2F-461E-8BA9-93ED0AB7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4F4A1-1348-4D31-9380-2FD97C42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871E8-9997-4DC4-9405-75A65B98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A2E98-4A36-4883-B185-59AB1B14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A6538-3433-42C3-A016-287F7C6A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26BA9-F5B8-4E74-B31C-C0DB5797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9E7FC-96D6-4C59-9D8D-3EDB2ACA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50F1A-AAFC-4B1D-823A-97CBF4E3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B9700-3D14-4CD6-8D16-6C6D2F56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C9D9E-43E6-47FF-A058-D86D474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05F76-BBFA-4DC4-BA51-0E13B6B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28E6-C7E0-49C3-A895-CF3181A1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323E8-CAAE-4787-9A67-857AB278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160FD-65B3-4B14-81A1-C3724743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BFE5B-7E5D-4F35-AF8B-F341C406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55E8E-50E1-4908-9CA5-F311CA18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FEBFF-8A3C-497C-AF98-46253F7B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8860A-8E2A-439B-8211-03C9A379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6FAAF-93A0-4C07-81A4-15D78BD3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915EE-69A7-4790-AD57-8E5DB2A5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651E3-F207-431B-93B7-913C09BB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7A584-C5A9-463C-A4B8-23EF04F2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A400-8121-437F-AE37-94B73B2E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0B4E0-1314-4780-AF82-5F210F5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906CA-9263-4C7A-A01B-6D12DBB7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2F6E8-8217-4535-868D-E5D9C0FE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FAE99-77DB-4551-B00A-0F9AF1DC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1EEDF-2F8B-4266-B13E-D441E74E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0E0C9-4A6A-46EF-BCBF-99F5ABF7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3EE0D-B33E-4797-9C3A-3FF9354B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D62C3-6269-42F7-A1B2-BD1A8753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F51D8-A102-4DB5-B9BF-0D57693F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DC7AF-8E69-443B-B7C4-D3C28FA0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AC6A-7CDE-4FEC-9DFE-A93E3D0E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94934-951F-47F8-9D42-C3CEB768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570A3-D05B-4938-A4DC-7141A403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E1C14-6601-4D33-8BA1-DDE26BD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ADC56-670B-4C72-A153-808BB34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1028C-2F1C-41AF-BD22-818335FB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80DDA-B5C5-49E8-9392-9BB07586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08860-D864-42D9-8D37-3C229D22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78DB3-7923-45DE-AF89-6EC04F1F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79CB4-78D4-4174-B4DA-9AA7DF4A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125CA-3634-4FD5-81DC-FE926A31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EC7E-902D-497E-858D-9844FC23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BE486-8CB7-4446-ACD0-D8F5B418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1B285-0662-44F3-83FA-B4C9A33F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3AEF2-8B03-4C5F-B1EA-C66395F6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E004D-F181-483F-A26A-839FB6C3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14F8A-D1C1-4B78-9345-D6C80E57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F9C0B-FC3D-4E13-A427-75A6789D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A22BE-BEE0-4330-B3DA-1A8CD0E3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3C153-AF46-4CA7-AC31-ADD9BE0A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26A4A-B203-48C5-BCDD-2C0CEE34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71108-9AED-49BE-B1E8-A7692237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F9B8-E7EE-44EF-AFE4-86D22198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36049-DCEE-4483-A1ED-5AE5D371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E9744-1DF4-40EA-BD25-85C3D2BC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5AE19-0047-4476-8E35-44E9364C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9964F-40D6-4DEA-A748-CA785E1F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D3829-CF39-4F7B-B764-8D52D073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1393D-2DDE-437F-8D1F-9CDCBA06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829BE-7899-4EF0-9F84-51E494BC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2A548-421D-4C10-90E5-F90333D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D844F-2851-4F1B-9561-903651E5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07353-A281-4BEB-A3E6-14B0AA74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F855-4804-4E42-B861-C9939097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268D2-D3D3-4EBB-B27D-3848AF4A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AD7-B088-403B-9752-F2B3860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C4BC-7842-4A9B-B9D0-4E7AA5FA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910C-E342-4245-B075-CDEA9AF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34F9-157F-44F6-8B34-3463ECF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96AB-B1C4-4B51-AC97-6518EB4F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F460-9954-48B1-9C4F-DC90FA5A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A701-86D7-4FDF-A827-F93B0212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427A-DA9D-4CD9-B0CF-D221BD5D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3216-0E8C-4A9E-A2A3-1F5A3DC7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CC96-41FF-4D00-8146-8C37C6B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830B-06CD-45F6-BC04-8A94A4D6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3B6C-87B0-4110-95F6-43DFBAC3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A916-E6B9-4611-82E0-A56B9ED9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EA694-DEBB-43DF-903F-1BBBC7BA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87EF-8282-495A-8A99-6EE9B51C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EA94-B426-4824-8680-2549B56B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731B-F232-402C-8082-39D59CC6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DEC8-288D-465E-B76E-1690D8C9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9C90-E933-48B8-8721-E88150B1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9454-C0F2-4190-ABFC-00C24278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E2E56-FF8C-453D-8EDA-A76FE166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86F68-288C-4514-A2E7-8E999CF3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D62F3-33F9-49DD-9DD1-E66B7ED4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76FB-AE44-4E60-908C-F590BF7E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55F35-18BF-45D5-BBC5-C9396CA7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97D60-FD52-4AC1-A91F-F96D2883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ECFCC-8021-4EA2-B0CD-04CF203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6FE2A-B3E4-4374-8AF4-08E27993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2730D-54A8-442B-A2C4-055F180D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6917D-B243-477C-B0D8-9E262BDA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CB391-B472-4023-BF3C-156BAB09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0453A-E8A4-44B4-850B-0D9706F8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99A59-C1A3-4880-93AC-1E3BF58F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DCB24-C05B-4669-BBAB-8B4B579A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1ACA-8DA4-4FAF-9833-AED75004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41A2-75FB-4EF1-A7BE-D1D081E2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5DA02-AFAF-4754-9FB5-1405B2C0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C664-7B7D-4B30-947F-142DBBBE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33AC-F72B-4926-81C8-B82875F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70AF5-AF46-4099-BAAD-C72737BE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588FE-1CC6-4276-A635-69F563E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E0CBF-18CC-4F1F-8E9F-07BB5CB9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1B11D-6046-459B-8C23-33919DAB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45254-E7BD-45B3-82E6-906CA9BD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77031-8CD9-4C9D-9ACB-8A0F6A13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9B99-BBC6-470C-9870-883A8481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A862-8167-40E3-A0BE-584196D3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4D95B-55C7-47F4-B4B8-48CE71C9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DC935-37A6-4586-9AEA-51EC23D6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2771-2A78-4827-BAE3-A388E8AE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467A-DFF6-4D8F-828D-61DF623B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B546C-4472-43EE-83CA-DD2DB502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978E8-FD33-433C-8972-A67D3BE4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2A25F-98DB-40FF-8B02-3774BA2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F2D9A-055E-49B6-A7A1-3D3AB78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1AC0-BC42-4D1C-8F78-EA34DE8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FAAB-6398-4DFC-8586-F851654F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41F9C-8C36-41C3-851D-A41BEC42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0B91C-D926-4DB6-AFFE-1EBD2AE9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52334-E1AA-4A39-A68D-3F9EE1D8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C80DD-461D-4466-AEA7-ABC6C933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26B1E-D4E0-4984-B8D5-C7C910B3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0C31E-51CB-4FD0-946F-44973E97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558E5-69EA-4776-8A51-02B9A792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E82B7-9A4A-480C-A522-20B2DFC9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FDA5B-481D-499D-B795-4FF84A35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51E7F-4078-4A14-ACDC-CABA4703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CE77-9060-4D0E-B76D-C7ABE334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9465B-5C6A-4187-8169-6A16026F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F87B-A490-4140-94AE-CC462539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8E88-AD48-4D5E-BB2F-89C8FE57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58ED3-6F1B-4B3F-A55F-A947FBCC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B86B-5CA4-4B7B-B901-94CEBDDB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F466-1AC0-4B8C-B6CC-B1669DF8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4D8D5-C112-4440-814D-ABBD7661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1CDD4-9481-4FA5-BC47-6706D2E8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F4796-461C-4AF7-A813-4B494A53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0B8C-7CFF-4753-8A5E-810368EC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2E08-430B-47A5-9DEC-A4FD9F2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FEB82-7F99-44A1-9532-7F3BD895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AB8FB-83E5-4E88-8BDF-2413B863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C8423-A936-42B9-9AAF-9DB6F4B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720BD-8438-4E23-91AF-93858DC4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A8D5F-3135-41F6-B79F-6805D880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850FE-268D-4616-A519-5B081353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80247-896D-4054-9139-C4069E4A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DAD28-3D0C-47F4-840E-A4E47702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6C537-34AA-4A57-835A-7EEF448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F35C1-5F17-4BC6-A323-CDA562FB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56"/>
                </a:gs>
                <a:gs pos="5000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2"/>
                </a:gs>
                <a:gs pos="50000">
                  <a:srgbClr val="000066"/>
                </a:gs>
                <a:gs pos="100000">
                  <a:srgbClr val="0000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2"/>
                </a:gs>
                <a:gs pos="50000">
                  <a:srgbClr val="000066"/>
                </a:gs>
                <a:gs pos="100000">
                  <a:srgbClr val="0000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3f"/>
                </a:gs>
                <a:gs pos="50000">
                  <a:srgbClr val="00003a"/>
                </a:gs>
                <a:gs pos="100000">
                  <a:srgbClr val="0707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33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6432B0-688A-41AC-845F-259D7753C17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f00ef"/>
                </a:gs>
                <a:gs pos="100000">
                  <a:srgbClr val="ff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ff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935F86-09D3-4CFA-A6F9-EB76416D9C7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0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700d7"/>
                </a:gs>
                <a:gs pos="100000">
                  <a:srgbClr val="ff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dt" idx="3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ftr" idx="3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C73D8C-9AA9-4D56-92EF-2BB0C47F4BC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title"/>
          </p:nvPr>
        </p:nvSpPr>
        <p:spPr>
          <a:xfrm>
            <a:off x="685800" y="1399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4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99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549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8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9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3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26D1C1-764D-4032-A854-28AB21045A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99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654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F0B0B3-6033-4537-89CD-3344E16E4F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-85320" y="-92880"/>
            <a:ext cx="2772720" cy="6949440"/>
            <a:chOff x="-85320" y="-92880"/>
            <a:chExt cx="2772720" cy="6949440"/>
          </a:xfrm>
        </p:grpSpPr>
        <p:sp>
          <p:nvSpPr>
            <p:cNvPr id="75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69480" y="3922560"/>
              <a:ext cx="889560" cy="718560"/>
              <a:chOff x="69480" y="3922560"/>
              <a:chExt cx="889560" cy="718560"/>
            </a:xfrm>
          </p:grpSpPr>
          <p:sp>
            <p:nvSpPr>
              <p:cNvPr id="758" name=""/>
              <p:cNvSpPr/>
              <p:nvPr/>
            </p:nvSpPr>
            <p:spPr>
              <a:xfrm flipH="1" rot="14940000">
                <a:off x="119160" y="3943800"/>
                <a:ext cx="226800" cy="263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rot="14940000">
                <a:off x="276480" y="4310640"/>
                <a:ext cx="388800" cy="219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rot="14940000">
                <a:off x="630720" y="415584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-1440" y="2602080"/>
              <a:ext cx="2688840" cy="3119400"/>
              <a:chOff x="-1440" y="2602080"/>
              <a:chExt cx="2688840" cy="3119400"/>
            </a:xfrm>
          </p:grpSpPr>
          <p:sp>
            <p:nvSpPr>
              <p:cNvPr id="763" name=""/>
              <p:cNvSpPr/>
              <p:nvPr/>
            </p:nvSpPr>
            <p:spPr>
              <a:xfrm flipH="1" rot="780000">
                <a:off x="385200" y="2698560"/>
                <a:ext cx="97452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rot="780000">
                <a:off x="102600" y="2842920"/>
                <a:ext cx="815760" cy="1022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780000">
                <a:off x="357120" y="3053880"/>
                <a:ext cx="289080" cy="5180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rot="780000">
                <a:off x="882720" y="379368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rot="780000">
                <a:off x="805680" y="3854160"/>
                <a:ext cx="6516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853200" y="4052160"/>
                <a:ext cx="1834200" cy="1669320"/>
                <a:chOff x="853200" y="4052160"/>
                <a:chExt cx="1834200" cy="1669320"/>
              </a:xfrm>
            </p:grpSpPr>
            <p:sp>
              <p:nvSpPr>
                <p:cNvPr id="769" name=""/>
                <p:cNvSpPr/>
                <p:nvPr/>
              </p:nvSpPr>
              <p:spPr>
                <a:xfrm flipH="1" rot="7140000">
                  <a:off x="1262160" y="3946320"/>
                  <a:ext cx="473400" cy="12146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 rot="7140000">
                  <a:off x="2325600" y="4975560"/>
                  <a:ext cx="109800" cy="4982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rot="7140000">
                  <a:off x="2503080" y="5571720"/>
                  <a:ext cx="19872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2" name=""/>
            <p:cNvGrpSpPr/>
            <p:nvPr/>
          </p:nvGrpSpPr>
          <p:grpSpPr>
            <a:xfrm>
              <a:off x="469800" y="6174720"/>
              <a:ext cx="791280" cy="632160"/>
              <a:chOff x="469800" y="6174720"/>
              <a:chExt cx="791280" cy="632160"/>
            </a:xfrm>
          </p:grpSpPr>
          <p:sp>
            <p:nvSpPr>
              <p:cNvPr id="773" name=""/>
              <p:cNvSpPr/>
              <p:nvPr/>
            </p:nvSpPr>
            <p:spPr>
              <a:xfrm rot="6240000">
                <a:off x="1016280" y="6174720"/>
                <a:ext cx="19692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6240000">
                <a:off x="762840" y="651312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6240000">
                <a:off x="387360" y="6410880"/>
                <a:ext cx="352440" cy="106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19320" y="1776600"/>
              <a:ext cx="784080" cy="693360"/>
              <a:chOff x="319320" y="1776600"/>
              <a:chExt cx="784080" cy="693360"/>
            </a:xfrm>
          </p:grpSpPr>
          <p:sp>
            <p:nvSpPr>
              <p:cNvPr id="777" name=""/>
              <p:cNvSpPr/>
              <p:nvPr/>
            </p:nvSpPr>
            <p:spPr>
              <a:xfrm rot="4980000">
                <a:off x="839520" y="1747800"/>
                <a:ext cx="20628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4980000">
                <a:off x="694080" y="2154960"/>
                <a:ext cx="35424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4980000">
                <a:off x="218880" y="2205000"/>
                <a:ext cx="369720" cy="125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1293840" y="0"/>
              <a:ext cx="547560" cy="581040"/>
              <a:chOff x="1293840" y="0"/>
              <a:chExt cx="547560" cy="581040"/>
            </a:xfrm>
          </p:grpSpPr>
          <p:sp>
            <p:nvSpPr>
              <p:cNvPr id="781" name=""/>
              <p:cNvSpPr/>
              <p:nvPr/>
            </p:nvSpPr>
            <p:spPr>
              <a:xfrm>
                <a:off x="1293840" y="0"/>
                <a:ext cx="173160" cy="219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544760" y="103320"/>
                <a:ext cx="296640" cy="180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484280" y="48888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840000">
              <a:off x="385920" y="540396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840000">
              <a:off x="423360" y="570240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560000">
              <a:off x="31320" y="64908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560000">
              <a:off x="383760" y="119808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560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560000">
              <a:off x="376200" y="1143000"/>
              <a:ext cx="9864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60000">
              <a:off x="930240" y="738000"/>
              <a:ext cx="114480" cy="64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560000">
              <a:off x="88560" y="1314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0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8BD204-35D2-4B4A-BE66-570F1913DAC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"/>
          <p:cNvGrpSpPr/>
          <p:nvPr/>
        </p:nvGrpSpPr>
        <p:grpSpPr>
          <a:xfrm>
            <a:off x="-19800" y="0"/>
            <a:ext cx="9060480" cy="6858000"/>
            <a:chOff x="-19800" y="0"/>
            <a:chExt cx="9060480" cy="6858000"/>
          </a:xfrm>
        </p:grpSpPr>
        <p:grpSp>
          <p:nvGrpSpPr>
            <p:cNvPr id="840" name=""/>
            <p:cNvGrpSpPr/>
            <p:nvPr/>
          </p:nvGrpSpPr>
          <p:grpSpPr>
            <a:xfrm>
              <a:off x="5394240" y="59760"/>
              <a:ext cx="3646440" cy="6134040"/>
              <a:chOff x="5394240" y="59760"/>
              <a:chExt cx="3646440" cy="6134040"/>
            </a:xfrm>
          </p:grpSpPr>
          <p:sp>
            <p:nvSpPr>
              <p:cNvPr id="841" name=""/>
              <p:cNvSpPr/>
              <p:nvPr/>
            </p:nvSpPr>
            <p:spPr>
              <a:xfrm flipV="1" rot="12000000">
                <a:off x="6585120" y="34992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 rot="12000000">
                <a:off x="7424280" y="196272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 rot="12000000">
                <a:off x="6828840" y="259560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2000000">
                <a:off x="72540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 rot="12000000">
                <a:off x="7156800" y="2646360"/>
                <a:ext cx="16416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 rot="12000000">
                <a:off x="7142040" y="1240560"/>
                <a:ext cx="19080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 rot="12000000">
                <a:off x="5937840" y="2933640"/>
                <a:ext cx="523800" cy="3269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 flipH="1" rot="360000">
              <a:off x="32400" y="3107880"/>
              <a:ext cx="51264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360000">
              <a:off x="1425240" y="453348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rot="360000">
              <a:off x="1266480" y="473040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4144680" y="1039680"/>
              <a:ext cx="1012320" cy="1262160"/>
              <a:chOff x="4144680" y="1039680"/>
              <a:chExt cx="1012320" cy="1262160"/>
            </a:xfrm>
          </p:grpSpPr>
          <p:sp>
            <p:nvSpPr>
              <p:cNvPr id="855" name=""/>
              <p:cNvSpPr/>
              <p:nvPr/>
            </p:nvSpPr>
            <p:spPr>
              <a:xfrm rot="3240000">
                <a:off x="4557960" y="107676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3240000">
                <a:off x="4641480" y="160956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3240000">
                <a:off x="4104000" y="196776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5645520" y="299160"/>
              <a:ext cx="888840" cy="835200"/>
              <a:chOff x="5645520" y="299160"/>
              <a:chExt cx="888840" cy="835200"/>
            </a:xfrm>
          </p:grpSpPr>
          <p:sp>
            <p:nvSpPr>
              <p:cNvPr id="859" name=""/>
              <p:cNvSpPr/>
              <p:nvPr/>
            </p:nvSpPr>
            <p:spPr>
              <a:xfrm rot="14880000">
                <a:off x="5757480" y="802800"/>
                <a:ext cx="17784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4880000">
                <a:off x="5706720" y="483480"/>
                <a:ext cx="306360" cy="29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4880000">
                <a:off x="6243480" y="399960"/>
                <a:ext cx="320400" cy="152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957600" y="5280480"/>
              <a:ext cx="1059840" cy="836280"/>
              <a:chOff x="957600" y="5280480"/>
              <a:chExt cx="1059840" cy="836280"/>
            </a:xfrm>
          </p:grpSpPr>
          <p:sp>
            <p:nvSpPr>
              <p:cNvPr id="863" name=""/>
              <p:cNvSpPr/>
              <p:nvPr/>
            </p:nvSpPr>
            <p:spPr>
              <a:xfrm rot="8520000">
                <a:off x="1699920" y="5551200"/>
                <a:ext cx="25236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8520000">
                <a:off x="1183680" y="5762520"/>
                <a:ext cx="43020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8520000">
                <a:off x="948960" y="5405040"/>
                <a:ext cx="44928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63240" y="434880"/>
              <a:ext cx="1685880" cy="1146960"/>
              <a:chOff x="363240" y="434880"/>
              <a:chExt cx="1685880" cy="1146960"/>
            </a:xfrm>
          </p:grpSpPr>
          <p:sp>
            <p:nvSpPr>
              <p:cNvPr id="867" name=""/>
              <p:cNvSpPr/>
              <p:nvPr/>
            </p:nvSpPr>
            <p:spPr>
              <a:xfrm flipH="1" rot="4140000">
                <a:off x="1559520" y="1055520"/>
                <a:ext cx="35568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rot="4140000">
                <a:off x="1005840" y="577440"/>
                <a:ext cx="60984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rot="4140000">
                <a:off x="263880" y="1094040"/>
                <a:ext cx="636840" cy="225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7396560" y="3696840"/>
              <a:ext cx="1157040" cy="1608120"/>
              <a:chOff x="7396560" y="3696840"/>
              <a:chExt cx="1157040" cy="1608120"/>
            </a:xfrm>
          </p:grpSpPr>
          <p:sp>
            <p:nvSpPr>
              <p:cNvPr id="871" name=""/>
              <p:cNvSpPr/>
              <p:nvPr/>
            </p:nvSpPr>
            <p:spPr>
              <a:xfrm flipH="1" rot="10020000">
                <a:off x="7451640" y="4741200"/>
                <a:ext cx="35568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rot="10020000">
                <a:off x="7902000" y="4442040"/>
                <a:ext cx="609480" cy="441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 rot="10020000">
                <a:off x="7598880" y="3765600"/>
                <a:ext cx="636840" cy="225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9840000">
              <a:off x="3427200" y="164160"/>
              <a:ext cx="1081080" cy="9410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9840000">
              <a:off x="3171600" y="1361520"/>
              <a:ext cx="523800" cy="4413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9840000">
              <a:off x="3531960" y="1284480"/>
              <a:ext cx="19512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 rot="9840000">
              <a:off x="34527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881" name="PlaceHolder 1"/>
          <p:cNvSpPr>
            <a:spLocks noGrp="1"/>
          </p:cNvSpPr>
          <p:nvPr>
            <p:ph type="dt" idx="4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ftr" idx="4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AF5A80-1892-4F5A-946E-C988BCF01AC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56"/>
                </a:gs>
                <a:gs pos="5000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2"/>
                </a:gs>
                <a:gs pos="50000">
                  <a:srgbClr val="000066"/>
                </a:gs>
                <a:gs pos="100000">
                  <a:srgbClr val="0000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2"/>
                </a:gs>
                <a:gs pos="50000">
                  <a:srgbClr val="000066"/>
                </a:gs>
                <a:gs pos="100000">
                  <a:srgbClr val="0000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3f"/>
                </a:gs>
                <a:gs pos="50000">
                  <a:srgbClr val="00003a"/>
                </a:gs>
                <a:gs pos="100000">
                  <a:srgbClr val="0707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08040"/>
            <a:ext cx="77709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33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1F9CA8-1D70-4B70-8CBD-E8C7D20A3D1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687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AB187E-E669-4773-AE1A-A4BC6B5987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323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58B5EC-2751-4EF4-88C2-056453D942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1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FCCBC5-79BE-4211-A52A-4B7BA7E85F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7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A30ADA-9ADD-457B-8E2E-23BC25F5F6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5cfe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9900ff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1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F56781-F84B-49D4-BF0B-07E9DB4F57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5cfe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9900ff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0E389C-EBB9-4AF2-8265-EFFC50F529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2E5332-CAC3-4332-BB76-CB546BA311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33cc"/>
                </a:solidFill>
                <a:latin typeface="Arial"/>
              </a:rPr>
              <a:t>Развитие</a:t>
            </a:r>
            <a:endParaRPr b="0" lang="en-US" sz="8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cc"/>
                </a:solidFill>
                <a:latin typeface="Arial"/>
              </a:rPr>
              <a:t>-это изменение</a:t>
            </a:r>
            <a:endParaRPr b="0" lang="en-US" sz="4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914400" y="208080"/>
            <a:ext cx="7772400" cy="13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11161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5cfe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6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пещеру горного короля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Аравийскую пустыню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страну гномов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«В пещере горного короля»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24000" y="4508640"/>
            <a:ext cx="822960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33cc"/>
                </a:solidFill>
                <a:latin typeface="Arial Black"/>
              </a:rPr>
              <a:t>Динамическое развитие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33cc"/>
                </a:solidFill>
                <a:latin typeface="Arial Black"/>
              </a:rPr>
              <a:t>Темповое развитие</a:t>
            </a:r>
            <a:endParaRPr b="0" lang="en-US" sz="60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6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Arial Black"/>
              </a:rPr>
              <a:t>Динамическое</a:t>
            </a:r>
            <a:r>
              <a:rPr b="0" lang="ru-RU" sz="4400" spc="-1" strike="noStrike">
                <a:solidFill>
                  <a:srgbClr val="00ffff"/>
                </a:solidFill>
                <a:latin typeface="Arial Black"/>
              </a:rPr>
              <a:t> </a:t>
            </a:r>
            <a:r>
              <a:rPr b="0" lang="ru-RU" sz="5400" spc="-1" strike="noStrike">
                <a:solidFill>
                  <a:srgbClr val="00ffff"/>
                </a:solidFill>
                <a:latin typeface="Arial Black"/>
              </a:rPr>
              <a:t>развитие-</a:t>
            </a:r>
            <a:r>
              <a:rPr b="0" lang="ru-RU" sz="4400" spc="-1" strike="noStrike">
                <a:solidFill>
                  <a:srgbClr val="00ffff"/>
                </a:solidFill>
                <a:latin typeface="Arial Black"/>
              </a:rPr>
              <a:t> когда изменяется динамика.</a:t>
            </a: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00ffff"/>
                </a:solidFill>
                <a:latin typeface="Arial Black"/>
              </a:rPr>
              <a:t>Темповое развитие-</a:t>
            </a:r>
            <a:r>
              <a:rPr b="0" lang="ru-RU" sz="4400" spc="-1" strike="noStrike">
                <a:solidFill>
                  <a:srgbClr val="00ffff"/>
                </a:solidFill>
                <a:latin typeface="Arial Black"/>
              </a:rPr>
              <a:t> когда изменяется темп.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50920" y="65257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-179280" y="385920"/>
            <a:ext cx="9144000" cy="77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1. У моей России длинные косички,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 моей России светлые реснички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 моей России голубые очи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меня Россия ты похожа очень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рипев:Солнце светит, ветры дуют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Ливни льются над Россией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небе радуга цветная -нет земли красивей!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2. Для меня Россия — белые берёзы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ля меня Россия — утренние росы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ля меня Россия ты всего дороже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о чего на маму ты мою похожа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3. Ты моя Россия всех теплом согреешь,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Ты моя Россия песни петь умеешь.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Ты моя Россия не разлучна с нами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едь Россия наша — это мы с друзьями.</a:t>
            </a:r>
            <a:br>
              <a:rPr sz="2800"/>
            </a:br>
            <a:br>
              <a:rPr sz="2800"/>
            </a:b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95280" y="6788160"/>
            <a:ext cx="82296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33cc"/>
                </a:solidFill>
                <a:latin typeface="Arial"/>
              </a:rPr>
              <a:t>Динамическое</a:t>
            </a:r>
            <a:br>
              <a:rPr sz="8800"/>
            </a:br>
            <a:r>
              <a:rPr b="0" lang="ru-RU" sz="8800" spc="-1" strike="noStrike">
                <a:solidFill>
                  <a:srgbClr val="ff33cc"/>
                </a:solidFill>
                <a:latin typeface="Arial"/>
              </a:rPr>
              <a:t>развитие</a:t>
            </a:r>
            <a:endParaRPr b="0" lang="en-US" sz="8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Темповое</a:t>
            </a:r>
            <a:br>
              <a:rPr sz="8800"/>
            </a:b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     развитие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26920" y="5445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Эдвард Григ (1843-1907)</a:t>
            </a: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660096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392720" cy="475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208080"/>
            <a:ext cx="7772400" cy="13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8:12:42Z</dcterms:created>
  <dc:creator/>
  <dc:description/>
  <dc:language>en-US</dc:language>
  <cp:lastModifiedBy>user</cp:lastModifiedBy>
  <dcterms:modified xsi:type="dcterms:W3CDTF">2007-02-15T12:40:46Z</dcterms:modified>
  <cp:revision>11</cp:revision>
  <dc:subject/>
  <dc:title>Развитие</dc:title>
</cp:coreProperties>
</file>