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769C-30B5-4B1B-A770-F24344EE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74A-D56B-46E5-9B04-DA4772EF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EF36-0023-405D-9B72-D4F49EE3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8A88-6A52-4934-B7E6-C397D5D5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9A6D-FB81-4488-BF8E-D0C6308C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85E6-8814-4BE0-8188-683ACBEB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493F-4F78-498B-8E69-B43B12B9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22EC-D247-4D23-B04D-890B80FD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DA62-0950-46B5-A7FC-979FB9AA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58AC-F96D-46DC-9DEF-D74CA7DB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3F7A-F930-4685-A551-0176749E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4F50-FB5B-47A1-9DC0-CD0449FB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6E09-9458-430E-BBDD-17E23405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76EF-1E6B-4C36-B895-0DAB8567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2117-64EE-4148-8087-C3E5E8D3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2111-CD93-4DB9-B010-7A836AB3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3C48-B2B0-4B57-8615-35736A2E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6AE-310F-4C93-A331-967E58FC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20A-4085-4F59-AA3D-8DCD37EE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B86-DC58-4976-B643-F97829B9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292-192D-4716-AFEB-5A063E47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CD9-53AB-492D-AD6B-9231C4F4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1E1-AC33-4E95-AD74-6F93F1E5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288-2A45-4A57-96B4-78FC7056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1B67-7D53-4BA3-8270-A0A88DA76D8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0EEA-35D5-4C5C-B3A2-C2CF9CC6B89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88960" y="549360"/>
            <a:ext cx="8086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тмосфера - </a:t>
            </a:r>
            <a:endParaRPr b="0" i="1" lang="en-US" sz="4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душная оболочка Земли.</a:t>
            </a:r>
            <a:endParaRPr b="0" i="1" lang="en-US" sz="4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19120" y="2873520"/>
            <a:ext cx="6248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оение атмосферы.</a:t>
            </a:r>
            <a:endParaRPr b="0" i="1" lang="en-US" sz="4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87720" y="4365720"/>
            <a:ext cx="4905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ль атмосферы</a:t>
            </a:r>
            <a:endParaRPr b="0" i="1" lang="en-US" sz="4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жизни Земли.</a:t>
            </a:r>
            <a:endParaRPr b="0" i="1" lang="en-US" sz="4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932360" y="429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-219240" y="0"/>
            <a:ext cx="9363240" cy="7023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348000" y="1197000"/>
            <a:ext cx="49071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Мы живем на дн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здушного океана"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.Торричелли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0"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21600000">
                                      <p:cBhvr>
                                        <p:cTn id="35" dur="3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-34920" y="-2700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20" y="3645000"/>
            <a:ext cx="867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ατμος</a:t>
            </a: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  (атмос) – па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ru-RU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δφαίρα</a:t>
            </a: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 (сфера) - шар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64000" y="476280"/>
            <a:ext cx="4464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тмосфе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9919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-44280"/>
            <a:ext cx="9202680" cy="6902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387520" y="1484280"/>
            <a:ext cx="5353200" cy="392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ЛОБУС 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=35см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ЛОЙ ВОЗДУХА - 3см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4000" y="260280"/>
            <a:ext cx="3456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ОДЕЛЬ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ТМОСФЕРЫ: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4000" y="5229360"/>
            <a:ext cx="8569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ОЛЩИНА АТМОСФЕРЫ - БОЛЕЕ 1000 К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948360" y="6453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27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8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08360" y="0"/>
            <a:ext cx="9396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Атмосфера – воздушная оболочка Земли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1171440"/>
            <a:ext cx="5067360" cy="5686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3640" y="1557360"/>
            <a:ext cx="4175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Строение атмосф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03640" y="2349360"/>
            <a:ext cx="421164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d4d4d"/>
                </a:solidFill>
                <a:latin typeface="Arial"/>
              </a:rPr>
              <a:t>Атмосфера </a:t>
            </a:r>
            <a:br>
              <a:rPr sz="3500"/>
            </a:br>
            <a:r>
              <a:rPr b="0" lang="en-US" sz="3500" spc="-1" strike="noStrike">
                <a:solidFill>
                  <a:srgbClr val="4d4d4d"/>
                </a:solidFill>
                <a:latin typeface="Arial"/>
              </a:rPr>
              <a:t>состоит из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13440" y="3292560"/>
            <a:ext cx="4211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тропосферы,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13440" y="3860640"/>
            <a:ext cx="4211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стратосферы,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6720" y="4365720"/>
            <a:ext cx="4211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мезосферы,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4975200"/>
            <a:ext cx="4211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термосферы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3640" y="5595840"/>
            <a:ext cx="4211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экзосфер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7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7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7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7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7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21:13:55Z</dcterms:created>
  <dc:creator>Я</dc:creator>
  <dc:description/>
  <dc:language>en-US</dc:language>
  <cp:lastModifiedBy>Я</cp:lastModifiedBy>
  <dcterms:modified xsi:type="dcterms:W3CDTF">2012-12-05T10:10:52Z</dcterms:modified>
  <cp:revision>39</cp:revision>
  <dc:subject/>
  <dc:title>Слайд 1</dc:title>
</cp:coreProperties>
</file>