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7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470-15D1-4CAB-87C7-5C7F373D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CE1-9B92-40C4-856D-F37BFA88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785-1EEC-4EA7-BCB3-C39B99E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3F5-E72C-4182-806D-26254D7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223-DEBB-444C-8609-40AB226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3F4-FE0E-40C5-947D-EE0B488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FFA1-6F95-424C-B5A8-4C9CC893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2ECD-F5C9-448E-889C-6D6D14E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9EB-75CC-481F-80B1-831A753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13EF-7A6F-400F-8044-7B45249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75F-0BC9-468D-84C6-F720C9F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DBA-12BB-4877-BB03-41171FE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51F0-8C0B-4F0E-AB8C-4C8E53A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97E-D3CC-4185-963B-0104C65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82A-51CA-43CB-83F8-3347074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B99F-3AED-4C30-A5F7-C48909E6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BED4-8EA3-48FB-9CD6-32846D3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3CD-C7DB-4627-A21E-AC765E3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E83-3A61-44A0-A933-3F15462B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95-3E75-4EFA-A979-DCBECB9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E45-B6D1-452B-B15D-1E4CF67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10A-F9CE-4459-98B1-CE9CEA6D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11D-7D47-476D-AB7B-7A86B87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2AF-A328-4F93-AA30-B08B18E5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5AF-56DA-4631-BA90-FE059B87B9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1A5-1DF2-47D2-85FB-C7B458759E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2120" y="609480"/>
            <a:ext cx="4809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опосфера - до 16 км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23880" y="1752480"/>
            <a:ext cx="5000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осфера - до 50 км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62240" y="3166920"/>
            <a:ext cx="461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зосфера - до 80 км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45720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осфера - 80 км и выше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71640" y="566100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зосфера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5734080"/>
            <a:ext cx="1008000" cy="73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36000" y="6669000"/>
            <a:ext cx="119160" cy="1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277200" cy="6958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716360" y="134136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тропосфера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181080" y="189000"/>
            <a:ext cx="579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90 % всей массы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здух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050920" y="3768840"/>
            <a:ext cx="4124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0000a4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д экватором -17 км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0000a4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62160" y="5857920"/>
            <a:ext cx="56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0000a4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полярных областях - 8-9 км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0000a4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36800" y="4560840"/>
            <a:ext cx="6199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0000a4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средних широтах - 10-11 км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0000a4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28494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ТРОПОС» - ПОВОР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1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4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4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4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4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7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440" y="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86080" y="189000"/>
            <a:ext cx="618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АТОСФЕРА - "СТРАУМ" -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СТИЛ, СЛОЙ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413000"/>
            <a:ext cx="669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ЗОСФЕРА - "МЕЗО" 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НИЙ, ПРОМЕЖУТОЧ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30200" y="2708280"/>
            <a:ext cx="612144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ТЕРМОСФЕРА - "ТЕРМО"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ТЕП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9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На высоте 5 с половиной км давление в 2 раза меньше, 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чем у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600" y="5132520"/>
            <a:ext cx="76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 на высоте 11 км в 4 раза меньше, чем у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5877000"/>
            <a:ext cx="367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З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80240" y="6021360"/>
            <a:ext cx="2220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99"/>
                </a:solidFill>
                <a:latin typeface="Tahoma"/>
              </a:rPr>
              <a:t>ВАКУУ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" nodeType="afterEffect" fill="hold" presetClass="entr" presetID="1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95640" y="0"/>
            <a:ext cx="6984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2124000" y="5950080"/>
            <a:ext cx="1511280" cy="57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6237360"/>
            <a:ext cx="216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самоле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94400"/>
            <a:ext cx="24843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стратост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20" y="4869000"/>
            <a:ext cx="24843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радиозон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51240" y="5300640"/>
            <a:ext cx="1439640" cy="73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068640"/>
            <a:ext cx="30974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космический кораб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78040"/>
            <a:ext cx="34196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спутник Зем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03640" y="1557360"/>
            <a:ext cx="863640" cy="50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04640"/>
            <a:ext cx="60120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метеорологический спут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35280" y="5661000"/>
            <a:ext cx="787320" cy="590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3280" y="4581360"/>
            <a:ext cx="509760" cy="1211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2484360" y="5516280"/>
            <a:ext cx="215892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956040" y="4005360"/>
            <a:ext cx="29520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3419640" y="2133720"/>
            <a:ext cx="1180800" cy="790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2987640" y="2781360"/>
            <a:ext cx="863640" cy="50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067280" y="1125360"/>
            <a:ext cx="95256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12000" y="907920"/>
            <a:ext cx="1152360" cy="67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692280"/>
            <a:ext cx="432000" cy="144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167960" y="2204640"/>
            <a:ext cx="2446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плот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521964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4720" y="3024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Что такое возду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7960" y="80316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Роберт Бойль (Анг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4520" y="292428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жозеф Пристли (Анг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6680" y="2637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нтуан Лавуазье (Фран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95008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Генри Кевиндиш (Анг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9400" y="501336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Уильям Рамзай (Анг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9200" y="551664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М.В.Ломоносов (Росс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465200" cy="171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067280" y="549360"/>
            <a:ext cx="1152360" cy="151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659640" y="981000"/>
            <a:ext cx="1398600" cy="179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44360" y="1341360"/>
            <a:ext cx="1258920" cy="187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692360" y="3213000"/>
            <a:ext cx="1333440" cy="1886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282920" y="4726080"/>
            <a:ext cx="129708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1:44Z</dcterms:modified>
  <cp:revision>39</cp:revision>
  <dc:subject/>
  <dc:title>Слайд 1</dc:title>
</cp:coreProperties>
</file>