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chimes.wav" ContentType="audio/x-wav"/>
  <Override PartName="/ppt/media/image13.png" ContentType="image/png"/>
  <Override PartName="/ppt/media/image16.gif" ContentType="image/gif"/>
  <Override PartName="/ppt/media/image14.jpeg" ContentType="image/jpeg"/>
  <Override PartName="/ppt/media/image2.png" ContentType="image/png"/>
  <Override PartName="/ppt/media/image15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0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A6C-6BC6-4832-9C99-36A7AB97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5C8-7ECE-452B-95F7-91949752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E36-91D5-4233-9476-D61D763A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3D4-5BF0-41EF-92C5-39CB3EA0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40F6-FC36-4452-AC8D-9140DEF0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C638-0B3F-4709-B521-9F3D5420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50A9-C92E-4674-B25A-23BDEBBE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FA4F-DAEA-4E4D-99D8-5317665D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ACF2-6058-4941-8B52-BCA7626A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3E9E-9BA3-49E8-B554-E9612FA5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CEEE-33F6-43B9-B779-905164E1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EB1-19EF-450C-9444-CE233878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D9F9-63BF-4C9D-BBE1-F0E89912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B5DE-10F2-4DB0-A73D-CD319E57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685C-9EBA-406E-9362-D3D75D53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0ED6-1F22-46A6-AA9A-2A7848C5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AB24-F716-4689-8B34-A1BE973E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E33-15E7-4431-B9E4-D6E8B00C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B68-05D8-40CA-ACBD-77079CC4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77F-1387-4406-86FC-11C27DAA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76A-56C0-4C6C-BC9C-E63D98A9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BF8-5FBE-4D9C-9ED0-8536409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464-8F12-403B-B7DA-CA042708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E14-01E9-455B-B73D-AF259768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CB00-0E23-4D5B-A678-11E104F59E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79CE-95F8-463A-93E7-4B41DE484C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11160" y="-25560"/>
            <a:ext cx="9325080" cy="69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920" y="135000"/>
            <a:ext cx="90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рнистый газ, сероводород, с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27280" y="836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ылевая   бу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-27000"/>
            <a:ext cx="9201240" cy="6900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31360" y="115920"/>
            <a:ext cx="29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сиды аз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0" y="766800"/>
            <a:ext cx="9144000" cy="6091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3145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4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5">
                                  <p:stCondLst>
                                    <p:cond delay="1800"/>
                                  </p:stCondLst>
                                  <p:iterate type="lt">
                                    <p:tmAbs val="32.6530609130859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2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2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2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5">
                                  <p:stCondLst>
                                    <p:cond delay="10400"/>
                                  </p:stCondLst>
                                  <p:iterate type="lt">
                                    <p:tmAbs val="99.9998664855957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3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5">
                                  <p:stCondLst>
                                    <p:cond delay="17800"/>
                                  </p:stCondLst>
                                  <p:iterate type="lt">
                                    <p:tmAbs val="169.999956607819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7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7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7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5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4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4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4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361440" cy="702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042920" y="907920"/>
            <a:ext cx="252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ОН  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64000" y="1628640"/>
            <a:ext cx="57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11640" y="234936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635280" y="4076640"/>
            <a:ext cx="3313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СЛОРОД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380360" y="4869000"/>
            <a:ext cx="57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028000" y="560556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5"/>
          <a:stretch/>
        </p:blipFill>
        <p:spPr>
          <a:xfrm>
            <a:off x="5364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6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708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046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36360" y="-1440"/>
            <a:ext cx="918036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8360" y="404640"/>
            <a:ext cx="259092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ОБЪЕМ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МАССА СЛО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АТМОСФ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52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55640" y="4387680"/>
            <a:ext cx="1728720" cy="1670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43564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1:13:55Z</dcterms:created>
  <dc:creator>Я</dc:creator>
  <dc:description/>
  <dc:language>en-US</dc:language>
  <cp:lastModifiedBy>Я</cp:lastModifiedBy>
  <dcterms:modified xsi:type="dcterms:W3CDTF">2012-12-05T10:12:18Z</dcterms:modified>
  <cp:revision>39</cp:revision>
  <dc:subject/>
  <dc:title>Слайд 1</dc:title>
</cp:coreProperties>
</file>