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412-BD74-401F-B071-68C53087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333-55BD-49C2-999C-FCC193C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49C-EC83-4197-B63E-BE3C6917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707-4E19-4FBA-AA33-27F6D777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29F5-94E7-46A1-B0D7-88A2D20F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3B0-10C1-454C-941D-9EF919E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B3DB-C5F1-4656-8EF2-0ED1648B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DAA-CE10-4EDE-9AC7-40FEB39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306-DA90-4568-81B0-5BE8242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488-E73E-42C1-9C80-3407D561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830-8FFC-438C-B946-4B8261D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382-6D41-4C01-95DA-717FC7B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CDA-C3B6-4A37-91D7-935015CD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6EA1-8A92-4908-B2D7-B69A53D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1B5-1500-4821-8FE6-D3A4FE1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AA8C-32A9-4136-B2FD-8C121F5A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7FC-E55B-4AB9-91A3-24D7354B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2E8-DE46-4814-9E8D-E44FBF35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56F-07F8-4013-BFEE-BB9DE8E0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3AF-4264-4336-BA54-27F5E3D6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846-B769-441D-88A2-FDB9903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F7A-47EC-4160-B55F-7BE4FE4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7EB-5AE9-4A3E-9496-3C8D3D7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302-B2B8-4E69-9D34-3D0927A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6DF-1D3C-4BA2-98D2-0174605472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F39-1738-4E94-B89D-FBEF6CE7FC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71640" y="404640"/>
            <a:ext cx="3456000" cy="30974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3213000"/>
            <a:ext cx="331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 м</a:t>
            </a:r>
            <a:r>
              <a:rPr b="1" lang="en-US" sz="4400" spc="-1" strike="noStrike" baseline="30000">
                <a:solidFill>
                  <a:srgbClr val="cc3399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 воздух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96240" y="4643280"/>
            <a:ext cx="455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масса – 1 кг 300 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4680" y="-233280"/>
            <a:ext cx="9153360" cy="732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720" y="1916280"/>
            <a:ext cx="46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V=</a:t>
            </a:r>
            <a:r>
              <a:rPr b="1" lang="ru-RU" sz="6600" spc="-1" strike="noStrike">
                <a:solidFill>
                  <a:srgbClr val="ff9900"/>
                </a:solidFill>
                <a:latin typeface="Times New Roman"/>
              </a:rPr>
              <a:t>11,2 км/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3024360" cy="793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06320" y="907920"/>
            <a:ext cx="1817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СО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3789360"/>
            <a:ext cx="2592360" cy="24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н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435640" cy="422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03640" y="2924280"/>
            <a:ext cx="5940360" cy="393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5013360"/>
            <a:ext cx="3533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анеты-гига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551480" y="466560"/>
            <a:ext cx="35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лий, мета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амми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971640" y="2565360"/>
            <a:ext cx="2000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кур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65300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атмосферы н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2:58Z</dcterms:modified>
  <cp:revision>39</cp:revision>
  <dc:subject/>
  <dc:title>Слайд 1</dc:title>
</cp:coreProperties>
</file>