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6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382-0A19-48CC-AD66-1C4AA931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DDB-93D0-4CAF-A118-88AF45AE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B98-E6ED-4C05-98C8-5293A9AB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E4D-CDFB-49FD-B00E-B3B64F22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A159-C773-4288-A3F6-CA07321C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5F43-419E-4F56-A7C3-D38DCF4C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6A7C-8941-4FCC-AE5E-98F2424A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4C11-4E9C-45F0-A159-6CADE9F8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5AB2-B4A1-4242-A25E-33C5B5A5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5CB3-BB40-4FF1-AA05-E5AF27E6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D480-5808-4A90-B182-B74A9228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A7A-E91F-4058-BAC7-2F044D90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5275-61D2-4877-A40F-DC1F1FF2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38D2-308A-4ECC-97EF-FB384BC3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A849-7484-4ED0-B1D3-8CFD572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2185-464D-40B4-8F9A-C1F1593D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66F7-9880-4645-BE84-285E4D0A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B8A-02C4-461C-B564-47C0331B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2CC-AE6E-459C-9DD3-D40B77F3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8D4-C7F8-41F8-A677-561B5697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2E7-F2E2-46EB-AC01-70F5C29E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79E-E055-43FC-92AA-07CDCCB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863-EA59-4C71-A9FB-76EF1702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B3C-4844-4505-B96C-57F90CA9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CD57-DA98-4B04-A3BA-D40F06106B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FD54-B855-47B6-8ED1-3564B132CD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3968640" cy="551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1916280"/>
            <a:ext cx="3673440" cy="316332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днявшись на высоту 11 км, путешественники потеряли сознание и сильно обморозилис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444600"/>
            <a:ext cx="8591400" cy="19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Трудности, с которыми столкнулись путешественник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3111120"/>
            <a:ext cx="854064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Облака </a:t>
            </a: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это густой холодный туман, в котором ничего не ви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Недостаток кислорода</a:t>
            </a: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т.к. с изменением высоты воздух становится разряжен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Холо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– на каждый километр высоты 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  <a:ea typeface="Arial"/>
              </a:rPr>
              <a:t>t°</a:t>
            </a:r>
            <a:r>
              <a:rPr b="0" lang="ru-RU" sz="3200" spc="-1" strike="noStrike">
                <a:solidFill>
                  <a:srgbClr val="0000a4"/>
                </a:solidFill>
                <a:latin typeface="Arial"/>
                <a:ea typeface="Arial"/>
              </a:rPr>
              <a:t> падает на 6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71640" y="0"/>
            <a:ext cx="108108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412920"/>
            <a:ext cx="9144000" cy="611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042920" y="44280"/>
            <a:ext cx="7416720" cy="6799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05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5" presetSubtype="10">
                                  <p:stCondLst>
                                    <p:cond delay="9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1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-49320"/>
            <a:ext cx="7128000" cy="6907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-324000" y="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-757080" y="0"/>
            <a:ext cx="10585440" cy="7134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-324000" y="17640"/>
            <a:ext cx="9757080" cy="7318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-541440" y="0"/>
            <a:ext cx="10153800" cy="738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-757080" y="0"/>
            <a:ext cx="10477440" cy="738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-541440" y="0"/>
            <a:ext cx="10260000" cy="7316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-252360" y="44280"/>
            <a:ext cx="9864720" cy="7345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-612720" y="0"/>
            <a:ext cx="10333080" cy="731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2124000" y="-243000"/>
            <a:ext cx="5523120" cy="734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9756720" y="731844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7575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4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7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178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2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7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267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32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27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378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7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7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47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13:55Z</dcterms:created>
  <dc:creator>Я</dc:creator>
  <dc:description/>
  <dc:language>en-US</dc:language>
  <cp:lastModifiedBy>Я</cp:lastModifiedBy>
  <dcterms:modified xsi:type="dcterms:W3CDTF">2012-12-05T10:13:34Z</dcterms:modified>
  <cp:revision>39</cp:revision>
  <dc:subject/>
  <dc:title>Слайд 1</dc:title>
</cp:coreProperties>
</file>