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wmf" ContentType="image/x-wmf"/>
  <Override PartName="/ppt/media/image12.wmf" ContentType="image/x-wmf"/>
  <Override PartName="/ppt/media/image4.png" ContentType="image/png"/>
  <Override PartName="/ppt/media/chimes.wav" ContentType="audio/x-wav"/>
  <Override PartName="/ppt/media/image7.wmf" ContentType="image/x-wmf"/>
  <Override PartName="/ppt/media/image13.wmf" ContentType="image/x-wmf"/>
  <Override PartName="/ppt/media/image1.jpeg" ContentType="image/jpeg"/>
  <Override PartName="/ppt/media/image2.jpeg" ContentType="image/jpeg"/>
  <Override PartName="/ppt/media/Level_victory.wav" ContentType="audio/x-wav"/>
  <Override PartName="/ppt/media/image14.png" ContentType="image/png"/>
  <Override PartName="/ppt/media/image9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D4BB-8119-4DCF-A714-BD1A7B26C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5E90-E772-4ECE-9A78-FA4B92DA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0984-DC69-4931-8BA9-90BE5DDD1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E839-135B-4838-93EB-43B88CCB4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FF96-1111-43B2-A120-0008C54E2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EAD1-CF50-4DA4-A250-D5E5528B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BFA5-2FE4-43BB-8322-487ED987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E312-1771-4954-9CB5-FA3DAC3C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819A5-5DEA-4C89-BAF5-C271080B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087B-1EFB-4785-A77C-538F4FB1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97F4-A825-463B-9B1A-406E7896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FE6F-8442-4DBB-A5A5-C154B953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E1330-7822-44C5-90F2-096C0F90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D338F-BA65-4499-A270-476B3C4C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D84F-90B4-4C29-A562-69A8FAEB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F167-C406-4560-89EB-FF937062E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BE235-1B8D-4F9C-ACB1-DEBEDA709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F935-DAF4-434A-B4FB-85499C20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F876-7B70-4AFC-9966-B14CB579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8CB5-5415-4DC5-9FA0-F005C6DA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7D99-2EE9-4413-9C6E-E97B6C54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8752-15CA-42D8-BC93-81A0E216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D2C1-EE63-43BE-AB84-5DA07F1C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16BF-66F3-4918-B61F-8B838652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CEDE-22C5-4A46-AFF4-EE0DEDB93B6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D813-4791-4CA5-9D43-A7EAF63001D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evel_victory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" Target="slide1.xml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png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Значение  атмосфер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Защищает землю от перегрева и переохлажден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Защищает от метеорито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Защищает от ультрафиолетового излучен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Необходима для дыхания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Эстетическое значени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8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-111240"/>
            <a:ext cx="9144000" cy="708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21332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5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-396720" y="0"/>
            <a:ext cx="10836000" cy="696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30093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6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748360" y="5714640"/>
            <a:ext cx="548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Вспомним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95640" y="1268280"/>
            <a:ext cx="4140000" cy="41767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Cloud"/>
          <p:cNvSpPr/>
          <p:nvPr/>
        </p:nvSpPr>
        <p:spPr>
          <a:xfrm rot="186600">
            <a:off x="9143640" y="4508640"/>
            <a:ext cx="6616800" cy="36320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58920" y="2637000"/>
            <a:ext cx="698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Роль атмосферы: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evel_victory.wav"/>
                                        </p:tgtEl>
                                      </p:cMediaNode>
                                    </p:audio>
                                    <p:animMotion origin="layout" path="M 0.0316 0.03148 L -0.22639 -0.15741 E">
                                      <p:cBhvr>
                                        <p:cTn id="69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844 -0.02106 C -0.27518 -0.09375 -0.40174 -0.16643 -0.46094 -0.24699 C -0.52014 -0.32754 -0.47987 -0.47106 -0.504 -0.5044 C -0.52813 -0.53773 -0.57362 -0.46111 -0.60539 -0.44699 C -0.63716 -0.43287 -0.66598 -0.42453 -0.69428 -0.41921 C -0.72257 -0.41389 -0.75122 -0.41366 -0.77483 -0.41551 C -0.79844 -0.41736 -0.82275 -0.42477 -0.83594 -0.43032 C -0.84914 -0.43588 -0.85157 -0.44236 -0.854 -0.44884 E">
                                      <p:cBhvr>
                                        <p:cTn id="72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00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00000" y="-18000"/>
            <a:ext cx="7128000" cy="10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e7ff"/>
                </a:solidFill>
                <a:latin typeface="Arial"/>
              </a:rPr>
              <a:t>Роль атмосферы в жизни Земли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49636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Воздух необходим для всего живого на Земле 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Атмосфера – броня Земли – предохраняет  от бомбардировки метеоритов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Озоновый слой задерживает вредные космические излучен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Атмосфера – это мир звуков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Без атмосферы Земля была бы безжизненной как Луна, на ней не было бы рек, озёр, море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Атмосфера – это одежда Земли, она не позволят теплу уходить в космос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0920" y="5423040"/>
            <a:ext cx="1441440" cy="1188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44000" y="5445000"/>
            <a:ext cx="530280" cy="785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692360" y="5462640"/>
            <a:ext cx="1079280" cy="1039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324000" y="189000"/>
            <a:ext cx="714240" cy="730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3132000" y="5445000"/>
            <a:ext cx="584280" cy="1001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7885080" y="333360"/>
            <a:ext cx="1008000" cy="747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9"/>
          <a:stretch/>
        </p:blipFill>
        <p:spPr>
          <a:xfrm>
            <a:off x="4211640" y="5516640"/>
            <a:ext cx="863640" cy="830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0"/>
          <a:stretch/>
        </p:blipFill>
        <p:spPr>
          <a:xfrm>
            <a:off x="6732720" y="5589720"/>
            <a:ext cx="1152360" cy="873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1"/>
          <a:stretch/>
        </p:blipFill>
        <p:spPr>
          <a:xfrm>
            <a:off x="5508720" y="5300640"/>
            <a:ext cx="831600" cy="1176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30094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5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2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2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2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2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2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48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3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3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147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3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8">
                                  <p:stCondLst>
                                    <p:cond delay="177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3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8">
                                  <p:stCondLst>
                                    <p:cond delay="207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28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231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238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244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256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262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267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21:13:55Z</dcterms:created>
  <dc:creator>Я</dc:creator>
  <dc:description/>
  <dc:language>en-US</dc:language>
  <cp:lastModifiedBy>Я</cp:lastModifiedBy>
  <dcterms:modified xsi:type="dcterms:W3CDTF">2012-12-05T10:14:26Z</dcterms:modified>
  <cp:revision>39</cp:revision>
  <dc:subject/>
  <dc:title>Слайд 1</dc:title>
</cp:coreProperties>
</file>