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AD82-A5B6-4DEC-A587-EED3C325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A429-98C7-436B-A20B-F10D8D22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2656-D7B3-4CE8-B69A-12CAB70C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9B63-F0B0-4E00-B376-BAEF308A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A83B-1F61-4A25-A1A2-D6FFB777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2AC9-DD2F-4B18-BEEE-EFB1FCAE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6431-32E9-4701-ADCE-5500C8F4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1E86-FFEA-4C62-B0E2-6745B6B2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49B0-EA2D-4EF1-A20B-16F51FC7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1C1A-FDED-4790-8F7D-C61AA46C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E731-C0F2-4D62-94DD-848A8EF1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9B59-93CE-41F1-AC0B-860CA403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5DE9-DFF5-4587-913B-6ADC5ED8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3503-27F1-4A42-B39D-25AD126F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4756-9B26-40C8-8FBD-DAF0255D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E6DA-313C-4254-B5D1-55BDCEFD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4DF7-CCAA-42B7-9DA7-456F966E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EFB69-1EEA-430B-B370-8131FC12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EA9A4-CEDF-42C8-AB18-FB0F3834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A33F2-DBF0-4E85-AAB1-40B7B071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641F3-311B-4242-8476-E17D8E20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511FE-C36A-40A4-99F2-8432744E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1293-B42A-448F-9794-A6FAB474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C8615-8E15-4A9D-A481-C5CD73A5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99B58-4578-493B-91AC-A4E5A3EE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A8AB6-01FA-4202-87AD-5768A947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C935E-F205-4A4A-81C2-25EA0FC6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4389B-2471-4731-84F8-985AFAEA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C8367-FE0A-409B-A1AA-445D99DD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68EB7-A4A0-47C1-ACD2-8A4353DB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1EF91-2A63-4255-B910-90126F6E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4CDB9-BFCF-4A69-8B22-78E1B995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38CD9-8987-440D-B32A-5800862E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C29D-EF78-49F4-9429-1661D33C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7D492-8ED2-43A1-9BD2-685FFD58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2D6CF-5CD1-4FF3-9C6F-E3BA3688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2AB6F-A9D7-4883-89D4-991FD0B8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DA0FE-7206-4EE0-BFD0-EDAA5679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9ED20-E2AC-4A87-8CE5-FDCBFC1B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79117-8D8E-4875-A275-DA0B246C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DF4B4-7774-4C49-8073-A31157A0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BA05E-6B2A-4770-B4AF-111EF38F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6CD2E-CB7C-4189-8FDF-2ECD1CEC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E3CD-8BC3-442E-B4A7-CEE833EF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5581-DA7C-4443-9CF0-9CA27EE9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FDE7-DCC6-45BA-AD14-4F43731A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AD56-A6B2-41F6-A9C0-8A115EEF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C405-022A-4386-80CD-2D289D87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2FC1-D1E1-43FF-9967-49231CE59DC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440" cy="648000"/>
            <a:chOff x="-19080" y="203040"/>
            <a:chExt cx="918144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360" cy="648000"/>
              <a:chOff x="-19080" y="203040"/>
              <a:chExt cx="916236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8720" y="247320"/>
              <a:ext cx="9181080" cy="562680"/>
              <a:chOff x="-18720" y="247320"/>
              <a:chExt cx="9181080" cy="56268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7320"/>
                <a:ext cx="9165240" cy="56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36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6254-7DBA-4482-9F48-862902295EA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DC48-9EDF-4FB5-B48E-7CEFF2D443E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205C-0B34-4E76-BD45-C9F873DFEE7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8"/>
          <p:cNvSpPr txBox="1"/>
          <p:nvPr/>
        </p:nvSpPr>
        <p:spPr>
          <a:xfrm>
            <a:off x="539640" y="765000"/>
            <a:ext cx="8136000" cy="41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БОУ СОШ с.Русская Борковка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духовного подвига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Человеком надо стать"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ыполнила: ученица 9 класса Учаева Анна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7"/>
          <p:cNvSpPr txBox="1"/>
          <p:nvPr/>
        </p:nvSpPr>
        <p:spPr>
          <a:xfrm>
            <a:off x="1763640" y="692280"/>
            <a:ext cx="5648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66ff66"/>
                  </a:solidFill>
                  <a:miter/>
                </a:ln>
                <a:solidFill>
                  <a:srgbClr val="66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обытность   образа   Авдия. </a:t>
            </a:r>
            <a:endParaRPr b="0" lang="en-US" sz="2800" spc="1" strike="noStrike">
              <a:ln w="9360">
                <a:solidFill>
                  <a:srgbClr val="66ff66"/>
                </a:solidFill>
                <a:miter/>
              </a:ln>
              <a:solidFill>
                <a:srgbClr val="66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250920" y="1567080"/>
            <a:ext cx="845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дий - человек Христианской религии (лег на плаху, повторил подвиг Иисуса). Вся жизнь и мученическая смерть Авдия - реальность правоты Христа, возвестившего свое второе пришествие в стремлении людей к праведности, утверждаемом через страд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 писатель настойчиво повторял, что Авдий - выстраданный им образ, "фигура, связывающая пласты времени, бросающая вызов инертности молодых душ, стремящихся ощутить себя наследниками всей человеческой культуры". Именно с появлением людей, подобных Авдию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. Айтматов связывает надежды на преобразование современного мир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Need-more-power--55446"/>
          <p:cNvPicPr/>
          <p:nvPr/>
        </p:nvPicPr>
        <p:blipFill>
          <a:blip r:embed="rId1"/>
          <a:stretch/>
        </p:blipFill>
        <p:spPr>
          <a:xfrm>
            <a:off x="2676600" y="189000"/>
            <a:ext cx="411624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468360" y="1773360"/>
            <a:ext cx="8353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дьба Авдия - урок живущим на Земле. "Человека ежедневно терзает, разрушает и уничтожает сама жизнь... Но все же каждый человек хочет лучше познать самого себя... каждый из людей должен когда-нибудь взглянуть в глаза и смерти, пис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. Межелайтис. - Жизнь дается нам однажды, и никто ее нам больше не предложит. Сделаем из этого правильный вывод и выбор". И свой  выбор однажды сделал некнижный, а реальный  герой, герой нашего времени, воин-мученик Евгений Роди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561636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5"/>
          <p:cNvSpPr txBox="1"/>
          <p:nvPr/>
        </p:nvSpPr>
        <p:spPr>
          <a:xfrm>
            <a:off x="1116000" y="404640"/>
            <a:ext cx="741672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никальность   рождения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468360" y="2274840"/>
            <a:ext cx="8388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т что говорит мать Евгения Родионова, Любовь Васильевна об уникальности рождения своего сына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одился Женя в половине первого ночи 23 мая 1977 года. Роды не были тяжелыми. Женя был крепким, здоровеньким ребенком. Когда я услышала его первый крик, крик о том, что "я пришел в этот мир»,и в этот момент по небу вдруг начала падать звезда. Я побледнела, сердце стало маленьким, холодным и почему-то лохматым комочком. Врачи и медсестры стали убеждать меня, что это хороший знак, что, значит, у ребенка будет хорошая судьба, да и у меня тоже. Но чувство опасности, страха, напряженное ожидание чего-то не покидало меня очень долгое время. Потом как-то все забылось, и вспомнилось через девятнадцать лет…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6360" cy="580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4"/>
          <p:cNvSpPr txBox="1"/>
          <p:nvPr/>
        </p:nvSpPr>
        <p:spPr>
          <a:xfrm>
            <a:off x="1547640" y="549360"/>
            <a:ext cx="6201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тство   Евгения   Родионова.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50920" y="2346480"/>
            <a:ext cx="88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диннадцать лет Евгений Родинов вернулся с летних каникул с крестиком на шее. «Женя, что это?» - спросила его мама Любовь Васильевна. «Это крестик. Я ходил с бабушкой в церковь перед школой, причастился, исповедался, и это мне дали». «Женя, сними, ты что, над тобой будут смеяться». Сын промолчал, но крестика не сня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5"/>
          <p:cNvSpPr txBox="1"/>
          <p:nvPr/>
        </p:nvSpPr>
        <p:spPr>
          <a:xfrm>
            <a:off x="1187280" y="620640"/>
            <a:ext cx="734544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d9de04"/>
                  </a:solidFill>
                  <a:miter/>
                </a:ln>
                <a:solidFill>
                  <a:srgbClr val="e2d7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зыв в армию. </a:t>
            </a:r>
            <a:endParaRPr b="0" lang="en-US" sz="2800" spc="1" strike="noStrike">
              <a:ln w="9360">
                <a:solidFill>
                  <a:srgbClr val="d9de04"/>
                </a:solidFill>
                <a:miter/>
              </a:ln>
              <a:solidFill>
                <a:srgbClr val="e2d7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755640" y="212976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Евгению исполнилось восемнадцать лет, его призвали в армию. Ни о каком увиливании от армии вопрос никогда не стоял. Не пытался увиливать Евгений и тогда, когда его направляли в Чечню. Прощаясь с сыном, Любовь Васильевна очень боялась, что  он попадет в чеченский плен. И вот, что ответил Евгений матери: «Мама, от судьбы еще никто никогда не ушел. Я могу выйти на дорогу, и меня задавит машина. Тебе что, от этого будет легче? А плен… плен – это уже как повезет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i4bfbb1abc1f26"/>
          <p:cNvPicPr/>
          <p:nvPr/>
        </p:nvPicPr>
        <p:blipFill>
          <a:blip r:embed="rId1"/>
          <a:stretch/>
        </p:blipFill>
        <p:spPr>
          <a:xfrm>
            <a:off x="1258920" y="189000"/>
            <a:ext cx="634824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250920" y="2056320"/>
            <a:ext cx="88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 февраля 1996 года, молодых солдат послали дежурить на контрольно-регистрационный пункт, в двухстах метрах от заставы. Этот КРП находился на дороге, по которой чеченские боевики перевозили оружие, боеприпасы и пленных и представлял собою обыкновенную будку без света, без связи, без какой-либо огневой поддержки. Здесь практически безоружные солдаты и были захвачены чеченскими бандит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устя две недели после этого происшествия снегом не до конца засыпало пятно крови на дорог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5"/>
          <p:cNvSpPr txBox="1"/>
          <p:nvPr/>
        </p:nvSpPr>
        <p:spPr>
          <a:xfrm>
            <a:off x="1187280" y="692280"/>
            <a:ext cx="691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хват в плен.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7"/>
          <p:cNvSpPr txBox="1"/>
          <p:nvPr/>
        </p:nvSpPr>
        <p:spPr>
          <a:xfrm>
            <a:off x="395280" y="2205000"/>
            <a:ext cx="8424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  роману   Ч. Т.   Айтматова  "Плаха" 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 на  примере  воина-мученика  Евгения  Родионова.</a:t>
            </a:r>
            <a:endParaRPr b="0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x_4b5436af"/>
          <p:cNvPicPr/>
          <p:nvPr/>
        </p:nvPicPr>
        <p:blipFill>
          <a:blip r:embed="rId1"/>
          <a:stretch/>
        </p:blipFill>
        <p:spPr>
          <a:xfrm>
            <a:off x="250920" y="549360"/>
            <a:ext cx="8713800" cy="58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755640" y="1947240"/>
            <a:ext cx="7873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ченцы захватили Евгения Родионова в плен в ночь с 13 на 14 февраля. Они мучили, жестоко избивали его 100 д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Евгения Родионова был выбор остаться в живых: он мог бы веру сменить, и пойти воевать против своих. Но он сделал свой выбор: не захотел с себя креста снимать. За что ему отрубили голову, а потом эту голову разделили на части, чтобы дух Евгения Родионова их не посещал, но крест снять с шеи не посме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5"/>
          <p:cNvSpPr txBox="1"/>
          <p:nvPr/>
        </p:nvSpPr>
        <p:spPr>
          <a:xfrm>
            <a:off x="971640" y="765000"/>
            <a:ext cx="7129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d403b"/>
                </a:solidFill>
                <a:latin typeface="Arial"/>
              </a:rPr>
              <a:t>Смерть  за  Христ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d403b"/>
              </a:solidFill>
              <a:latin typeface="Arial"/>
              <a:ea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WordArt 5"/>
          <p:cNvSpPr txBox="1"/>
          <p:nvPr/>
        </p:nvSpPr>
        <p:spPr>
          <a:xfrm>
            <a:off x="-3924360" y="836640"/>
            <a:ext cx="17154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9863f"/>
                  </a:solidFill>
                  <a:miter/>
                </a:ln>
                <a:solidFill>
                  <a:srgbClr val="66ff66"/>
                </a:solidFill>
                <a:latin typeface="Arial"/>
              </a:rPr>
              <a:t>Кампания  по  канонизации</a:t>
            </a:r>
            <a:endParaRPr b="0" lang="en-US" sz="4000" spc="1" strike="noStrike">
              <a:ln w="9360">
                <a:solidFill>
                  <a:srgbClr val="f9863f"/>
                </a:solidFill>
                <a:miter/>
              </a:ln>
              <a:solidFill>
                <a:srgbClr val="66ff66"/>
              </a:solidFill>
              <a:latin typeface="Arial"/>
              <a:ea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9863f"/>
                  </a:solidFill>
                  <a:miter/>
                </a:ln>
                <a:solidFill>
                  <a:srgbClr val="66ff66"/>
                </a:solidFill>
                <a:latin typeface="Arial"/>
              </a:rPr>
              <a:t>                                            </a:t>
            </a:r>
            <a:r>
              <a:rPr b="0" lang="en-US" sz="4000" spc="1" strike="noStrike">
                <a:ln w="9360">
                  <a:solidFill>
                    <a:srgbClr val="f9863f"/>
                  </a:solidFill>
                  <a:miter/>
                </a:ln>
                <a:solidFill>
                  <a:srgbClr val="66ff66"/>
                </a:solidFill>
                <a:latin typeface="Arial"/>
              </a:rPr>
              <a:t>«Святого Евгения».                                            </a:t>
            </a:r>
            <a:endParaRPr b="0" lang="en-US" sz="4000" spc="1" strike="noStrike">
              <a:ln w="9360">
                <a:solidFill>
                  <a:srgbClr val="f9863f"/>
                </a:solidFill>
                <a:miter/>
              </a:ln>
              <a:solidFill>
                <a:srgbClr val="66ff66"/>
              </a:solidFill>
              <a:latin typeface="Arial"/>
              <a:ea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611280" y="2932560"/>
            <a:ext cx="82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того как Евгения Родионова обезглавили чеченские боевики, он получил славу современного российского мученика. Как утверждает британская газета pendent, для тысяч прихожан Российской православной церкви он уже стал "Святым Евгением", и кампания по его канонизации в полном разгар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rod-med"/>
          <p:cNvPicPr/>
          <p:nvPr/>
        </p:nvPicPr>
        <p:blipFill>
          <a:blip r:embed="rId1"/>
          <a:stretch/>
        </p:blipFill>
        <p:spPr>
          <a:xfrm>
            <a:off x="826920" y="260280"/>
            <a:ext cx="7667640" cy="634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395280" y="1912680"/>
            <a:ext cx="87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желая дожидаться, пока Церковь рассмотрит его дело, по России уже распространили иконы с изображением солдата-мученика, и тысячи паломников пустились в путешествие по местам, связанным с его жизнью. Некоторые из них прошли больше 600 миль без сна, чтобы попасть сюда, собрались у могилы Евгения , чтобы отметить  годовщину со дня, когда его обезглавленное тело доставили в  Курило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5"/>
          <p:cNvSpPr/>
          <p:nvPr/>
        </p:nvSpPr>
        <p:spPr>
          <a:xfrm>
            <a:off x="755640" y="1769760"/>
            <a:ext cx="78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жимая в руках иконы с изображениями молодого человека, паломники бродили по кладбищу.  Один из них, представившийся священником из тех мест, где родился Евгений, высоко поднимает огромную икону.  На ней мальчишеское лицо Евгения окружено нимб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ломники поют гимны и читают молитвы, осеняют себя крестом, делятся историями из его жизни и напоминают друг другу, почему Евгения надо канонизиров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3961080" cy="63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5"/>
          <p:cNvSpPr txBox="1"/>
          <p:nvPr/>
        </p:nvSpPr>
        <p:spPr>
          <a:xfrm>
            <a:off x="1116000" y="333360"/>
            <a:ext cx="6480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раллель   между   книжным 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  реальным    героями. 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79280" y="2483640"/>
            <a:ext cx="878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ем же сходство героя романа Ч. Айтматова «Плаха» Авдия Каллистратова и воина-мученика Евгения Родионова? Они оба борются со злом, совершают подвиги, показывают христианскую силу и веру. Избранный героями путь заканчивается драматически: они  погибают за Христа. И этим показывают нам объединиться против несправедливости с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в чем же различия героев? Я считаю, что только в одном: Авдий Каллистратов – книжный герой, а Евгений Родионов – реальный человек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4"/>
          <p:cNvSpPr txBox="1"/>
          <p:nvPr/>
        </p:nvSpPr>
        <p:spPr>
          <a:xfrm>
            <a:off x="2411280" y="692280"/>
            <a:ext cx="4535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вод: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468360" y="277812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ая главная и самая страшная, как мне кажется, - это проблема нравственности. Поэтому прежде всего надо стремиться пробуждать в людях сострадание и любовь, честность и бескорыстность, доброту и понимание. Все это пытался пробуждать в людях Авдий Каллистратов и воин-мученик Евгений Родионов, к этому должны стремиться и все 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5"/>
          <p:cNvSpPr/>
          <p:nvPr/>
        </p:nvSpPr>
        <p:spPr>
          <a:xfrm>
            <a:off x="539640" y="850680"/>
            <a:ext cx="799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2d700"/>
                </a:solidFill>
                <a:uFillTx/>
                <a:latin typeface="Arial"/>
              </a:rPr>
              <a:t>Цель работы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иск книжного и реального героев, которым должен подражать мой ровес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e2d700"/>
                </a:solidFill>
                <a:uFillTx/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комиться с романом Ч. Т. Айтматова «Плаха»;выявить основные черты характера главного героя романа  и его взгляды на жиз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сти параллель между главным героем романа и воином-мучеником Евгением Родионов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324000" y="2561760"/>
            <a:ext cx="86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до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хайлович мечтал о совершенном человеке. И до сих пор эта мечта не осуществилась, потому что люди не нашли способ искоренить зло. Русские писатели в своем творчестве не раз пытались распутать узел человеческих судеб, связавший воедино благородство и низость, милосердие и жестокость. Об этом мы узнаем, читая Н. В. Гоголя, Л. Н. Толстого, Ф. М. Достоевского. Вслед за ними наш современник Ч. Айтматов анализирует синтез добра и зла в своем романе «Плах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5577480" y="692280"/>
            <a:ext cx="3399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есть тай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занимаюсь этой тайн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бо хочу быть человеком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. М. Достоев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8" descr=""/>
          <p:cNvPicPr/>
          <p:nvPr/>
        </p:nvPicPr>
        <p:blipFill>
          <a:blip r:embed="rId1"/>
          <a:stretch/>
        </p:blipFill>
        <p:spPr>
          <a:xfrm>
            <a:off x="2195640" y="404640"/>
            <a:ext cx="4591080" cy="6120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9"/>
          <p:cNvSpPr/>
          <p:nvPr/>
        </p:nvSpPr>
        <p:spPr>
          <a:xfrm>
            <a:off x="3708360" y="6093000"/>
            <a:ext cx="31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. Т. Айтм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6"/>
          <p:cNvSpPr txBox="1"/>
          <p:nvPr/>
        </p:nvSpPr>
        <p:spPr>
          <a:xfrm>
            <a:off x="539640" y="476280"/>
            <a:ext cx="8353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f9863f"/>
                  </a:solidFill>
                  <a:miter/>
                </a:ln>
                <a:solidFill>
                  <a:srgbClr val="f9863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рия  создания    романа  "Плаха". </a:t>
            </a:r>
            <a:endParaRPr b="0" i="1" lang="en-US" sz="2800" spc="1" strike="noStrike">
              <a:ln w="9360">
                <a:solidFill>
                  <a:srgbClr val="f9863f"/>
                </a:solidFill>
                <a:miter/>
              </a:ln>
              <a:solidFill>
                <a:srgbClr val="f9863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84360" y="211896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. Айтматов предполагал создать большой синтетический роман "Круговращение", в котором бы была сделана попытка раскрыть многие проблемы молодежи, который вобрал бы к себя и историю Авдия, и историю семьи вол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 романа говорит о том, какой ценной дается плаха - восхождение к ней, и есть ли в этом смысл, в этом пути на крестную му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5"/>
          <p:cNvSpPr txBox="1"/>
          <p:nvPr/>
        </p:nvSpPr>
        <p:spPr>
          <a:xfrm>
            <a:off x="430200" y="692280"/>
            <a:ext cx="871380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лавный герой романа 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его взгляды на жизнь. 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468360" y="2705040"/>
            <a:ext cx="849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дий  Каллистратов, безусловно, из всех персонажей «Плахи» - главный герой романа. Он предстает перед нами мятущимся, ищущим Добр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убежден, что с возрождением Совести исчезнут Потребительство, Жестокость,  Жад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дий посвятил свою жизнь пробуждению в людях добра, а умер от торжествующей зло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WordArt 5"/>
          <p:cNvSpPr txBox="1"/>
          <p:nvPr/>
        </p:nvSpPr>
        <p:spPr>
          <a:xfrm>
            <a:off x="539640" y="549360"/>
            <a:ext cx="82803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амая   страшная  ошибка   Авдия-перевоспитателя.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900000" y="2273040"/>
            <a:ext cx="763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лагал, что в людях так много зла из-за того, что они забыли о секрете человече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ши - раскаянии: "Но как же может человек быть человеком без раскаяния, без того потрясения и прозрения, которые достигаются через осознание вины - в действиях ли, в помыслах ли, через порывы самобичевания или самоосуждения? Путь к истине - повседневный путь к совершенству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5"/>
          <p:cNvSpPr txBox="1"/>
          <p:nvPr/>
        </p:nvSpPr>
        <p:spPr>
          <a:xfrm>
            <a:off x="611280" y="189000"/>
            <a:ext cx="79246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уть    Авдия -     разбудить    в    людях    совесть.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539640" y="1911600"/>
            <a:ext cx="36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"делай как я" остался без внимания со стороны анашистов к Авдию. Обращение к Богу "в душе каждого" вызывает лишь злобное раздражение, наконец, сама попытка доказать неправильность жизни людей  анашистов Обера оказалась трагичной для геро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7" descr=""/>
          <p:cNvPicPr/>
          <p:nvPr/>
        </p:nvPicPr>
        <p:blipFill>
          <a:blip r:embed="rId3"/>
          <a:stretch/>
        </p:blipFill>
        <p:spPr>
          <a:xfrm>
            <a:off x="4572000" y="1268280"/>
            <a:ext cx="4343400" cy="542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6:59:47Z</dcterms:created>
  <dc:creator>Нозимов</dc:creator>
  <dc:description/>
  <dc:language>en-US</dc:language>
  <cp:lastModifiedBy>Admin</cp:lastModifiedBy>
  <dcterms:modified xsi:type="dcterms:W3CDTF">2012-12-05T18:58:47Z</dcterms:modified>
  <cp:revision>50</cp:revision>
  <dc:subject/>
  <dc:title>Слайд 1</dc:title>
</cp:coreProperties>
</file>