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E7C-C50B-4CDC-BC82-E305ED2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CA6-CEA2-4E4A-8C1D-1E58964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3F1-FA1D-4682-8D4E-E0C59A86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8A5-362D-4BEC-BCCD-023BB67A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B01A-4DA9-4F0A-8FEC-2D1B8A8E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299-91E5-4EAF-B337-83A7A04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933-CFAE-4C9B-A9DF-16B6918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CFB5-7574-4296-B05F-02B93DF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1FA-535D-4575-B345-14E24FCD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93DB-D28A-4527-8A1D-29EFD234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2B7-FF31-4055-B838-38C99F3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70B-FDE1-4B44-8244-52F85EC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1670-4674-43D2-BE10-9CB82E9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AE8A-E594-4FF6-8EF0-A7F109D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5DC0-A30A-4873-9243-C1CFF82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62F-25E9-4EB2-A3EF-61B55078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086B-6751-4E4C-BCC3-FF63510F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F83-06E1-4B72-93E5-78AACCA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F70-36AD-4CE1-B496-11520AF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272-1155-41BD-B8C9-716E6B92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14E-3DBF-4513-BDEA-24DA774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EA4-7FD3-4380-A96A-5C333049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B2B-078A-40A0-AFD0-B7F7632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9B3-8C27-4B05-8355-D24580E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2CB0-A025-486D-AB79-C8D6BF0849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D4A-A66D-4BD4-927B-256411412F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822be"/>
                </a:solidFill>
                <a:latin typeface="Arial"/>
              </a:rPr>
              <a:t>Применение новых современных технологий в обучении и воспитании учащихся</a:t>
            </a:r>
            <a:endParaRPr b="0" lang="en-US" sz="57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242e"/>
                </a:solidFill>
                <a:latin typeface="Arial"/>
              </a:rPr>
              <a:t>Педагогическая эффективность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4" descr="sheme1_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Основные ИКТ  в учебном процессе</a:t>
            </a:r>
            <a:br>
              <a:rPr sz="4400"/>
            </a:b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фисные технологии (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Word, Excel, Power Poi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етевые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елекоммуникационные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Офисные технолог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5" name="Picture 4" descr="пр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256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3059280" y="8524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ower 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Офисные технолог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icrosoft Wo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Набор тек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оздание списков и табл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ставка иллюст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Использование шаблонов для создание тек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Офисные технолог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Ex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оздание электронных табли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оздание баз данны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Построение диаграмм и графиков любых ви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4067280" y="2205000"/>
          <a:ext cx="489744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205000"/>
                    <a:ext cx="48974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Сетевые технолог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школьных баз да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школьной медиате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школьной электронной библиоте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компьютерного тестир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ние виртуальной лаборато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«Лучше усваиваются те знания, которые поглощаются с аппетитом»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Анатоль Франс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2" name="Picture 7" descr="21m2"/>
          <p:cNvPicPr/>
          <p:nvPr/>
        </p:nvPicPr>
        <p:blipFill>
          <a:blip r:embed="rId1"/>
          <a:stretch/>
        </p:blipFill>
        <p:spPr>
          <a:xfrm>
            <a:off x="6443640" y="4005360"/>
            <a:ext cx="23605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Интересный уро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ичность учи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держание учебного материа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тоды и приемы обуч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1"/>
          <p:cNvPicPr/>
          <p:nvPr/>
        </p:nvPicPr>
        <p:blipFill>
          <a:blip r:embed="rId1"/>
          <a:stretch/>
        </p:blipFill>
        <p:spPr>
          <a:xfrm>
            <a:off x="5219640" y="242100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Возможности ИК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братная связь между обучаемым и средством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тработка больших объемов информ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Наглядное представ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рхивное хранение информ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втоматизация процесса управления учебной деятель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250920" y="141300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ация оценки  и контроль знания учащихс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эффективности обуч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276720" y="3324240"/>
            <a:ext cx="54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птимизация учебно-воспитательного процесса – это принцип действия педагога, охватывающий все стороны его деятельност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банский Ю.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900000" y="42372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Эффективное примен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8" descr="baby07"/>
          <p:cNvPicPr/>
          <p:nvPr/>
        </p:nvPicPr>
        <p:blipFill>
          <a:blip r:embed="rId1"/>
          <a:stretch/>
        </p:blipFill>
        <p:spPr>
          <a:xfrm>
            <a:off x="324000" y="3645000"/>
            <a:ext cx="2808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242e"/>
                </a:solidFill>
                <a:latin typeface="Arial"/>
              </a:rPr>
              <a:t>Эффективное применение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Picture 6" descr="sheme1_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242e"/>
                </a:solidFill>
                <a:latin typeface="Arial"/>
              </a:rPr>
              <a:t>Применение электронных образовательных изданий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5" name="Picture 4" descr="sheme1_2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242e"/>
                </a:solidFill>
                <a:latin typeface="Arial"/>
              </a:rPr>
              <a:t>Эффективное применен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755640" y="21337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образовательных электронных курсов на уроке дает возможность учителю более глубоко освоить тот или иной теоретический вопро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242e"/>
                </a:solidFill>
                <a:latin typeface="Arial"/>
              </a:rPr>
              <a:t>Эффективность использования компьютера на уроке достигается в следующих случаях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1. Использование мультимедийных курсов при изучении тем, явл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2. Визуализация объектов и явлен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3. Возможность варьировать временные масштаб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4. Средство автоматизации процесса контроля уровня знаний и ум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5. Тестирование и коррекция результатов учебной деятель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6. Использование программных сред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50:28Z</dcterms:created>
  <dc:creator>PC</dc:creator>
  <dc:description/>
  <dc:language>en-US</dc:language>
  <cp:lastModifiedBy>PC</cp:lastModifiedBy>
  <dcterms:modified xsi:type="dcterms:W3CDTF">2012-12-04T12:16:08Z</dcterms:modified>
  <cp:revision>15</cp:revision>
  <dc:subject/>
  <dc:title>Эффективное применение ИКТ на уроках и во внеуроч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