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AE1-B7FE-4A13-9550-78D3FAE5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90A-6599-46D3-999C-B770C6B4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58C-0275-4E70-ACD9-5E9A459B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CEF-D000-49B1-BFB5-6C1637F2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EA0-7073-461C-93A4-0C044BF5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35B-EC10-41D1-A5C0-B44E748C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301-722F-4D74-9F16-6419C101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6BF-DC75-43F8-AFF1-9074F43A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78C9-FFAF-4369-91D2-1AE42764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522-D976-4D6E-AD68-922BFC10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DDB-A202-482B-8423-E3AA9CE5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2F0-785E-40FD-A7AF-B7E4A188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021E-BD42-4F67-AA3D-92D80BB10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19280" y="5949720"/>
            <a:ext cx="64008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МОУ СОШ №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773360"/>
            <a:ext cx="8137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образовани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гарифмических выраж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Свойства логариф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900000" y="836640"/>
                <a:ext cx="410364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859280" y="1125360"/>
                <a:ext cx="3846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86880" y="2060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213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Вычисл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05040" y="2565360"/>
                <a:ext cx="71164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24000" y="3789360"/>
                <a:ext cx="33112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45960" y="4869000"/>
                <a:ext cx="32893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8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5440" y="5877000"/>
                <a:ext cx="33098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219640" y="3789360"/>
                <a:ext cx="36957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219640" y="4797360"/>
                <a:ext cx="35402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sub>
                    </m:sSub>
                    <m:r>
                      <m:t xml:space="preserve">6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92720" y="5805360"/>
                <a:ext cx="34862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6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sub>
                    </m:sSub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гарифмом положительного числа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в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положительному и отличному от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анию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ывают показатель степени, в которую нужно возвести число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чтобы получить число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ример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258920" y="4365720"/>
                <a:ext cx="6553080" cy="23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Вычисли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41920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95280" y="2349360"/>
                <a:ext cx="158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95280" y="1197000"/>
                <a:ext cx="1635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68360" y="3500280"/>
                <a:ext cx="1420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68360" y="4581360"/>
                <a:ext cx="1368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68360" y="5445000"/>
                <a:ext cx="15476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564000" y="1052640"/>
                <a:ext cx="13762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564000" y="2349360"/>
                <a:ext cx="1546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492360" y="3500280"/>
                <a:ext cx="1546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492360" y="4365720"/>
                <a:ext cx="16272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492360" y="5445000"/>
                <a:ext cx="16002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659640" y="1052640"/>
                <a:ext cx="15080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659640" y="2421000"/>
                <a:ext cx="158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659640" y="3429000"/>
                <a:ext cx="1666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588000" y="4365720"/>
                <a:ext cx="1535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659640" y="5661000"/>
                <a:ext cx="14288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войства логариф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24000" y="1989000"/>
                <a:ext cx="446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219640" y="2060640"/>
                <a:ext cx="2865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4000" y="2637000"/>
                <a:ext cx="43210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92720" y="2924280"/>
                <a:ext cx="2865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68360" y="3716280"/>
                <a:ext cx="3095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995640" y="3933720"/>
                <a:ext cx="21099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24000" y="1197000"/>
                <a:ext cx="23749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203640" y="1341360"/>
                <a:ext cx="2808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68360" y="4508640"/>
                <a:ext cx="30654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sub>
                    </m:sSub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995640" y="4869000"/>
                <a:ext cx="21099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68360" y="5589720"/>
                <a:ext cx="26971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708360" y="5950080"/>
                <a:ext cx="27115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Свойства логариф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835280" y="1052640"/>
                <a:ext cx="2376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427640" y="1125360"/>
                <a:ext cx="2736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758160" y="1628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124000" y="1916280"/>
                <a:ext cx="2111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827280" y="25653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Вычисл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95280" y="3068640"/>
                <a:ext cx="2776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0,1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,1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95280" y="4365720"/>
                <a:ext cx="34653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b>
                        </m:sSub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68360" y="5661000"/>
                <a:ext cx="30970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859280" y="2781360"/>
                <a:ext cx="33559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,5</m:t>
                            </m:r>
                          </m:sub>
                        </m:sSub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859280" y="4221000"/>
                <a:ext cx="33577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859280" y="5661000"/>
                <a:ext cx="33987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8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Свойства логариф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39640" y="1197000"/>
                <a:ext cx="4176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076720" y="1268280"/>
                <a:ext cx="2880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37280" y="17208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133720"/>
                <a:ext cx="7705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35480" y="27288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Вычисл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9640" y="3284640"/>
                <a:ext cx="2376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39640" y="4653000"/>
                <a:ext cx="25005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11280" y="5805360"/>
                <a:ext cx="27478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b>
                    </m:sSub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003640" y="3284640"/>
                <a:ext cx="24260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076720" y="4508640"/>
                <a:ext cx="31435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076720" y="5805360"/>
                <a:ext cx="2970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3,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Свойства логариф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84360" y="981000"/>
                <a:ext cx="360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572000" y="1197000"/>
                <a:ext cx="3313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86520" y="17733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900000" y="2133720"/>
                <a:ext cx="60786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756000" y="28526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Вычисл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11280" y="3357720"/>
                <a:ext cx="2892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2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39640" y="4581360"/>
                <a:ext cx="29228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39640" y="5805360"/>
                <a:ext cx="3130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3357720"/>
                <a:ext cx="3011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128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r>
                      <m:t xml:space="preserve">8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003640" y="4437000"/>
                <a:ext cx="28940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003640" y="5805360"/>
                <a:ext cx="35150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Свойства логариф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03280" y="836640"/>
                <a:ext cx="324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859280" y="907920"/>
                <a:ext cx="28814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68360" y="1557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763640" y="1844640"/>
                <a:ext cx="5616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68720" y="2637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Вычисл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68360" y="3087720"/>
                <a:ext cx="32814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2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68360" y="4076640"/>
                <a:ext cx="27255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373720"/>
                <a:ext cx="3058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3068640"/>
                <a:ext cx="4170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6360" y="4292640"/>
                <a:ext cx="3059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643280" y="5373720"/>
                <a:ext cx="31989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Свойства логариф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03280" y="907920"/>
                <a:ext cx="331308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sub>
                    </m:sSub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076720" y="1125360"/>
                <a:ext cx="28828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41800" y="19162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87280" y="2421000"/>
                <a:ext cx="6840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95280" y="3716280"/>
                <a:ext cx="2344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sub>
                    </m:sSub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40000" y="3213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Вычисл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4000" y="4869000"/>
                <a:ext cx="2498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95280" y="5950080"/>
                <a:ext cx="26146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716360" y="3716280"/>
                <a:ext cx="426744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</m:sub>
                    </m:sSub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716360" y="4869000"/>
                <a:ext cx="32292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788000" y="5877000"/>
                <a:ext cx="37670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7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6:45:11Z</dcterms:created>
  <dc:creator>PC</dc:creator>
  <dc:description/>
  <dc:language>en-US</dc:language>
  <cp:lastModifiedBy>PC</cp:lastModifiedBy>
  <dcterms:modified xsi:type="dcterms:W3CDTF">2009-03-17T04:52:06Z</dcterms:modified>
  <cp:revision>16</cp:revision>
  <dc:subject/>
  <dc:title>Слайд 1</dc:title>
</cp:coreProperties>
</file>