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E7A-6279-462F-BD3C-504B0386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382-6D24-49C4-88EE-94E842D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3A0-6140-4FB9-B2B8-2609E92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F2B-41BD-4BF7-AF8C-4D59B4DE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C34A-4EC0-4497-8969-BE217DC6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E935-770A-4185-A73E-4C7C523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4DE7-7387-4A05-AC39-B156EAC9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9604-58AC-4B18-84D0-D3CDB7F3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B420-D68A-40D3-9C76-FB0B9F99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91B-FA1A-4AB3-87B1-E9CA943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B302-F824-40C5-BAD5-6BAE42D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017-F960-4D7D-9260-67E80ED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CB7A-801A-40CE-B487-F4EB1A2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B83-F171-4143-9B31-762E638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3CF5-EA2B-4875-A5C2-4DD8494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8E0-EF57-4CE9-871F-A97A9E9F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BDF-69BF-416E-B05F-84BBFBB4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695-83A0-4ECB-9CB5-6761169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C14-21E2-451D-97FF-46494E5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D3F-3D6A-46A8-92D3-0DB3108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DCA-62FB-41E5-8F43-3346870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A2D-D76A-47C3-B616-2FDEDDC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0E0-DB61-4388-BBF6-154659F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8BE-BC04-4797-9C97-EFCF779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C6C1-04DA-48BF-8A6F-C073E77584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29A-F5C8-4D3C-BE24-13B7A64628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comic"/>
              </a:rPr>
              <a:t>Нефтяная промышленность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6894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бъёмы запасов и добычи неф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4941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запасам нефти Россия занимает 4 место в мире ( 17 млрд. 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объёмам добычи Россия занимает 1 место в мире ( около 500 млн.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337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новные нефтяные баз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6247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46684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дно-Сибирская – 7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лго-Уральская – 2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мано-Печёр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веро-Кавказ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ранспортировка  неф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яжённость нефтепроводов – 48 тыс. к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нефти - 10-12 км/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изводительность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90 млн. тонн нефти в го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направления магистральных нефтепровод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ало-сибирск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веро-запад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го-запад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ж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674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реработка и использов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96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529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течение  многих десятилетий хрупкая северная природа залечивает раны, нанесённые нефтяными разливами. Попадая в реки, нефть убивает там всё живое, в том числе водоплавающих птиц и ры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4032360" cy="326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ути решения проблем нефтяной промышленн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Модернизация старых и строительство новых современных НПЗ, улучшение переработки нефти и качества нефтепроду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Максимально возможное извлечение нефти из эксплуатируемых скважин и сокращение потерь при транспортиров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Освоение новых перспективных месторожд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Жесткий экологический контроль на всех этапах работы нефтяной промышл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50:54Z</dcterms:created>
  <dc:creator>Vova</dc:creator>
  <dc:description/>
  <dc:language>en-US</dc:language>
  <cp:lastModifiedBy>Vova</cp:lastModifiedBy>
  <dcterms:modified xsi:type="dcterms:W3CDTF">2011-11-28T15:19:04Z</dcterms:modified>
  <cp:revision>4</cp:revision>
  <dc:subject/>
  <dc:title>Нефтяная промышленноть</dc:title>
</cp:coreProperties>
</file>