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F295-356B-40AF-B483-0AF66A59D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2616-F5E9-4714-971A-C33045A7E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53BF-8AB1-4BDA-B238-1D759AB7E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C7F0-BC45-4779-8732-AC84EF385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E6AD2-9EB3-41C5-927D-1269E838A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662BE-2E74-4410-B849-8E878F726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154C2-CB03-4109-B2FD-CFDE566EC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BCD6B-4E82-4F78-8068-FA0776305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6C5ED-5DC4-4E7D-9E96-B7B2D5272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9CF18-A3C7-4A8E-9275-9D7110862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45DBA-5596-4822-9A09-22B7D5E5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B5DE-489D-4FB2-8A07-F47B9F386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EF560-B18E-4840-AEBA-7638F2D7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F4405-A66D-4C8C-A99E-3453C5A8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FFA5B-F471-4916-A63F-77DC604EC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38F5B-5565-4FF6-9CDF-F051A4C0F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3B654-8CE5-44CE-AE49-1D7EF1E3A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0AE6-2E84-44A5-B1B9-F20E4D0EE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C1BD-118E-4254-A1C3-3C624884A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4225-843A-4253-AC86-1E29D2703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8388-6D0E-419D-91A1-6DB0F627B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6293-58C1-47DC-8C22-62116543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9AAF-6137-4547-82CB-94C62482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8642-A336-4B62-9BAB-3552DFD1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12265-312E-4772-8357-E1EAF85F7F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1D3E2-B23C-403C-8B8D-005013F0EE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1988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Arial"/>
              </a:rPr>
              <a:t>Попугай Какаду</a:t>
            </a:r>
            <a:br>
              <a:rPr sz="4400"/>
            </a:b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74320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987640" y="333360"/>
            <a:ext cx="2952720" cy="2219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24000" y="3452760"/>
            <a:ext cx="8045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дна из самых знаменитых птиц Какаду обитает в Австралии, Индонезии, Новой Гвинее и на Филиппинских островах. Это очень интересный пернатый, быстрота его движений, комичность жестов и приседаний, распускание и сворачивание хохолка делает этого попугая одним из самых популярных в мире в качестве домашнего питомц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11280" y="476280"/>
            <a:ext cx="2087640" cy="28083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419640" y="476280"/>
            <a:ext cx="2160360" cy="28814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95280" y="429228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Эта порода более либеральна и покладиста: мелкие обиды от людей просто не замечает. Какаду для приручения важно чаще говорить, что он "ну очень хорошая птичка" и процесс пойдёт как по маслу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042920" y="189000"/>
            <a:ext cx="2133720" cy="2619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643280" y="189000"/>
            <a:ext cx="2143440" cy="2619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55640" y="385236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каду насчитывает около 20 видов, которые различаются в основном по размеру, окрасу, длине перьев и хохолк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826920" y="404640"/>
            <a:ext cx="2737080" cy="2160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971640" y="3425760"/>
            <a:ext cx="6840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аду — крупные птицы длиной от 30 до 70 см. В окраске попугая присутствуют белые, чёрные, розовые и жёлтые оттенки, цвет хохолка обычно отличается от остального оперения. Какаду неплохо летают, по деревьям лазают еще лучше, а также прекрасно передвигаются по земле. Продолжительность жизни этих птиц составляет 60-80 лет в зависимости от вида и условий жизн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1T09:31:50Z</dcterms:created>
  <dc:creator>Ildar</dc:creator>
  <dc:description/>
  <dc:language>en-US</dc:language>
  <cp:lastModifiedBy>Ildar</cp:lastModifiedBy>
  <dcterms:modified xsi:type="dcterms:W3CDTF">2012-12-05T13:33:54Z</dcterms:modified>
  <cp:revision>3</cp:revision>
  <dc:subject/>
  <dc:title>Попугай Какаду </dc:title>
</cp:coreProperties>
</file>