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B81-E572-4B88-882A-DD478CDF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56E-A7C7-494C-A4C4-E1F1590C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166-61EA-4145-B107-C06D6CCD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DD1-313D-43BE-88B0-F79C8DEA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D8F6E-47D5-4BAF-BBC3-BEFF672D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8BF2-E57A-4018-9957-84D2287F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1856C-37C3-4672-A9FA-52162D17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95FC5-55F8-44FA-8DC2-768A511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49D3-7B3C-4A03-B812-72CCAD3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5A2F5-70B4-4229-94C0-64A8762C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D99A-4BEE-4BA6-9807-EC9BC35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01B-0C21-49CA-B5B1-A91C98C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280DC-D1B2-4121-95A9-4A109E5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57930-13B5-4E0A-AB99-A65AE20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48FF0-47DF-470B-B0CD-96793EFA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1586E-A398-4CCC-84CA-26D67B46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3E34-7543-4DC5-8EC9-86A6B800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A9C-ADC4-4892-92E8-452DE915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5E9-8A1D-4DA2-A529-80F9E29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A8A-1462-494D-813F-D27B7FA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504-8835-411B-BED5-0BDC7A84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5F-3488-402A-9F00-80EBD91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60C-20DD-42D3-AA4A-788BD74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804-8C64-437D-BDAC-82392373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F5FBEB-1258-410B-8646-5A7141988C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01F194-E582-4C9F-A02B-B58308C0CD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"/>
          <p:cNvSpPr/>
          <p:nvPr/>
        </p:nvSpPr>
        <p:spPr>
          <a:xfrm>
            <a:off x="684360" y="368280"/>
            <a:ext cx="7772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Краснодарский край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4d4d4d"/>
                </a:solidFill>
                <a:uFillTx/>
                <a:latin typeface="Times New Roman"/>
              </a:rPr>
              <a:t>Приморско­- Ахтарский район ст. Бриньковская</a:t>
            </a: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4d4d4d"/>
                </a:solidFill>
                <a:uFillTx/>
                <a:latin typeface="Times New Roman"/>
              </a:rPr>
              <a:t>Муниципальное бюджетное общеобразовательное учреждение средняя общеобразовательная школа № 5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11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Уметь любить человека</a:t>
            </a: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6370560"/>
            <a:ext cx="2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427640" y="5445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Разработала учитель русского языка и литературы МБОУ СОШ № 5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Мамай Т.А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8436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Times New Roman"/>
              </a:rPr>
              <a:t>Урок литературы в 7 классе 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Times New Roman"/>
              </a:rPr>
              <a:t>по рассказу А.П. Платонова «Юшка»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Мотив странств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 В поисках ист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 В поисках душевного покоя, душевной гармонии, которые рождаются от общения с природой (мотив одухотворенной природ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 rot="20231400">
            <a:off x="6877080" y="907560"/>
            <a:ext cx="1081080" cy="824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 rot="20231400">
            <a:off x="6084720" y="4941360"/>
            <a:ext cx="1081080" cy="824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 rot="20231400">
            <a:off x="7667640" y="3212640"/>
            <a:ext cx="10810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4643280" y="549360"/>
            <a:ext cx="396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Зл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нечто дурное, вредное, противоположное добру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острадание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жалость, сочувствие, возбуждаемое несчастьем другого человека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68360" y="476280"/>
            <a:ext cx="410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обр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все положительное, хорошее, полезное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Милосердие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Тайна имени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 Платонова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юш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кровь, животворящая жидкость, значительная потеря которой грозит организму смертью. 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Юш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воплощенное добро, утрата его губительна для людей.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Тайна имени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Ефи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благочестивый, благожелательный, священный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Дмитр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осходит к имени греческой богини плодородия Деметры. Благие зерна, взращенные на плодородной почве родительской любви, приносят щедрые плоды добра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086000"/>
            <a:ext cx="1540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24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размышляйте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Что нужно делать, чтобы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добр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в мире было больш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е чувства вызывает у вас рассказ А. Платонова «Юшка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95280" y="0"/>
            <a:ext cx="442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.П.Платонов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Климентов)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9" name="0002-002-Platonov-psevdonim-pisatelja-vzjat-po-imeni-ottsa-Platona-Firsovicha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899160" cy="4896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5148360" y="5850000"/>
            <a:ext cx="37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1899 г.-1951 г.)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603600"/>
            <a:ext cx="39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335960"/>
            <a:ext cx="475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лся 20 августа( 1 сентября)  1899 года в Ямской слободе на окраине Воронежа, в многодетной семье слесаря железнодорожных мастерских Платона Клементов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годы Великой отечественной войны Платонов - фронтовой корреспондент газеты «Красная звезда». После войны, несмотря на то, что силы  покидают его, им созданы такие произведения, как «Возвращение», «Любовь к Родине», сказка «Уля»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907920"/>
            <a:ext cx="576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Тихая моя Родина!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Ивы, река, соловьи…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Мать моя здесь похоронена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В детские годы мо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- Где же погост? Вы не видели?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Сам я найти не могу. –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Тихо ответили жители: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- это на том берегу…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</a:rPr>
              <a:t>                           </a:t>
            </a:r>
            <a:r>
              <a:rPr b="0" i="1" lang="ru-RU" sz="2800" spc="-1" strike="noStrike">
                <a:solidFill>
                  <a:srgbClr val="003300"/>
                </a:solidFill>
                <a:latin typeface="Times New Roman"/>
              </a:rPr>
              <a:t>(Н.Рубцов)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84360" y="62064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Побеждай зло добром.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017880" cy="536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27702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Юшка и дети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19160" y="1197000"/>
            <a:ext cx="3841560" cy="46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140360" y="907920"/>
          <a:ext cx="4825800" cy="5834160"/>
        </p:xfrm>
        <a:graphic>
          <a:graphicData uri="http://schemas.openxmlformats.org/drawingml/2006/table">
            <a:tbl>
              <a:tblPr/>
              <a:tblGrid>
                <a:gridCol w="2538360"/>
                <a:gridCol w="2287440"/>
              </a:tblGrid>
              <a:tr h="5834160">
                <a:tc>
                  <a:txBody>
                    <a:bodyPr lIns="90000" rIns="90000" tIns="687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и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ставали играть,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жали, кричали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нимали ветки и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сали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нова окликали,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сали, трогали и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кали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ять толкали и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дали комья земли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ее толкали, 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ичали вокруг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шки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лали слишком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ьно…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слышали и не понимали его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довались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87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шка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чего не отвечал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не обижался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ёл тихо и не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крывал лицо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ёл и молчал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пугал и не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нался за ними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трогал и не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чал им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ворил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довался</a:t>
                      </a:r>
                      <a:r>
                        <a:rPr b="0" lang="ru-RU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Юшка и взрослые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744720" cy="46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211640" y="1268280"/>
          <a:ext cx="4683240" cy="4857840"/>
        </p:xfrm>
        <a:graphic>
          <a:graphicData uri="http://schemas.openxmlformats.org/drawingml/2006/table">
            <a:tbl>
              <a:tblPr/>
              <a:tblGrid>
                <a:gridCol w="2448000"/>
                <a:gridCol w="2235240"/>
              </a:tblGrid>
              <a:tr h="485784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ижали его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х сердце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олнялось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той яростью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тут же били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ходили в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есточение и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ли его ещё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ьше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в этом зле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бывали на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емя своё горе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Юшка останавливался, слушал и молчал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ом долго лежал в пыли на дороге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нувшись, он вставал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 меня без понятия любят, сердце у них бывает слепое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Юшка и прохожий</a:t>
            </a:r>
            <a:endParaRPr b="0" lang="en-US" sz="4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404964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43280" y="1197000"/>
          <a:ext cx="4321080" cy="5327280"/>
        </p:xfrm>
        <a:graphic>
          <a:graphicData uri="http://schemas.openxmlformats.org/drawingml/2006/table">
            <a:tbl>
              <a:tblPr/>
              <a:tblGrid>
                <a:gridCol w="2161440"/>
                <a:gridCol w="2159640"/>
              </a:tblGrid>
              <a:tr h="532728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еселый прохожий, знавший Юшку, посмеялся над ним: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Что ты землю нашу топчешь, божье чучело! Хоть бы ты помер, что ли, может, веселее бы стало без тебя…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махнувшись, прохожий с силой злобы толкнул Юшку в грудь, и тот упал навзничь»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которым людям недоступны такие элементарные чувства, как сострадание, доброта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95280" y="301680"/>
            <a:ext cx="446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А теперь 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заглянем в словарь…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755640" y="2276640"/>
            <a:ext cx="3816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00ff"/>
                </a:solidFill>
                <a:latin typeface="Verdana"/>
              </a:rPr>
              <a:t>В словаре С.И.Ожегова</a:t>
            </a:r>
            <a:r>
              <a:rPr b="0" i="1" lang="ru-RU" sz="20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9900ff"/>
                </a:solidFill>
                <a:latin typeface="Verdana"/>
              </a:rPr>
              <a:t>представлены два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9900ff"/>
                </a:solidFill>
                <a:latin typeface="Verdana"/>
              </a:rPr>
              <a:t>значения слова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терзать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- Разрывать на части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- Мучить нравственно.</a:t>
            </a: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3260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716360" y="40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468600" y="384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172520"/>
            <a:ext cx="367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Блажной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(просторечное)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– взбалмошный, неуравновешенный, сумасбродный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о отрицательные черты характера, которые иногда присуши и вам, нужно постараться избавиться от них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780480"/>
            <a:ext cx="352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роткий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злобивый, покорный, смирный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нев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увство сильного возмущения, негодова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Навзничь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(просторечное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прокинувшись на спину, вверх лицом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03:32Z</dcterms:created>
  <dc:creator>Sveta</dc:creator>
  <dc:description/>
  <dc:language>en-US</dc:language>
  <cp:lastModifiedBy>737</cp:lastModifiedBy>
  <dcterms:modified xsi:type="dcterms:W3CDTF">2012-12-05T13:21:36Z</dcterms:modified>
  <cp:revision>45</cp:revision>
  <dc:subject/>
  <dc:title>Сокровенный человек Ефим Дмитриевич(по новелле Платонова «Юшка»</dc:title>
</cp:coreProperties>
</file>