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C42-BDAB-41C4-8EDD-0A5A8ED1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D56-469E-4D23-B119-690C6F05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D52-C9A9-47A0-B65A-1542EB6E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3F8-E746-42E3-9264-0076A848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3596-2F4F-49E2-AD3F-6A868382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1010-3CB1-4CE3-AF83-0E4EEF30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3D0E-FC9F-47A8-80D1-F37639AD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F5B8-1CD3-4594-A84E-90E603C1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EBF0-2755-4455-B5E6-55AF166A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46EA-FE6B-4DDF-A843-6F1B5C0B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9439-D8A0-4F4D-B636-6F0A511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60D-0303-40F5-BC01-5BA9092A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5468-7605-4E71-81BA-CFFA5CBE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C8F6-36B0-489C-9F00-D3CA5A13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F53C-6329-4EB1-84C1-9AB5C4FA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10FB-B638-45C1-8EE8-EB0BE642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CE8E-62B9-41AE-9843-1B8026E5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555-76C7-4BF5-86C4-8247CE71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5B8-585B-4D5A-8003-52E35733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A1A-13B3-43BD-AF7D-CE36B9FD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D75-A1AB-4A08-A278-A51DADEC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EDC-9F79-41A4-9E9C-7F603B69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E43-9462-4C94-B6DF-E96E515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432-F975-4AED-B1ED-8420661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7C7E-D5D3-4C67-9D37-154782ED36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2FB-619F-4319-9564-ACD49C2C71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3;&#1083;&#1080;&#1075;&#1088;&#1072;&#1084;&#1084;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-main-pic" descr="Картинка 37 из 1422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55640" y="4220640"/>
            <a:ext cx="60325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анилова С.В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ОУ «Столипинская СОШ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убцовского райо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32000" y="1773360"/>
            <a:ext cx="662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Impact"/>
              </a:rPr>
              <a:t>Единицы мас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5280" y="476280"/>
            <a:ext cx="835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можно измерять в граммах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9640" y="2205000"/>
            <a:ext cx="8280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 небольших предметов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11280" y="2276640"/>
            <a:ext cx="79214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ктическая рабо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55640" y="54936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единицы массы вы знает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68360" y="1916280"/>
            <a:ext cx="46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лограм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Рисунок 10" descr="Слайд11"/>
          <p:cNvPicPr/>
          <p:nvPr/>
        </p:nvPicPr>
        <p:blipFill>
          <a:blip r:embed="rId1"/>
          <a:srcRect l="61024" t="28346" r="0" b="0"/>
          <a:stretch/>
        </p:blipFill>
        <p:spPr>
          <a:xfrm>
            <a:off x="3276720" y="2708280"/>
            <a:ext cx="2739960" cy="37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71640" y="404640"/>
            <a:ext cx="7416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ой прибор помогает узнать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су предмет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27280" y="1989000"/>
            <a:ext cx="3889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ы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Рисунок 1" descr="сила2"/>
          <p:cNvPicPr/>
          <p:nvPr/>
        </p:nvPicPr>
        <p:blipFill>
          <a:blip r:embed="rId1"/>
          <a:stretch/>
        </p:blipFill>
        <p:spPr>
          <a:xfrm>
            <a:off x="2340000" y="3213000"/>
            <a:ext cx="424980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32000" y="549360"/>
            <a:ext cx="72723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виды весов вы знает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i-main-pic" descr="Картинка 18 из 142265"/>
          <p:cNvPicPr/>
          <p:nvPr/>
        </p:nvPicPr>
        <p:blipFill>
          <a:blip r:embed="rId1"/>
          <a:stretch/>
        </p:blipFill>
        <p:spPr>
          <a:xfrm>
            <a:off x="2973240" y="2308320"/>
            <a:ext cx="3121200" cy="2695320"/>
          </a:xfrm>
          <a:prstGeom prst="rect">
            <a:avLst/>
          </a:prstGeom>
          <a:ln w="0">
            <a:noFill/>
          </a:ln>
        </p:spPr>
      </p:pic>
      <p:pic>
        <p:nvPicPr>
          <p:cNvPr id="168" name="i-main-pic" descr="Картинка 33 из 142265"/>
          <p:cNvPicPr/>
          <p:nvPr/>
        </p:nvPicPr>
        <p:blipFill>
          <a:blip r:embed="rId2"/>
          <a:stretch/>
        </p:blipFill>
        <p:spPr>
          <a:xfrm>
            <a:off x="1979640" y="2205000"/>
            <a:ext cx="5029200" cy="3355920"/>
          </a:xfrm>
          <a:prstGeom prst="rect">
            <a:avLst/>
          </a:prstGeom>
          <a:ln w="0">
            <a:noFill/>
          </a:ln>
        </p:spPr>
      </p:pic>
      <p:pic>
        <p:nvPicPr>
          <p:cNvPr id="169" name="i-main-pic" descr="Картинка 71 из 142265"/>
          <p:cNvPicPr/>
          <p:nvPr/>
        </p:nvPicPr>
        <p:blipFill>
          <a:blip r:embed="rId3"/>
          <a:stretch/>
        </p:blipFill>
        <p:spPr>
          <a:xfrm>
            <a:off x="2124000" y="2205000"/>
            <a:ext cx="4751640" cy="3913200"/>
          </a:xfrm>
          <a:prstGeom prst="rect">
            <a:avLst/>
          </a:prstGeom>
          <a:ln w="0">
            <a:noFill/>
          </a:ln>
        </p:spPr>
      </p:pic>
      <p:pic>
        <p:nvPicPr>
          <p:cNvPr id="170" name="i-main-pic" descr="Картинка 84 из 142265"/>
          <p:cNvPicPr/>
          <p:nvPr/>
        </p:nvPicPr>
        <p:blipFill>
          <a:blip r:embed="rId4"/>
          <a:stretch/>
        </p:blipFill>
        <p:spPr>
          <a:xfrm>
            <a:off x="2411280" y="2349360"/>
            <a:ext cx="3959280" cy="3813480"/>
          </a:xfrm>
          <a:prstGeom prst="rect">
            <a:avLst/>
          </a:prstGeom>
          <a:ln w="0">
            <a:noFill/>
          </a:ln>
        </p:spPr>
      </p:pic>
      <p:pic>
        <p:nvPicPr>
          <p:cNvPr id="171" name="i-main-pic" descr="Картинка 47 из 2167"/>
          <p:cNvPicPr/>
          <p:nvPr/>
        </p:nvPicPr>
        <p:blipFill>
          <a:blip r:embed="rId5"/>
          <a:srcRect l="7559" t="15118" r="0" b="15118"/>
          <a:stretch/>
        </p:blipFill>
        <p:spPr>
          <a:xfrm>
            <a:off x="2195640" y="2781360"/>
            <a:ext cx="48258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619280" y="260280"/>
            <a:ext cx="6553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помощью каких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способлени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авновешивают весы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03640" y="1989000"/>
            <a:ext cx="26701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р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i-main-pic" descr="Картинка 1 из 2167"/>
          <p:cNvPicPr/>
          <p:nvPr/>
        </p:nvPicPr>
        <p:blipFill>
          <a:blip r:embed="rId1"/>
          <a:stretch/>
        </p:blipFill>
        <p:spPr>
          <a:xfrm>
            <a:off x="2050920" y="3429000"/>
            <a:ext cx="4762800" cy="3086280"/>
          </a:xfrm>
          <a:prstGeom prst="rect">
            <a:avLst/>
          </a:prstGeom>
          <a:ln w="0">
            <a:noFill/>
          </a:ln>
        </p:spPr>
      </p:pic>
      <p:pic>
        <p:nvPicPr>
          <p:cNvPr id="176" name="i-main-pic" descr="Картинка 28 из 2167"/>
          <p:cNvPicPr/>
          <p:nvPr/>
        </p:nvPicPr>
        <p:blipFill>
          <a:blip r:embed="rId2"/>
          <a:stretch/>
        </p:blipFill>
        <p:spPr>
          <a:xfrm>
            <a:off x="2124000" y="3225960"/>
            <a:ext cx="4606920" cy="3632040"/>
          </a:xfrm>
          <a:prstGeom prst="rect">
            <a:avLst/>
          </a:prstGeom>
          <a:ln w="0">
            <a:noFill/>
          </a:ln>
        </p:spPr>
      </p:pic>
      <p:pic>
        <p:nvPicPr>
          <p:cNvPr id="177" name="i-main-pic" descr="Картинка 8 из 2167"/>
          <p:cNvPicPr/>
          <p:nvPr/>
        </p:nvPicPr>
        <p:blipFill>
          <a:blip r:embed="rId3"/>
          <a:stretch/>
        </p:blipFill>
        <p:spPr>
          <a:xfrm>
            <a:off x="2124000" y="3213000"/>
            <a:ext cx="489600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619280" y="404640"/>
            <a:ext cx="57610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весит куриц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Рисунок 7" descr="Слайд10"/>
          <p:cNvPicPr/>
          <p:nvPr/>
        </p:nvPicPr>
        <p:blipFill>
          <a:blip r:embed="rId1"/>
          <a:srcRect l="0" t="57743" r="0" b="0"/>
          <a:stretch/>
        </p:blipFill>
        <p:spPr>
          <a:xfrm>
            <a:off x="395280" y="1700280"/>
            <a:ext cx="8497800" cy="40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47640" y="3213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Основная единица веса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авная весу 1 кубическог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антиметра вод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Обознач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333360"/>
            <a:ext cx="61214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вая единица масс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627280" y="1700280"/>
            <a:ext cx="366732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мм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508720" y="5300640"/>
            <a:ext cx="143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 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4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76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40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88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880"/>
                            </p:stCondLst>
                            <p:childTnLst>
                              <p:par>
                                <p:cTn id="20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11823 -0.50393 E">
                                      <p:cBhvr>
                                        <p:cTn id="207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Миллиграм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— одна тысячная часть грамма; обозначение: м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икрограмм — одна миллионная часть грамма; обозначение: мк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нограмм — одна миллиардная часть грамма; обозначение: 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кограмм — одна триллионная часть грамма; обозначение: п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6920" y="476280"/>
            <a:ext cx="777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лее мелкие единицы масс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916360" y="1844640"/>
            <a:ext cx="2950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ысяч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71640" y="333360"/>
            <a:ext cx="777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помни, как переводитс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греческого «кило»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6000" y="2997360"/>
            <a:ext cx="69832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кг = 1000 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8:59:08Z</dcterms:created>
  <dc:creator>User</dc:creator>
  <dc:description/>
  <dc:language>en-US</dc:language>
  <cp:lastModifiedBy>User</cp:lastModifiedBy>
  <dcterms:modified xsi:type="dcterms:W3CDTF">2012-02-18T04:47:30Z</dcterms:modified>
  <cp:revision>3</cp:revision>
  <dc:subject/>
  <dc:title>Слайд 1</dc:title>
</cp:coreProperties>
</file>