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46D-5050-4EFD-A9F1-E13C865E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7E5-A161-4AC1-9EFE-FECD3799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FA0-589B-4538-BDCE-1FD72E9D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2FD-48CC-468C-A3E5-6A578B00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0839-D6F2-428A-A6D4-A27793C5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6179-18B5-4DA1-BDA8-FEED0B09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D61C-2202-4F9D-8F18-923334D7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8E3A-D809-4AF7-B416-64716E38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FC6D-6D1F-4DD9-8535-2CA03BF4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AB8C-5713-41EC-AC7E-18B42189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4E7B-1868-4DF7-B839-ADBCB6A0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56F-ADEB-48E2-B29D-5D3EB488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5CF2-5550-4DA6-B415-585FDE05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4FC7-2AFC-46C0-B937-7FF5D1D5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4DC3-E3A4-48C5-B252-CDB35639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1FF4-6A42-4A3F-B2E9-1778B700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7BFC-822E-4921-9712-E680A06F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44F-37AC-4EFB-BB52-683CFC68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D2F-3471-49B7-BA3A-F732BB5E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71B-8322-4CE9-BC04-DC21584F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442-D21E-4F63-9948-8B2C8F88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4D9-ED69-457D-B68A-B300879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8EF-E95C-4321-9DCF-6B14185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11F-36F6-49C8-A5C6-37B91DF0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81B5-30AB-4470-AFB7-9AD5BC527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5A54-9B1A-446F-9B22-D88064CF0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39640" y="2708280"/>
            <a:ext cx="8136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ndon Zoo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isten to the let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you ever been to London Zo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listen to Bruce’s letter about the zo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ttention! New word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Drop-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брос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Touch-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трогать, прикасать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Stroke-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глад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Hop-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прыгать, скак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Wallaby-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кенгуру (детеныш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en to the letter once again and circle the correct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Circle the correct answer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 Last month Bruce and his family __the zo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saved         b) protected      c)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 They watched the feeding of the pelicans at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11 o’clock  b) 12 o’clock    c) 6 o’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 The pelicans____ for the f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jumped       b) dropped         c) d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 The ____hopped a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goat            b) wallaby          c) sh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 Bruce stroked a _______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kangaroo    b) monkey          c) sh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6 Bruce and Lily laughed at the monkeys because they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played games  b) jumped      c) were fun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 rot="21109200">
            <a:off x="-9360" y="384120"/>
            <a:ext cx="9144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00ff00">
                    <a:alpha val="97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WHAT IS THE ROLE OF LONDON ZOO?</a:t>
            </a:r>
            <a:endParaRPr b="1" i="1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00ff00">
                  <a:alpha val="97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Times New Roman"/>
              </a:rPr>
              <a:t>MY DREAM</a:t>
            </a:r>
            <a:br>
              <a:rPr sz="4000"/>
            </a:br>
            <a:r>
              <a:rPr b="1" lang="en-US" sz="4000" spc="-1" strike="noStrike">
                <a:solidFill>
                  <a:srgbClr val="cc66ff"/>
                </a:solidFill>
                <a:latin typeface="Times New Roman"/>
              </a:rPr>
              <a:t>Gillian Brow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 love all kinds of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Dogs and cats and rabbi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 love all kinds of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Despite their little habi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f I had tones of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D’you know what I would 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 would buy lots of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And have my own zo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But they wouldn’t be in cag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They wouldn't be free to run a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And there’s one thing they would fe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And that is safe and s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esson is devoted to London Z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 we will have a talk about the animal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en to the letter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 we have to answer the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role of London Zoo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843280" cy="2303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3809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267080" cy="6191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o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o f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o jo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he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K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he k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ranslate the world-combin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асать вымирающих живот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ажаться за вымирающих живот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оологическое общество Лонд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всему све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р живот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ды живот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28920" y="1824120"/>
            <a:ext cx="4286160" cy="3209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nswer the 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 Where is London Zo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How many kinds of animals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What wild animals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Where do they li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 Why is it dangerous for animals to live in the for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 Why do the animals live in the zo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What animals are there in London Zo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98760" cy="6165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243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19640" y="4168800"/>
            <a:ext cx="5545080" cy="2689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059280" y="1585800"/>
            <a:ext cx="367344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81024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3809880" cy="2565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50920" y="299736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643280" y="2997360"/>
            <a:ext cx="42865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3019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5145120" cy="3462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284720" y="4005360"/>
            <a:ext cx="4859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645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2924280"/>
            <a:ext cx="3492360" cy="393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780000" y="3789360"/>
            <a:ext cx="49687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789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57840" y="333360"/>
            <a:ext cx="4286160" cy="2514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4286160" cy="2867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788000" y="3429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4:23:29Z</dcterms:created>
  <dc:creator>Администратор</dc:creator>
  <dc:description/>
  <dc:language>en-US</dc:language>
  <cp:lastModifiedBy>Администратор</cp:lastModifiedBy>
  <dcterms:modified xsi:type="dcterms:W3CDTF">2008-11-17T19:51:38Z</dcterms:modified>
  <cp:revision>6</cp:revision>
  <dc:subject/>
  <dc:title>Слайд 1</dc:title>
</cp:coreProperties>
</file>