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CF5-1193-4AFA-9283-F61F06A5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C83-7CFF-4696-82BE-5AEA019A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748-A107-4D8E-B693-C0555B44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C9B2-816F-4E2A-8D0F-DDAE1394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571A-43FA-4A5C-A9DB-71E95EA0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1921-53F9-451C-BC20-04C3D222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CB9C-DAAD-4B0B-BD59-CC9EC179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366C-5E70-4D5C-AB14-749873B0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4812-7DBB-4C23-AF97-D2E631CD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CF0B-47C3-4700-8A0B-03D658C4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71DA-9C2E-4A13-80AB-08D744A0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9B2-62BD-4CBA-935D-CE7E40DD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3555-425F-470A-97D0-4DDE18CF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CF3D-FCF9-40C6-B01C-27445CC5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DB62-E5F8-43A4-BCE9-39597B98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569A-342D-4060-8AE5-3AD126A3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8F38-C1E7-4E8B-8964-7B3E872A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2700A-C195-4C56-8739-FE7EC82B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3296E-45DE-440C-AE4A-63958A75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9993-F969-4A6D-ABBA-11FEBD56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016C4-E463-4650-BB8F-C801500F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3B417-C728-4625-BE60-71B8BCF1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993-E540-432C-A9C4-B7405374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6CB20-0756-4E64-8F88-5193CD8B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57AD7-F0B5-4E0C-A516-110EB9D4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3FF49-29A5-4D68-BCA6-A7D4CC6C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4013-B1EF-4869-AF54-B56AB28E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06325-3FD8-4DDB-BBF5-8A93F228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AC249-2C74-4C7C-B616-245FD1B3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002F1-5811-497F-9BBD-8952BE03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5728-6685-49EF-BDE8-18DA01C5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70657-21A3-42DC-8B36-09AC2C65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14D2-E94B-415A-950D-8EFEE1CC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A96-4F48-4E97-BB67-534EDF82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EAAEF-AF6B-44D1-9D4E-13D071F6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751F6-E8F9-4B33-B403-4587A779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56E1A-C8C2-4296-8BF4-48E50B79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77E12-FE82-4A50-A480-D9911DD5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9DE69-3303-4700-9A9E-DFD86C39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B72FA-0747-4C31-AB25-C4A23534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FA085-F0C6-43DF-B590-0ED094B0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976FC-FBE6-42AF-B5E5-4D860E44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D9E98-D162-4724-8740-DC9F50F0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4D3-FFD5-409D-B7E7-DFF7C937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A1C-A7CA-417D-A148-6A04DA25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003-B69F-443F-8256-4520D14F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79F-EB93-4E41-88D2-8780D513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C02-04F9-46D9-AAF0-A6BAA42E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C113-9798-4B4D-A20B-5E3FC50F24C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531C-9A35-469F-9485-7F0BC015D91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35F0-6C45-44CF-8BCB-F45D14B783E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1FF7-D854-4EE6-8FAD-9C609A7696B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ОТКРЫТОЕ ЗАНЯТИЕ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ФОЛЬКЛОРНОГО КРУЖКА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(1 КЛАСС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ПОДГОТОВИЛА УЧИТЕЛЬ МУЗЫК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МАОУ «СОШ№12  с УИОП» г.ГУБКИНА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БЕЛГОРОДСКОЙ ОБЛАСТ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ТИТОВА ЕЛЕНА ОЛЕГОВН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" descr="лето 1"/>
          <p:cNvPicPr/>
          <p:nvPr/>
        </p:nvPicPr>
        <p:blipFill>
          <a:blip r:embed="rId2"/>
          <a:stretch/>
        </p:blipFill>
        <p:spPr>
          <a:xfrm>
            <a:off x="539640" y="33336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880" y="5514840"/>
            <a:ext cx="580248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1620720" y="-387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"/>
          <p:cNvSpPr/>
          <p:nvPr/>
        </p:nvSpPr>
        <p:spPr>
          <a:xfrm>
            <a:off x="1055880" y="831960"/>
            <a:ext cx="231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Весела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/>
          <p:nvPr/>
        </p:nvSpPr>
        <p:spPr>
          <a:xfrm>
            <a:off x="5266800" y="1544760"/>
            <a:ext cx="227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Бодра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314172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67c8"/>
                </a:solidFill>
                <a:latin typeface="Trebuchet MS"/>
              </a:rPr>
              <a:t>Грустна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"/>
          <p:cNvSpPr/>
          <p:nvPr/>
        </p:nvSpPr>
        <p:spPr>
          <a:xfrm>
            <a:off x="911880" y="4459320"/>
            <a:ext cx="299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d549"/>
                </a:solidFill>
                <a:latin typeface="Trebuchet MS"/>
              </a:rPr>
              <a:t>Задорна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2421000"/>
            <a:ext cx="312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rebuchet MS"/>
              </a:rPr>
              <a:t>Радостна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225360"/>
            <a:ext cx="37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Празднична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"/>
          <p:cNvSpPr/>
          <p:nvPr/>
        </p:nvSpPr>
        <p:spPr>
          <a:xfrm>
            <a:off x="5570640" y="4329000"/>
            <a:ext cx="30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Печальна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"/>
          <p:cNvSpPr/>
          <p:nvPr/>
        </p:nvSpPr>
        <p:spPr>
          <a:xfrm>
            <a:off x="3376440" y="557676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Шутлива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3" descr="F:\чивостик народные инструменты\858867143c479f8e7b9f8aa03eb2ae9a.jpg"/>
          <p:cNvPicPr/>
          <p:nvPr/>
        </p:nvPicPr>
        <p:blipFill>
          <a:blip r:embed="rId2"/>
          <a:stretch/>
        </p:blipFill>
        <p:spPr>
          <a:xfrm>
            <a:off x="684360" y="333360"/>
            <a:ext cx="7956360" cy="5999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3"/>
          <a:stretch/>
        </p:blipFill>
        <p:spPr>
          <a:xfrm>
            <a:off x="7286760" y="0"/>
            <a:ext cx="1857240" cy="3219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4"/>
          <a:stretch/>
        </p:blipFill>
        <p:spPr>
          <a:xfrm>
            <a:off x="6675480" y="4336920"/>
            <a:ext cx="246852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50920" y="-108000"/>
            <a:ext cx="889308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Text Placeholder 2" descr=""/>
          <p:cNvPicPr/>
          <p:nvPr/>
        </p:nvPicPr>
        <p:blipFill>
          <a:blip r:embed="rId2"/>
          <a:stretch/>
        </p:blipFill>
        <p:spPr>
          <a:xfrm>
            <a:off x="1143000" y="1125360"/>
            <a:ext cx="6400800" cy="4824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324000" y="654120"/>
            <a:ext cx="8424720" cy="57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16000" y="5805000"/>
            <a:ext cx="358956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Ай, чу, чу, чу, чу, чу, чу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Я горошек молоч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На чужом точку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На пригорочк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76720" y="5514840"/>
            <a:ext cx="322920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Text Placeholder 2" descr=""/>
          <p:cNvPicPr/>
          <p:nvPr/>
        </p:nvPicPr>
        <p:blipFill>
          <a:blip r:embed="rId2"/>
          <a:stretch/>
        </p:blipFill>
        <p:spPr>
          <a:xfrm>
            <a:off x="611280" y="349200"/>
            <a:ext cx="828180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00720" y="6308280"/>
            <a:ext cx="380520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23640" y="731520"/>
            <a:ext cx="813564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.Посмотрите как у нас-то в мастерско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Там работнички трудятся день-деньской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2. Как начнут они топориком рубить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Молоточком по гвоздочкам колотить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3. А пилами-то пилят, пилят, пилят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о все стороны опилочки летят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4. Время плотничкам работушку кончать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от пойдут они вприсядочку плясать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ипев. Ай, лю-ли, ай лю-ли, ай лю-ли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  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Ай, лю-ли да, ай, лю-ли да, ай лю-л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95280" y="5950080"/>
            <a:ext cx="431028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731520"/>
            <a:ext cx="70754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spcBef>
                <a:spcPts val="11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У нее есть три струны;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>
              <a:spcBef>
                <a:spcPts val="11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Их рукой щипать должны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>
              <a:spcBef>
                <a:spcPts val="11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Можно под нее плясать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>
              <a:spcBef>
                <a:spcPts val="11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И по-русски приседать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24360" y="5516280"/>
            <a:ext cx="600696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На дощечке есть насечки,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Проведи по ним рукой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И услышишь голос звонкий,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Деревянный, озорной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35280" y="6857640"/>
            <a:ext cx="651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Ой, да здравствуйте, ребятушки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Ой, да здравствуйте, учитель наш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-Рада видеть вас, ребятушки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-Рады видеть вас, учитель наш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48000" y="5300280"/>
            <a:ext cx="495792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В руки ты её возьмёшь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То растянешь, то сожмёшь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Звонкая, нарядная,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Русская двухрядная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03280" y="5300640"/>
            <a:ext cx="514332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51280" cy="4754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1042920" y="1125360"/>
            <a:ext cx="3097440" cy="3434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264680" y="480996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Баян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"/>
          <p:cNvSpPr/>
          <p:nvPr/>
        </p:nvSpPr>
        <p:spPr>
          <a:xfrm>
            <a:off x="5819400" y="5243400"/>
            <a:ext cx="22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Гармонь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3880" y="6308280"/>
            <a:ext cx="70992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900000" y="404640"/>
          <a:ext cx="6643440" cy="5760720"/>
        </p:xfrm>
        <a:graphic>
          <a:graphicData uri="http://schemas.openxmlformats.org/drawingml/2006/table">
            <a:tbl>
              <a:tblPr/>
              <a:tblGrid>
                <a:gridCol w="3321720"/>
                <a:gridCol w="3321720"/>
              </a:tblGrid>
              <a:tr h="288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руппа №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ссмотрите изображения инструментов и выберите только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родные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струмен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руппа №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ссмотрите изображения инструментов и выберит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радиционны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инструмент Белгородской обла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руппа №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ссмотрите изображения инструментов и выбери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шумовы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народные инструмен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Прямоугольник 2"/>
          <p:cNvSpPr/>
          <p:nvPr/>
        </p:nvSpPr>
        <p:spPr>
          <a:xfrm>
            <a:off x="900000" y="115920"/>
            <a:ext cx="6083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Мы закончили веселье,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А также наше представление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Тише дудки, тише домры,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До свиданья, люди добры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Умолкает барабан,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Закрываем балаган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8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56898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7280" y="6668640"/>
            <a:ext cx="435132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Три тетёрки тараторк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Тараторили на горк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Тара-тара-тара-ра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Тара-тара-тара-р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03280" y="5805360"/>
            <a:ext cx="528804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8136000" cy="705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2420640"/>
            <a:ext cx="818352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6840360" cy="16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</a:rPr>
              <a:t>Барашеньки крутороженьки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</a:rPr>
              <a:t>по горам ходят, по лесам бродят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979640" y="2289240"/>
            <a:ext cx="439272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7280" y="4508640"/>
            <a:ext cx="71186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ры, гуси и индюшк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Наклевалися петрушк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Побежали за водо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Подавились лебедой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Poultry PSD - &amp;Dcy;&amp;ocy;&amp;mcy;&amp;acy;&amp;shcy;&amp;ncy;&amp;yacy;&amp;yacy; &amp;pcy;&amp;tcy;&amp;icy;&amp;tscy;&amp;acy;"/>
          <p:cNvPicPr/>
          <p:nvPr/>
        </p:nvPicPr>
        <p:blipFill>
          <a:blip r:embed="rId2"/>
          <a:stretch/>
        </p:blipFill>
        <p:spPr>
          <a:xfrm>
            <a:off x="900000" y="0"/>
            <a:ext cx="72010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76720" y="6165360"/>
            <a:ext cx="467064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044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.Пойду я в зеленый сад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орву я два яблочк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й, лёли да лёлюшк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ли ляли лёли лёлюшк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. Сорву я два яблочка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ва яблочка, два наливчатых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пе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3. Два яблочка все катаются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ванушка величаетс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пе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4. Иванушка величает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ед красными девушка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пе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. Перед красными девушкам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лодыми молодушка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</cp:lastModifiedBy>
  <dcterms:modified xsi:type="dcterms:W3CDTF">2012-12-05T18:13:54Z</dcterms:modified>
  <cp:revision>32</cp:revision>
  <dc:subject/>
  <dc:title>Русские народные  музыкальные инструменты</dc:title>
</cp:coreProperties>
</file>