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wmf" ContentType="image/x-wmf"/>
  <Override PartName="/ppt/media/camera.wav" ContentType="audio/x-wav"/>
  <Override PartName="/ppt/media/image21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8.png" ContentType="image/png"/>
  <Override PartName="/ppt/media/image14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13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423-EE23-4DC4-B054-74EE76D2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B7A-CD39-4A1D-AB6A-4CC083FB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5CB-DABC-438A-8C5D-E4B0A650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56E-8A85-4BFF-AFAA-81A2EC5D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DE9D-5CEC-4DB7-9037-AFDF62D7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A5C0-D3FC-4E62-B7E1-B392209E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41AC-E1AC-4BD7-BBD7-FD13DC6A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83F7-3B6F-42B3-81B6-5D152F36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8EE3-7E92-4C32-9A6E-9D605DB9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0F2A-CE08-4CB5-9462-35BBB660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BEBC-B71F-4F15-AAC5-2845BA53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53B-4519-4D7F-8A57-AA8D5F19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9D5E-7085-48B8-AC85-977EB8B0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881-FD68-420D-BC55-84B268CC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6C67-4CD6-4ADD-81BB-C17FEE47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7AD3-B7E6-4BFC-AA03-267358CD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0A37-EAC2-4189-A39F-D311558D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ECBB-CA31-4AA5-948A-C7CCEF5F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08954-D67D-4A59-BB67-659EB1A3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2D5A-AF8B-4E25-A2D6-2D20D15E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BA113-AEAA-4335-BDDF-BC36B052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D793-042A-41D6-B441-61317F71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B2E-40E4-494C-B8C6-2D48C41D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F2F27-D44F-48BC-B999-479ED936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72AD-06EA-47EC-8D3E-599DD355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EF3F3-18F2-43FD-9875-7C3F0B4D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449B-BE5D-49E9-88BC-0BF5B0FB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5391-0B1B-4E95-BCB0-DC43307F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25DE-479E-4499-8AB9-8FDC2291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65C0-673D-4214-83CF-B21BEB2B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F1A97-FE01-4971-ADDE-4172FEC1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E594-A59E-4922-81C5-091F3BFC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5BC9C-EF13-4AEB-A05C-3160EB6A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F9C-4136-4068-B8A6-8F62256C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03B3A-6D6D-40A5-AF40-80BA4ECB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1235-2D41-47BC-82E8-B6EE87B8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110CF-23BE-4394-8F44-1B056762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DD42-48F2-4500-BC9D-C664B342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ADC5-C8FA-42E6-925C-62F6FF03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D1D7-864B-48BC-9830-C1BC5F7B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1CB4B-1CF6-4AAB-9908-28722205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CA43-65EE-454F-9725-FE5F2BF1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9715-8E35-4AA1-9940-C2CF7406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6E3-EE24-4475-86CC-2E2725D7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98C-BB61-400D-AF69-7D1E0A5E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A09-832D-401E-93D2-EE08F50B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321-4AA4-4714-AB2A-08B1CE75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A92-4861-4D21-AF31-48908F32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B7DD-3124-48B2-AC6D-2A92BD49F1C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EFAC-8211-4B3E-8A17-FFE91DEB989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0745-72B8-41E9-8C1F-FA340288577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F595-B9B2-48A8-A80E-69571497AC1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467920" cy="6291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1676520" y="30481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90720" y="15238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666880" y="144792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WordArt 14"/>
          <p:cNvSpPr txBox="1"/>
          <p:nvPr/>
        </p:nvSpPr>
        <p:spPr>
          <a:xfrm>
            <a:off x="3733920" y="762120"/>
            <a:ext cx="50292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PORT IS FUN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16"/>
          <p:cNvSpPr txBox="1"/>
          <p:nvPr/>
        </p:nvSpPr>
        <p:spPr>
          <a:xfrm>
            <a:off x="762120" y="30492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t 4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0" y="0"/>
            <a:ext cx="43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2498760" y="4991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2651400" y="5759280"/>
            <a:ext cx="3548880" cy="642600"/>
          </a:xfrm>
          <a:prstGeom prst="rect">
            <a:avLst/>
          </a:prstGeom>
          <a:noFill/>
          <a:ln w="9360">
            <a:solidFill>
              <a:srgbClr val="212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ABLE TEN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C:\Users\Эльза1\Desktop\Рисунок2.jpg"/>
          <p:cNvPicPr/>
          <p:nvPr/>
        </p:nvPicPr>
        <p:blipFill>
          <a:blip r:embed="rId1"/>
          <a:stretch/>
        </p:blipFill>
        <p:spPr>
          <a:xfrm>
            <a:off x="1471680" y="1052640"/>
            <a:ext cx="59086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2424240" y="5835600"/>
            <a:ext cx="33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OC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2365200" y="549360"/>
            <a:ext cx="4257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026" descr="C:\Documents and Settings\Изображение 010.jpg"/>
          <p:cNvPicPr/>
          <p:nvPr/>
        </p:nvPicPr>
        <p:blipFill>
          <a:blip r:embed="rId1"/>
          <a:stretch/>
        </p:blipFill>
        <p:spPr>
          <a:xfrm>
            <a:off x="2200320" y="1219320"/>
            <a:ext cx="4741920" cy="3743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27"/>
          <p:cNvSpPr/>
          <p:nvPr/>
        </p:nvSpPr>
        <p:spPr>
          <a:xfrm>
            <a:off x="2895480" y="51498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JUM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Эльза1\Desktop\Рисунок1.jpg"/>
          <p:cNvPicPr/>
          <p:nvPr/>
        </p:nvPicPr>
        <p:blipFill>
          <a:blip r:embed="rId1"/>
          <a:stretch/>
        </p:blipFill>
        <p:spPr>
          <a:xfrm>
            <a:off x="826920" y="3240"/>
            <a:ext cx="756144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128520" y="122400"/>
            <a:ext cx="8999640" cy="3944880"/>
          </a:xfrm>
          <a:prstGeom prst="rect">
            <a:avLst/>
          </a:prstGeom>
          <a:ln w="0">
            <a:noFill/>
          </a:ln>
        </p:spPr>
      </p:pic>
      <p:sp>
        <p:nvSpPr>
          <p:cNvPr id="244" name="Oval 8"/>
          <p:cNvSpPr/>
          <p:nvPr/>
        </p:nvSpPr>
        <p:spPr>
          <a:xfrm>
            <a:off x="1798560" y="2997360"/>
            <a:ext cx="7129440" cy="31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general 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508040" y="182880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310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PORT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Object 1024"/>
          <p:cNvGraphicFramePr/>
          <p:nvPr/>
        </p:nvGraphicFramePr>
        <p:xfrm>
          <a:off x="685800" y="1066680"/>
          <a:ext cx="609300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6093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7"/>
          <p:cNvSpPr/>
          <p:nvPr/>
        </p:nvSpPr>
        <p:spPr>
          <a:xfrm>
            <a:off x="762120" y="3048120"/>
            <a:ext cx="4724280" cy="3385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Bookshelf Symbol 7"/>
                <a:ea typeface="Bookshelf Symbol 7"/>
              </a:rPr>
              <a:t></a:t>
            </a:r>
            <a:r>
              <a:rPr b="0" lang="en-GB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hamp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Bookshelf Symbol 7"/>
                <a:ea typeface="Bookshelf Symbol 7"/>
              </a:rPr>
              <a:t></a:t>
            </a:r>
            <a:r>
              <a:rPr b="0" lang="en-GB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mpe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Bookshelf Symbol 7"/>
                <a:ea typeface="Bookshelf Symbol 7"/>
              </a:rPr>
              <a:t></a:t>
            </a:r>
            <a:r>
              <a:rPr b="0" lang="en-GB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g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Bookshelf Symbol 7"/>
                <a:ea typeface="Bookshelf Symbol 7"/>
              </a:rPr>
              <a:t></a:t>
            </a:r>
            <a:r>
              <a:rPr b="0" lang="en-GB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Bookshelf Symbol 7"/>
                <a:ea typeface="Bookshelf Symbol 7"/>
              </a:rPr>
              <a:t></a:t>
            </a:r>
            <a:r>
              <a:rPr b="0" lang="en-GB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r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1790640" y="492120"/>
            <a:ext cx="5562720" cy="121932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5486400" y="3352680"/>
            <a:ext cx="3048120" cy="2667240"/>
          </a:xfrm>
          <a:prstGeom prst="parallelogram">
            <a:avLst>
              <a:gd name="adj" fmla="val 28570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6404760" y="3429000"/>
            <a:ext cx="1211040" cy="2014200"/>
          </a:xfrm>
          <a:prstGeom prst="rect">
            <a:avLst/>
          </a:prstGeom>
          <a:solidFill>
            <a:srgbClr val="b4dc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descri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la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w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6781680" y="3352680"/>
            <a:ext cx="23623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descri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la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w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3200400" y="304920"/>
            <a:ext cx="2819520" cy="838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1050840" y="1676520"/>
            <a:ext cx="496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3124080" y="1447920"/>
            <a:ext cx="2895840" cy="5331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1206360" y="3244680"/>
            <a:ext cx="308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b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disappoin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f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s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304920" y="1620720"/>
            <a:ext cx="9277200" cy="6737400"/>
          </a:xfrm>
          <a:prstGeom prst="rect">
            <a:avLst/>
          </a:prstGeom>
          <a:ln w="0">
            <a:noFill/>
          </a:ln>
        </p:spPr>
      </p:pic>
      <p:sp>
        <p:nvSpPr>
          <p:cNvPr id="259" name="Oval 3"/>
          <p:cNvSpPr/>
          <p:nvPr/>
        </p:nvSpPr>
        <p:spPr>
          <a:xfrm>
            <a:off x="762120" y="457200"/>
            <a:ext cx="2590560" cy="1371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4191120" y="457200"/>
            <a:ext cx="4952880" cy="114300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3413160" y="2590920"/>
            <a:ext cx="19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022640" y="3467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3429000" y="533520"/>
            <a:ext cx="4952880" cy="129528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????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20040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2133720" y="5410080"/>
            <a:ext cx="75960" cy="763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4"/>
          <p:cNvSpPr/>
          <p:nvPr/>
        </p:nvSpPr>
        <p:spPr>
          <a:xfrm>
            <a:off x="3086280" y="380880"/>
            <a:ext cx="3124080" cy="68580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`                                                guess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6400800" y="1676520"/>
            <a:ext cx="2743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pla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w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57200" y="2286000"/>
            <a:ext cx="5562720" cy="45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71040" y="25336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066680" y="2379600"/>
            <a:ext cx="4191120" cy="4480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h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ac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s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2971800" y="1371600"/>
            <a:ext cx="1676520" cy="60948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276720" y="1515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6477120" y="2008080"/>
            <a:ext cx="2666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descri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la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w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3352680" y="609480"/>
            <a:ext cx="3200400" cy="10670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990720" y="3124080"/>
            <a:ext cx="4419360" cy="327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3581280" y="1981080"/>
            <a:ext cx="1905120" cy="60984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1295280" y="3809880"/>
            <a:ext cx="3635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LEB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H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828720" y="42840"/>
            <a:ext cx="5486400" cy="1500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94920" y="1447920"/>
            <a:ext cx="8062920" cy="5410080"/>
          </a:xfrm>
          <a:prstGeom prst="rect">
            <a:avLst/>
          </a:prstGeom>
          <a:solidFill>
            <a:srgbClr val="b4dcfa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04040"/>
                </a:solidFill>
                <a:latin typeface="Trebuchet MS"/>
              </a:rPr>
              <a:t>Sports and our attitude towards sports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04040"/>
                </a:solidFill>
                <a:latin typeface="Trebuchet MS"/>
              </a:rPr>
              <a:t>Keeping fit : what does it mean?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04040"/>
                </a:solidFill>
                <a:latin typeface="Trebuchet MS"/>
              </a:rPr>
              <a:t>How do foreign young people live?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04040"/>
                </a:solidFill>
                <a:latin typeface="Trebuchet MS"/>
              </a:rPr>
              <a:t>Sports in Tatarstan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6553080" y="3809880"/>
            <a:ext cx="2286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descri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la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w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1790640" y="304920"/>
            <a:ext cx="5410440" cy="7617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022640" y="495360"/>
            <a:ext cx="161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98700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6324480" y="76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6629400" y="1523880"/>
            <a:ext cx="1295280" cy="30492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7543800" y="12344400"/>
            <a:ext cx="8991720" cy="220968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0" y="468360"/>
            <a:ext cx="527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ath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capt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c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comment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compet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- f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- personal trai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- p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- run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- spect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-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6" descr="C:\Users\Эльза1\Desktop\Рисунок1.jpg"/>
          <p:cNvPicPr/>
          <p:nvPr/>
        </p:nvPicPr>
        <p:blipFill>
          <a:blip r:embed="rId1"/>
          <a:stretch/>
        </p:blipFill>
        <p:spPr>
          <a:xfrm>
            <a:off x="4281480" y="2852640"/>
            <a:ext cx="4799160" cy="39830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"/>
          <p:cNvSpPr/>
          <p:nvPr/>
        </p:nvSpPr>
        <p:spPr>
          <a:xfrm>
            <a:off x="2367000" y="838080"/>
            <a:ext cx="42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OW TO KEEP F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457200" y="1523880"/>
            <a:ext cx="59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 SMOKING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 ALCOHOL DRINKING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. GOING IN FOR S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. EATING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ER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6" descr="C:\Documents and Settings\Администратор\Мои документы\use9.png"/>
          <p:cNvPicPr/>
          <p:nvPr/>
        </p:nvPicPr>
        <p:blipFill>
          <a:blip r:embed="rId2"/>
          <a:stretch/>
        </p:blipFill>
        <p:spPr>
          <a:xfrm>
            <a:off x="7313760" y="1523880"/>
            <a:ext cx="1704960" cy="1328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C:\Documents and Settings\Администратор\Мои документы\use7.png"/>
          <p:cNvPicPr/>
          <p:nvPr/>
        </p:nvPicPr>
        <p:blipFill>
          <a:blip r:embed="rId3"/>
          <a:stretch/>
        </p:blipFill>
        <p:spPr>
          <a:xfrm>
            <a:off x="7559640" y="214200"/>
            <a:ext cx="1486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689040" y="171360"/>
            <a:ext cx="8210520" cy="2181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1042920" y="22046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What is the girl’s nam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She starts her day doing exercises, doesn’t sh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What does she do th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Her favourite sport is tennis, isn’t i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Do you like the way she live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Is there anything that prevents you from leading such way of liv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Rectangle 2" descr=""/>
          <p:cNvPicPr/>
          <p:nvPr/>
        </p:nvPicPr>
        <p:blipFill>
          <a:blip r:embed="rId1"/>
          <a:stretch/>
        </p:blipFill>
        <p:spPr>
          <a:xfrm>
            <a:off x="689040" y="-201600"/>
            <a:ext cx="8040600" cy="3060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60948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040"/>
                </a:solidFill>
                <a:latin typeface="Trebuchet MS"/>
              </a:rPr>
              <a:t>Nomadic– a group of people who do not live in one plac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040"/>
                </a:solidFill>
                <a:latin typeface="Trebuchet MS"/>
              </a:rPr>
              <a:t>Shooting– a sport in which guns are use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040"/>
                </a:solidFill>
                <a:latin typeface="Trebuchet MS"/>
              </a:rPr>
              <a:t>Wrestling– a sport in which two people fight by holding each oth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040"/>
                </a:solidFill>
                <a:latin typeface="Trebuchet MS"/>
              </a:rPr>
              <a:t>A prize winner– someone who wins a competition and gets a priz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4560" y="4114800"/>
            <a:ext cx="8839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12745"/>
                </a:solidFill>
                <a:latin typeface="Trebuchet MS"/>
              </a:rPr>
              <a:t>1.    _______________ didn’t live in one plac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12745"/>
                </a:solidFill>
                <a:latin typeface="Trebuchet MS"/>
              </a:rPr>
              <a:t>2.________ wrote books about chess in Tata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12745"/>
                </a:solidFill>
                <a:latin typeface="Trebuchet MS"/>
              </a:rPr>
              <a:t>3.________ became a bronze winner in 2002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985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0" y="762120"/>
            <a:ext cx="9553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. ________ won a silver medal in 200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. ______ took part in the 27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Olympic G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. _______is one of the best hockey teams in Russ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7. _____ wear clothes of the symbolic colours of Tatarst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620720" y="353880"/>
            <a:ext cx="767556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07880" y="1407960"/>
            <a:ext cx="72313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2590920" y="57592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ADMIN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C:\Users\Эльза1\Desktop\Рисунок1.jpg"/>
          <p:cNvPicPr/>
          <p:nvPr/>
        </p:nvPicPr>
        <p:blipFill>
          <a:blip r:embed="rId1"/>
          <a:stretch/>
        </p:blipFill>
        <p:spPr>
          <a:xfrm>
            <a:off x="2268360" y="1409760"/>
            <a:ext cx="51832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2347560" y="568332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K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5" descr="C:\Users\Эльза1\Desktop\Рисунок2.jpg"/>
          <p:cNvPicPr/>
          <p:nvPr/>
        </p:nvPicPr>
        <p:blipFill>
          <a:blip r:embed="rId1"/>
          <a:stretch/>
        </p:blipFill>
        <p:spPr>
          <a:xfrm>
            <a:off x="2556000" y="1484280"/>
            <a:ext cx="40258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3186360" y="522612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KI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C:\Users\Эльза1\Desktop\Рисунок4.jpg"/>
          <p:cNvPicPr/>
          <p:nvPr/>
        </p:nvPicPr>
        <p:blipFill>
          <a:blip r:embed="rId1"/>
          <a:stretch/>
        </p:blipFill>
        <p:spPr>
          <a:xfrm>
            <a:off x="2664000" y="692280"/>
            <a:ext cx="343512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3337200" y="545472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C:\Users\Эльза1\Desktop\Рисунок5.jpg"/>
          <p:cNvPicPr/>
          <p:nvPr/>
        </p:nvPicPr>
        <p:blipFill>
          <a:blip r:embed="rId1"/>
          <a:stretch/>
        </p:blipFill>
        <p:spPr>
          <a:xfrm>
            <a:off x="2646360" y="1268280"/>
            <a:ext cx="37497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2666880" y="5562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WIM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4" descr="C:\Users\Эльза1\Desktop\Рисунок6.jpg"/>
          <p:cNvPicPr/>
          <p:nvPr/>
        </p:nvPicPr>
        <p:blipFill>
          <a:blip r:embed="rId1"/>
          <a:stretch/>
        </p:blipFill>
        <p:spPr>
          <a:xfrm>
            <a:off x="2195640" y="1773360"/>
            <a:ext cx="4605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5:18:26Z</dcterms:created>
  <dc:creator>elza</dc:creator>
  <dc:description/>
  <dc:language>en-US</dc:language>
  <cp:lastModifiedBy>Эльза1</cp:lastModifiedBy>
  <dcterms:modified xsi:type="dcterms:W3CDTF">2012-12-05T17:16:02Z</dcterms:modified>
  <cp:revision>74</cp:revision>
  <dc:subject/>
  <dc:title>Презентация PowerPoint</dc:title>
</cp:coreProperties>
</file>