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3CB-CB90-4C44-84CD-01CA271B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559-4941-49D8-A7E3-AFE3E37B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0A4-A5B8-483C-BF0A-6F8889BB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AE5-3D09-41E5-A3DC-8A5972BB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EB2C-833D-493F-BC77-9C7D560E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8D75-6BC0-47D2-8D2D-BFAEF2E0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7EAF-FE91-488F-B2AD-A16F2661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7CD1-2C74-4EB6-8C22-0742AA79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EAE-1D22-47BE-AC12-01434A2A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768B-7016-4C97-BE2A-E2CA7B1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EF08-84D1-42B8-9673-30A0E87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934-7B2C-45BE-B778-CD21DFB8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D3ED-CE66-4B90-A7E1-E87726C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4D97-F08B-46C7-B014-9C5BED4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60D2-D1B5-4276-83AB-10C98151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874C-0907-4798-8ABC-FAA5B64D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9325-D282-4093-891D-DC9121E1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ADE-1AED-423E-B886-C26E7A00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B0F-7119-4464-AADB-6AD90AA8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4B4-CF62-4644-880E-9D04DC66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28E-F8F5-4B1C-8A99-C65D4694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149-EAA4-42C2-BA9C-04371CD3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B2D-6CBB-42E5-9A3D-43F80BE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880-6532-454D-BD91-9C220B9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EBB9-36CB-4283-8E34-171997F9B0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5FF0-469F-406B-94A5-3A4163B078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7;&#1074;&#1088;" TargetMode="External"/><Relationship Id="rId2" Type="http://schemas.openxmlformats.org/officeDocument/2006/relationships/hyperlink" Target="https://ru.wikipedia.org/wiki/&#1055;&#1072;&#1088;&#1080;&#1078;" TargetMode="External"/><Relationship Id="rId3" Type="http://schemas.openxmlformats.org/officeDocument/2006/relationships/hyperlink" Target="https://ru.wikipedia.org/wiki/&#1060;&#1088;&#1072;&#1085;&#1094;&#1080;&#1103;" TargetMode="External"/><Relationship Id="rId4" Type="http://schemas.openxmlformats.org/officeDocument/2006/relationships/hyperlink" Target="https://ru.wikipedia.org/wiki/1875" TargetMode="External"/><Relationship Id="rId5" Type="http://schemas.openxmlformats.org/officeDocument/2006/relationships/hyperlink" Target="https://ru.wikipedia.org/wiki/&#1052;&#1077;&#1090;&#1088;&#1080;&#1095;&#1077;&#1089;&#1082;&#1072;&#1103;_&#1082;&#1086;&#1085;&#1074;&#1077;&#1085;&#1094;&#1080;&#1103;" TargetMode="External"/><Relationship Id="rId6" Type="http://schemas.openxmlformats.org/officeDocument/2006/relationships/hyperlink" Target="https://ru.wikipedia.org/wiki/&#1057;&#1048;" TargetMode="External"/><Relationship Id="rId7" Type="http://schemas.openxmlformats.org/officeDocument/2006/relationships/hyperlink" Target="https://ru.wikipedia.org/wiki/&#1069;&#1090;&#1072;&#1083;&#1086;&#1085;" TargetMode="External"/><Relationship Id="rId8" Type="http://schemas.openxmlformats.org/officeDocument/2006/relationships/hyperlink" Target="https://ru.wikipedia.org/wiki/&#1045;&#1076;&#1080;&#1085;&#1080;&#1094;&#1072;_&#1080;&#1079;&#1084;&#1077;&#1088;&#1077;&#1085;&#1080;&#1103;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9;&#1090;&#1072;&#1083;&#1086;&#1085;" TargetMode="External"/><Relationship Id="rId2" Type="http://schemas.openxmlformats.org/officeDocument/2006/relationships/hyperlink" Target="https://ru.wikipedia.org/wiki/&#1062;&#1080;&#1083;&#1080;&#1085;&#1076;&#1088;" TargetMode="External"/><Relationship Id="rId3" Type="http://schemas.openxmlformats.org/officeDocument/2006/relationships/hyperlink" Target="https://ru.wikipedia.org/wiki/&#1055;&#1083;&#1072;&#1090;&#1080;&#1085;&#1086;&#1080;&#1088;&#1080;&#1076;&#1080;&#1077;&#1074;&#1099;&#1081;_&#1089;&#1087;&#1083;&#1072;&#1074;" TargetMode="External"/><Relationship Id="rId4" Type="http://schemas.openxmlformats.org/officeDocument/2006/relationships/hyperlink" Target="https://ru.wikipedia.org/wiki/&#1051;&#1080;&#1090;&#1088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371240"/>
            <a:ext cx="849636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8640"/>
            <a:ext cx="6400800" cy="16556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Т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570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41e78"/>
                </a:solidFill>
                <a:latin typeface="Arial"/>
              </a:rPr>
              <a:t>ВЕСЫ БЫВАЮТ РАЗНЫЕ ….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1640" y="2997000"/>
            <a:ext cx="7507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vesy(1)"/>
          <p:cNvPicPr/>
          <p:nvPr/>
        </p:nvPicPr>
        <p:blipFill>
          <a:blip r:embed="rId1"/>
          <a:stretch/>
        </p:blipFill>
        <p:spPr>
          <a:xfrm>
            <a:off x="5148360" y="2133720"/>
            <a:ext cx="3611520" cy="4468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1" name="Picture 6" descr="13-02"/>
          <p:cNvPicPr/>
          <p:nvPr/>
        </p:nvPicPr>
        <p:blipFill>
          <a:blip r:embed="rId2"/>
          <a:stretch/>
        </p:blipFill>
        <p:spPr>
          <a:xfrm>
            <a:off x="611280" y="2133720"/>
            <a:ext cx="3743280" cy="351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2" name="Picture 7" descr="010227_190x190_sm"/>
          <p:cNvPicPr/>
          <p:nvPr/>
        </p:nvPicPr>
        <p:blipFill>
          <a:blip r:embed="rId3"/>
          <a:stretch/>
        </p:blipFill>
        <p:spPr>
          <a:xfrm>
            <a:off x="3348000" y="4483080"/>
            <a:ext cx="2374920" cy="2374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c0039"/>
                </a:solidFill>
                <a:latin typeface="Arial"/>
              </a:rPr>
              <a:t>МЕТОДЫ ВЗВЕШИВАНИЯ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79640" y="1196640"/>
            <a:ext cx="685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замещения (метод Борда) заключается в том, что после уравновешивания тела тарным грузом (обрезками металла, дробью и т.п.), помещенным на другом плече коромысла, тело снимают с весов и на его место помещают гири в таком количестве, чтобы привести весы в исходное положение равновесия. Массу взвешиваемого тела опреде-ляют по массе гирь и по показанию весов, соответствующему неуравно-вешенной гирями части мас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-100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23640" y="260280"/>
            <a:ext cx="671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етоде Д. И. Менделеева на одну из чашек помещают гири в количестве, соответствующем предельной нагрузке весов, а на другую чашку — тарный груз, уравновешивающий гири. Взвешиваемое тело помещают на чашку с гирями, снимая при этом столько гирь, чтобы весы пришли в положение, близкое к исходному положению равновесия. Массу взвешиваемого тела определяют по массе снятых гирь и по показанию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26920" y="549000"/>
            <a:ext cx="57610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8c0039"/>
                </a:solidFill>
                <a:latin typeface="Arial"/>
              </a:rPr>
              <a:t>КОНЕЦ!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31640" y="4437000"/>
            <a:ext cx="570708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удариковой Юлии 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0227c"/>
                </a:solidFill>
                <a:latin typeface="Arial"/>
              </a:rPr>
              <a:t>ВЗАИМОДЕЙСТВИЕ – ДЕЙСТВИЕ ТЕЛ ДРУГ НА ДРУГА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68360" y="2492280"/>
            <a:ext cx="657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одного тела на другое не может быть односторонним, оба тела действуют друг на друга, т.е взаимодей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заимодействия оба тела могут изменить свою ско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63280" y="188640"/>
            <a:ext cx="7380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 взаимодействия       зависит от массы тел, тело меньшей массой изменяет свою скорость больше, а тело с большей массой изменяет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2627280" y="3398760"/>
            <a:ext cx="5761080" cy="345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264000" cy="11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Инертность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8000" y="1699920"/>
            <a:ext cx="723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ертность – свойство тела, характеризующие его способность, менять ско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ленное изменение скорости -тело более инертно(большая масс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строе изменение скорости – тело менее инертно(меньшая мас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280" y="189000"/>
            <a:ext cx="5400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c0039"/>
                </a:solidFill>
                <a:latin typeface="Arial"/>
              </a:rPr>
              <a:t>МАССА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95640" y="1483920"/>
            <a:ext cx="664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са – физическая величина, характеризующая инертность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ица массы – 1 кг(в С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г = 10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т = 100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 = 1000 м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 = 0,001 к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мг = 0,00000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58c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00358c"/>
                </a:solidFill>
                <a:latin typeface="Arial"/>
              </a:rPr>
              <a:t>МЕЖДУНАРОДНОЕ БЮРО</a:t>
            </a:r>
            <a:br>
              <a:rPr sz="4400"/>
            </a:br>
            <a:r>
              <a:rPr b="1" lang="ru-RU" sz="4400" spc="-1" strike="noStrike">
                <a:solidFill>
                  <a:srgbClr val="00358c"/>
                </a:solidFill>
                <a:latin typeface="Arial"/>
              </a:rPr>
              <a:t>                     МЕР И ВЕСОВ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3908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ое бюро мер и весов, МБМВ    — постоянно действующая международная организация со штаб-квартирой, расположенной в городе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Сев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редместье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Париж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Фран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о в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187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г., вместе с подписанием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Метрической конвен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сновная задача Бюро заключается в обеспечении существования единой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системы измерен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о всех странах-участницах этой конв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БМВ хранятся международные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этало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сновных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едини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70200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c0039"/>
                </a:solidFill>
                <a:latin typeface="Arial"/>
              </a:rPr>
              <a:t>Один из эталонов   массы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000" y="1699920"/>
            <a:ext cx="68756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й прототип (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этало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килограмма  представляет собой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цилинд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иаметром и высотой 39.17 мм из 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платино-иридиевого сплав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90 % платины, 10 % иридия). Первоначально килограмм определялся как масса одного кубического дециметра (</a:t>
            </a: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лит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чистой воды при температуре 4 °C и стандартном атмосферном давлении на уровне мо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250px-CGKilogram"/>
          <p:cNvPicPr/>
          <p:nvPr/>
        </p:nvPicPr>
        <p:blipFill>
          <a:blip r:embed="rId5"/>
          <a:stretch/>
        </p:blipFill>
        <p:spPr>
          <a:xfrm>
            <a:off x="0" y="2276640"/>
            <a:ext cx="2484360" cy="2396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32360" y="-4081320"/>
            <a:ext cx="30636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35280" y="333360"/>
            <a:ext cx="730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2011 году XXIV Генеральная конференция по мерам и весам приняла Резолюцию, в которой предложено в будущей ревизии Международной системы единиц (СИ) продолжить переопределение основных единиц таким образом, чтобы они были основаны не на созданных человеком артефактах, а на фундаментальных физических постоянных или свойствах ато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20px-Standard_kilogram,_2"/>
          <p:cNvPicPr/>
          <p:nvPr/>
        </p:nvPicPr>
        <p:blipFill>
          <a:blip r:embed="rId1"/>
          <a:stretch/>
        </p:blipFill>
        <p:spPr>
          <a:xfrm>
            <a:off x="0" y="3500280"/>
            <a:ext cx="2052720" cy="2406960"/>
          </a:xfrm>
          <a:prstGeom prst="rect">
            <a:avLst/>
          </a:prstGeom>
          <a:ln w="76320">
            <a:solidFill>
              <a:srgbClr val="8c0039"/>
            </a:solidFill>
            <a:miter/>
          </a:ln>
        </p:spPr>
      </p:pic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c0039"/>
                </a:solidFill>
                <a:latin typeface="Arial"/>
              </a:rPr>
              <a:t>ВЗВЕШИВАНИЕ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2920" y="1600200"/>
            <a:ext cx="419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способ измерения массы тела –взвеши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vesy"/>
          <p:cNvPicPr/>
          <p:nvPr/>
        </p:nvPicPr>
        <p:blipFill>
          <a:blip r:embed="rId1"/>
          <a:stretch/>
        </p:blipFill>
        <p:spPr>
          <a:xfrm>
            <a:off x="611280" y="1628640"/>
            <a:ext cx="4006800" cy="4896000"/>
          </a:xfrm>
          <a:prstGeom prst="rect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6:52:35Z</dcterms:created>
  <dc:creator>бытовая техника</dc:creator>
  <dc:description/>
  <dc:language>en-US</dc:language>
  <cp:lastModifiedBy>Пользователь</cp:lastModifiedBy>
  <dcterms:modified xsi:type="dcterms:W3CDTF">2012-11-28T12:56:26Z</dcterms:modified>
  <cp:revision>6</cp:revision>
  <dc:subject/>
  <dc:title>ВЗАИМОДЕЙСТВИЕ</dc:title>
</cp:coreProperties>
</file>