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8FF-CF25-4280-B342-1CF4B3CE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E93-A90E-4EB0-BCD5-DAEC8D22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34-2188-4018-973E-B4377981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0CA-980C-4680-8E64-4131AD8E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179-F329-45FF-905E-363451A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897-24D9-4A26-ACE8-09C284C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801-3A54-4F01-AA9F-C602C263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C4-6B6D-4D61-AA39-AF0F8DE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0DD-7831-4CA3-9C16-EDF3739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588-C242-49AE-ADBE-FDAF0E8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385-B650-4311-AFA8-87BF224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D19-9248-400A-9D79-8ECE5A1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7B39-B0B4-41D8-9D2E-63841652E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Яснополянская шко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838080" y="304920"/>
            <a:ext cx="7086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13" descr="tolstoy-school1"/>
          <p:cNvPicPr/>
          <p:nvPr/>
        </p:nvPicPr>
        <p:blipFill>
          <a:blip r:embed="rId3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00096134"/>
          <p:cNvPicPr/>
          <p:nvPr/>
        </p:nvPicPr>
        <p:blipFill>
          <a:blip r:embed="rId1"/>
          <a:stretch/>
        </p:blipFill>
        <p:spPr>
          <a:xfrm>
            <a:off x="990720" y="152280"/>
            <a:ext cx="739116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1010541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колаев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лст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28-19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e52ae06ccda182e445c5c1739cdce442"/>
          <p:cNvPicPr/>
          <p:nvPr/>
        </p:nvPicPr>
        <p:blipFill>
          <a:blip r:embed="rId1"/>
          <a:stretch/>
        </p:blipFill>
        <p:spPr>
          <a:xfrm>
            <a:off x="380880" y="914400"/>
            <a:ext cx="403884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3"/>
          <p:cNvPicPr/>
          <p:nvPr/>
        </p:nvPicPr>
        <p:blipFill>
          <a:blip r:embed="rId1"/>
          <a:stretch/>
        </p:blipFill>
        <p:spPr>
          <a:xfrm>
            <a:off x="380880" y="380880"/>
            <a:ext cx="3429000" cy="406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120px-L"/>
          <p:cNvPicPr/>
          <p:nvPr/>
        </p:nvPicPr>
        <p:blipFill>
          <a:blip r:embed="rId2"/>
          <a:stretch/>
        </p:blipFill>
        <p:spPr>
          <a:xfrm>
            <a:off x="4343400" y="2362320"/>
            <a:ext cx="4572000" cy="39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200px-L"/>
          <p:cNvPicPr/>
          <p:nvPr/>
        </p:nvPicPr>
        <p:blipFill>
          <a:blip r:embed="rId1"/>
          <a:stretch/>
        </p:blipFill>
        <p:spPr>
          <a:xfrm>
            <a:off x="1828800" y="304920"/>
            <a:ext cx="6248520" cy="624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225px-Tolstoy_and_his_grandchildrens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249832517_29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illipok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-0003"/>
          <p:cNvPicPr/>
          <p:nvPr/>
        </p:nvPicPr>
        <p:blipFill>
          <a:blip r:embed="rId1"/>
          <a:stretch/>
        </p:blipFill>
        <p:spPr>
          <a:xfrm>
            <a:off x="304920" y="457200"/>
            <a:ext cx="426708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tolstoy-school3"/>
          <p:cNvPicPr/>
          <p:nvPr/>
        </p:nvPicPr>
        <p:blipFill>
          <a:blip r:embed="rId2"/>
          <a:stretch/>
        </p:blipFill>
        <p:spPr>
          <a:xfrm>
            <a:off x="487692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ttach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04T15:56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