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A0D9-6A96-4D87-9EAA-4716FB627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C243-0AF1-4E5E-A6BD-CB41A3B9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2D85-0873-4A54-BE3F-52F7EFE72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859E-2664-465C-8BFC-7EFC33ED7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56F9-6666-48ED-B7E5-6E6AD23D8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30B5-09B6-4CEF-8A3E-2CC5D962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5A62-2F9A-42C8-AF0E-A3AFE03E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E422-4795-400E-B847-688AAAF5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FE87-9AD8-49C7-AA49-482CF582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EA70-DB01-441A-9E55-2538745F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C05C-09E1-434B-B6E0-277BE9BA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486B-E520-4DB4-8B36-2AD16935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8E53-2647-4D2D-B674-14DD094C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F69D-0A7A-4707-8D25-AB489018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A97D-8076-461B-BF90-FFD7B2BA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50B0-A4CD-4E8D-8AF3-209A43398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9F31-7F76-465D-9C9B-559D60DF5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12D7-F3CA-4081-B664-4EC9846F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2F95-7155-4740-9D7A-60F320CF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266D-2362-496A-BCCA-82BC8D24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7B03-DA03-43EC-BE7C-A52764E1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0C7D-F1CB-4D23-B7DF-B6D52815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58E8-2CAA-468B-8EEF-B7981896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75AD-E6C7-4A30-B2C9-C2EF14CE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A516-FA9D-4B3A-BADE-36F8DB774A3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1803-FD58-4461-BD31-45B76B31905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hop.top-kniga.ru/data/m_ishc/1061/1061180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Документ, в котором определены права и обязанности детей, называется                   </a:t>
            </a:r>
            <a:r>
              <a:rPr b="1" i="1" lang="en-US" sz="5400" spc="-1" strike="noStrike">
                <a:solidFill>
                  <a:srgbClr val="dbbd71"/>
                </a:solidFill>
                <a:latin typeface="Arial"/>
              </a:rPr>
              <a:t>«Конвенция о правах ребенка»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611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403848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В Конвенции речь идет о том, чтобы у всех детей на Земле были одинаковые прав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нвенция – это большой документ, содержащий около 50 статей. Мы сегодня поговорим об основных положения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284720" y="333360"/>
            <a:ext cx="47512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ебенок – это любой человек до исполнения ему 18 л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ждый ребенок имеет право на имя, фамилию, гражданств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Картинка 44 из 7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765000"/>
            <a:ext cx="3166920" cy="53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А вы имеете имя и фамилию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Значит, вы пользуетесь этим правом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Любой ребенок имеет право: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жизнь со своими родителями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уровень жизни, необходимый для его умственного, физического и духовного развит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ff"/>
                </a:solidFill>
                <a:latin typeface="Arial"/>
              </a:rPr>
              <a:t>ПРАВА ДЕТЕЙ: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ебенок имеет право на имя и гражданство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ети имеют право жить с родителя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ети имеют право на медицинскую помощь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аво на охрану и защит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аво на обучен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аво на отды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716360" y="3573360"/>
            <a:ext cx="442764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Никто не может быть</a:t>
            </a:r>
            <a:br>
              <a:rPr sz="2800"/>
            </a:b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 подвергнут жесткому, бесчеловечному </a:t>
            </a:r>
            <a:br>
              <a:rPr sz="2800"/>
            </a:b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отношению.</a:t>
            </a:r>
            <a:br>
              <a:rPr sz="2800"/>
            </a:b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41560" y="1600200"/>
            <a:ext cx="6859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КАЛЕНДАРЬ ПРАВОВЫХ ДАТ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001 – 2010гг. – Международное десятилетие мира и ненасилия в интересах детей плане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 июня – Международный день защиты дет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 июня - Международный день детей – жертв агресс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0 ноября – Всемирный день прав ребён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0 декабря – День прав челове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2 декабря – День Конституции Российской Федерации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547640" y="0"/>
            <a:ext cx="597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2:45:38Z</dcterms:created>
  <dc:creator>СЕРЫЙ</dc:creator>
  <dc:description/>
  <dc:language>en-US</dc:language>
  <cp:lastModifiedBy>СЕРЫЙ</cp:lastModifiedBy>
  <dcterms:modified xsi:type="dcterms:W3CDTF">2011-12-08T13:31:00Z</dcterms:modified>
  <cp:revision>16</cp:revision>
  <dc:subject/>
  <dc:title>Документ, в котором определены права и обязанности детей, называется                   «Конвенция о правах ребенка»</dc:title>
</cp:coreProperties>
</file>