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4046-878D-446B-9FBD-1514A6ACAB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7A78-ABB3-4E91-B752-EFE5BBCF8C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0EC-9783-413C-9561-C4B1E73C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0D4-82A0-49B8-A6D5-45F113BB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90ACA-F5B5-4FE8-9074-396C602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06E73-145A-4CEA-8E7F-E1038F21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BA69A-1D06-486F-B5D1-205F0083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23332-9894-4032-8D4B-B9835E07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3C356-8A57-4CB2-BA67-2FED9D8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BDEFD-963C-4D6E-9B33-5A6A6FF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39CC1-9177-4AF4-B97B-2F3E8F71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0AC45-E991-4D48-8261-D62470D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E6266-503D-410C-990F-0E9EBE71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FD16C-158B-416F-A46D-C77B9602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F97-67B2-4C54-8D19-440257DE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8F4DB-E534-4E58-ACD5-AF22D864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E6DED-38CB-4135-91F7-58C9E80E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C0ACA-A2C9-412E-BEE2-E79C56FD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A75C9-B7A5-4E7C-B7F2-9DE15935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AEC61-7FAE-4DD6-9AE9-43AA4E42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6447A-64A3-42A2-A843-B507DF8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322DA-B0E4-4A66-8B53-688CC168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81D66-9229-4EEC-A2D8-7AC8B5B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8773F-A40E-4361-B9A6-062BFEDD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F0535-2C44-407A-A7A2-7F6B8150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6A1-9031-4CEC-A939-97684A44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1500D-D084-4983-A48C-9C1C25D2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C609D-F6DD-4ABF-8E34-3228E135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93AA6-442A-4161-9D02-86A28AF0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3168D-3461-46D9-9625-09F53ADE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E4E4C-7EE4-4BD5-8301-93BA5FF7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FCBAF-04D2-4611-A89F-32E7FDAC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08DCB-AF72-4828-A83A-546260ED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9789-A199-4722-9262-F7B2BD5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0FD24-C7D1-419A-AC69-A902C59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3919D-F3D0-417B-81F0-99FCCB6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7297-DD30-4F13-9E03-A1AAACBF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BD484-E35A-43B3-91A8-CB32908F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0B81C-DB2A-428D-ACAA-4D83DC06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D0689-8D3E-4F6F-AD4E-1DA01143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0E2C1-B941-4EC5-917E-AA58C905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7E15D-9368-4904-9930-63C0733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86917-8E28-4F04-98C0-ACA2D82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B9C81-3A1E-472C-A82B-501993A1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A1633-85C4-4552-B1D0-7CF1B944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39E97-F6F8-49F2-87E6-3D06215A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EC181-2785-4E6C-B5FA-FD88FB5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48B9-9597-49F3-96BB-59CA76B3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D3E4B-7FF3-40A7-88FB-3492730B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4430F-37DC-459C-BED1-51C92D6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2CDC2-DE76-46A0-A419-32171913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609EF-09D8-4F83-95D3-3484E065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DEC78-846B-421D-8285-ECF606C9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1EE4-AD46-454A-A58B-B39E066F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7CDE-1C3E-47D3-800C-87E27222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71E-4E84-4B7D-A404-6ED449C1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1A4E-4365-47C9-9E71-FAE83040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F303-B4D3-43AA-97E2-A238685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475-3386-4D1D-B42B-96A73FEB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7BEF-4BA7-4224-A52F-12BC5D8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7E34-9B80-4C7B-9443-A3CF7A1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5B8D-1C3C-4AED-9520-5FEF4CB2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0F4E-BE71-4A24-8027-EB6E2316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418E-90EB-4651-B970-015DC02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A54C-F0AA-4A79-A1C5-0F2C4194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0A54-59FD-4246-902E-FB786A0E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28EA-C12A-44C7-9889-B648F659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38CB-74FE-4840-ABD0-C3D73C85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969F-CD9C-4843-9C80-27AC88A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3C5-D24E-40E5-AE28-93278DF4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DD66-F1E1-466D-9083-2FB1E26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691B-1612-4A0F-9FFC-5984FCE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9905-4FB9-43A5-B575-2A57CED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E6C2-B108-4EDE-87E4-3CC96C8E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158B-8225-45E4-9AE8-B31667D4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9D17-537A-4562-A221-FEE8ABEB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F759-7DFC-4A19-8069-06F95005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9C62-FC63-469E-8B59-671BD3E4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D743-684B-456B-AFAF-6E05CC77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7E96-35A0-4F63-AED0-D6ABA329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A80-4546-4759-B966-576DE46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706D-E52A-48E5-B9BD-145C4B7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D447-001A-4308-87A0-56FD2D97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E9C6-0476-45F9-9C27-A664199B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06FD-BCB3-41AE-9E01-0F6536C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9542-4BC5-4535-8272-89C038D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EE46-D04B-45E4-B1FC-9BAEBAC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868E-C74D-4EDE-9988-DC0C5C4E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2DF8-A8D3-450E-A2F5-D6C16799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6E74-DC4C-4F61-8136-DFA001B9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55577-5414-4FCD-B0D1-FFB6185E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FBD-D482-428B-B90C-D53EDC5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4821-0DF5-467D-A7CB-C70DB5C0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EA3CA-0FEA-40CD-8F61-F8DAA11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06143-330C-4A77-87DA-E081B7E6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BFCF-E76E-4866-A26E-6533EAA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44C4-39FC-4276-9686-E622E7FA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2708-4183-4078-A298-0B1A5DB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72049-999D-4503-B6B4-E351FCFC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B38B-4033-4D11-84C5-D28E6D2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539C-DED0-4A90-A516-C0C92B2A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B5830-EE98-407A-83A0-7784E53B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DAB-3357-452A-B854-875A03C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094F6-DF4E-44EA-8F59-B851E271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667EF-9B50-408C-ACEB-2E64ECCA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47B7-8B59-493A-819B-2AD682E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99DF-4CFA-4C9A-A9AA-2E91DE47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CD03-9205-428F-9D4E-F4907CFF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8C222-945E-420D-B4C0-A8273762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6F339-789D-4F1F-B709-9661B585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73C0-6BFD-44BC-A69D-9EB22AC3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05DF-8945-413E-B102-93518A5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A228-EE89-4A06-81E2-D9375090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45C-92BD-411D-ACE3-560B3A0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0613F-CF0C-4D8D-90F1-F1424F20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F7ED-B694-46BE-8775-C5EF813A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B9B4-3A9A-42D1-97C5-19E1A6EA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57601-8FCC-4DB5-BADC-ECEC7087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5249E-1B8F-403A-9F45-2C282730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63A87-ADC8-41FE-B34D-2906479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BC48-A756-4560-AB4A-CF1323A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9E23B-356A-4BF4-B622-1185D463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7D5D5-1B57-49E0-9A72-030CF5EE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5E194-0C24-49F5-866D-DA6F528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B59-98B9-4EDB-A811-C2DF81C3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C6397-1B07-44C4-A40E-FFBB65F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28B46-7345-488E-A94B-08C6EB7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9D9F-6D2C-4F6D-9C0D-C30DB664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0DA20-0347-4F0C-B1D7-55320691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9EF9-F705-455F-9463-CA75A6AF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E0523-C469-44B7-980B-6F753A85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289A9-0286-403D-A413-1585CA88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A22C-1BEF-49D4-B142-09202D21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0120-C5DA-41E6-B2E2-293BFEBC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31D8-9233-4980-9A3E-1A3D3A82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D7A-4F4E-4148-8C01-1EF1FCC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D230-F00E-4510-AD75-3631A695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4607-1573-4494-AE02-9E4EF3C7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1365C-0F1D-4338-A15A-6E658DC8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A42A-B9E8-4750-B547-639BEDC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2297-1630-4371-9705-1C07AD28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1C095-346D-4BF0-833C-275D6C0D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13879-2D61-4342-B9E5-FA1121A8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78B1E-7219-4483-BEE0-157976BF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7372B-3C35-4946-86A7-67889EE2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46BEE-0364-48AF-A3F6-35DAC10B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CE4-5E84-4762-BD9D-4786E80F9CD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9E13-0C1B-4703-BA44-6923CB0E044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342-654E-4590-BB05-F2BCED3A927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F9D9-F91B-4C63-B6C9-5BE541B8B60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2BE-C497-44F4-8EFF-1F3D2347B7F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502-DB0D-4616-AD24-9057BE203C1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5624-4B59-4D59-A345-CCE5D745044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B4AE-6BE1-4C4B-8F97-83FCA255AF5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D9C-34C3-4E89-A497-9979823CE43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E715-2FF8-4858-9205-7E2D24F28A2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AE3D-2B55-48AD-8AAF-03352536763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EECB-3846-4A85-83AA-91DA8382796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 QUEEN AND THE PARLIAMEN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ru-RU" sz="2400" spc="-1" strike="noStrike">
                <a:solidFill>
                  <a:srgbClr val="d16349"/>
                </a:solidFill>
                <a:latin typeface="Georgia"/>
              </a:rPr>
              <a:t>Презентация Ученицы 10 класса ФГКОУ №8 г. Севастополя </a:t>
            </a:r>
            <a:br>
              <a:rPr sz="2400"/>
            </a:br>
            <a:r>
              <a:rPr b="0" lang="ru-RU" sz="2400" spc="-1" strike="noStrike">
                <a:solidFill>
                  <a:srgbClr val="d16349"/>
                </a:solidFill>
                <a:latin typeface="Georgia"/>
              </a:rPr>
              <a:t>Лагойской Элины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The Queen lives in Buckingham </a:t>
            </a:r>
            <a:r>
              <a:rPr b="0" i="1" lang="en-US" sz="3300" spc="-1" strike="noStrike">
                <a:solidFill>
                  <a:srgbClr val="7b9899"/>
                </a:solidFill>
                <a:latin typeface="Monotype Corsiva"/>
              </a:rPr>
              <a:t>Pal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Содержимое 4" descr="Buckingham-Palace.jpg"/>
          <p:cNvPicPr/>
          <p:nvPr/>
        </p:nvPicPr>
        <p:blipFill>
          <a:blip r:embed="rId1"/>
          <a:stretch/>
        </p:blipFill>
        <p:spPr>
          <a:xfrm>
            <a:off x="301680" y="2198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35" name="Содержимое 5" descr="BukingemskiydvorecParadn.jpeg"/>
          <p:cNvPicPr/>
          <p:nvPr/>
        </p:nvPicPr>
        <p:blipFill>
          <a:blip r:embed="rId2"/>
          <a:stretch/>
        </p:blipFill>
        <p:spPr>
          <a:xfrm>
            <a:off x="4915080" y="241128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Monotype Corsiva"/>
              </a:rPr>
              <a:t>The real power in the country belongs to the British Parliament and to the British Government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Содержимое 4" descr="2201_zp_clip_image002.jpg"/>
          <p:cNvPicPr/>
          <p:nvPr/>
        </p:nvPicPr>
        <p:blipFill>
          <a:blip r:embed="rId1"/>
          <a:stretch/>
        </p:blipFill>
        <p:spPr>
          <a:xfrm>
            <a:off x="301680" y="2487600"/>
            <a:ext cx="4038480" cy="2449440"/>
          </a:xfrm>
          <a:prstGeom prst="rect">
            <a:avLst/>
          </a:prstGeom>
          <a:ln w="0">
            <a:noFill/>
          </a:ln>
        </p:spPr>
      </p:pic>
      <p:pic>
        <p:nvPicPr>
          <p:cNvPr id="638" name="Содержимое 5" descr="pic.jpeg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Содержимое 4" descr="08070956.jpg"/>
          <p:cNvPicPr/>
          <p:nvPr/>
        </p:nvPicPr>
        <p:blipFill>
          <a:blip r:embed="rId1"/>
          <a:stretch/>
        </p:blipFill>
        <p:spPr>
          <a:xfrm>
            <a:off x="301680" y="2198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1" name="Содержимое 5" descr="tumblr_kramxyfqyV1qzn005o1_500.jpg"/>
          <p:cNvPicPr/>
          <p:nvPr/>
        </p:nvPicPr>
        <p:blipFill>
          <a:blip r:embed="rId2"/>
          <a:stretch/>
        </p:blipFill>
        <p:spPr>
          <a:xfrm>
            <a:off x="4800600" y="20908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Monotype Corsiva"/>
              </a:rPr>
              <a:t>There are two Houses in the Parliament</a:t>
            </a:r>
            <a:r>
              <a:rPr b="0" lang="ru-RU" sz="3000" spc="-1" strike="noStrike">
                <a:solidFill>
                  <a:srgbClr val="7b9899"/>
                </a:solidFill>
                <a:latin typeface="Monotype Corsiva"/>
              </a:rPr>
              <a:t>:</a:t>
            </a:r>
            <a:r>
              <a:rPr b="0" lang="en-US" sz="3000" spc="-1" strike="noStrike">
                <a:solidFill>
                  <a:srgbClr val="7b9899"/>
                </a:solidFill>
                <a:latin typeface="Monotype Corsiva"/>
              </a:rPr>
              <a:t> the House of Lords and the House of Commons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Содержимое 4" descr="393764.jpg"/>
          <p:cNvPicPr/>
          <p:nvPr/>
        </p:nvPicPr>
        <p:blipFill>
          <a:blip r:embed="rId1"/>
          <a:stretch/>
        </p:blipFill>
        <p:spPr>
          <a:xfrm>
            <a:off x="723960" y="1371600"/>
            <a:ext cx="3193920" cy="4681440"/>
          </a:xfrm>
          <a:prstGeom prst="rect">
            <a:avLst/>
          </a:prstGeom>
          <a:ln w="0">
            <a:noFill/>
          </a:ln>
        </p:spPr>
      </p:pic>
      <p:pic>
        <p:nvPicPr>
          <p:cNvPr id="644" name="Содержимое 5" descr="eng_parlamen3.jpg"/>
          <p:cNvPicPr/>
          <p:nvPr/>
        </p:nvPicPr>
        <p:blipFill>
          <a:blip r:embed="rId2"/>
          <a:stretch/>
        </p:blipFill>
        <p:spPr>
          <a:xfrm>
            <a:off x="5029200" y="2438280"/>
            <a:ext cx="3746520" cy="281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Monotype Corsiva"/>
              </a:rPr>
              <a:t>The members of the House of Lords are not elected, they inherit there place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6" name="Содержимое 5" descr="361734.jpg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8" name="Содержимое 4" descr="houselords.jpg"/>
          <p:cNvPicPr/>
          <p:nvPr/>
        </p:nvPicPr>
        <p:blipFill>
          <a:blip r:embed="rId1"/>
          <a:stretch/>
        </p:blipFill>
        <p:spPr>
          <a:xfrm>
            <a:off x="301680" y="1660680"/>
            <a:ext cx="4038480" cy="4103640"/>
          </a:xfrm>
          <a:prstGeom prst="rect">
            <a:avLst/>
          </a:prstGeom>
          <a:ln w="0">
            <a:noFill/>
          </a:ln>
        </p:spPr>
      </p:pic>
      <p:pic>
        <p:nvPicPr>
          <p:cNvPr id="649" name="Содержимое 7" descr="rubric_issue_11591.jpg"/>
          <p:cNvPicPr/>
          <p:nvPr/>
        </p:nvPicPr>
        <p:blipFill>
          <a:blip r:embed="rId2"/>
          <a:stretch/>
        </p:blipFill>
        <p:spPr>
          <a:xfrm>
            <a:off x="4724280" y="2438280"/>
            <a:ext cx="4038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Содержимое 3" descr="picture.jpg"/>
          <p:cNvPicPr/>
          <p:nvPr/>
        </p:nvPicPr>
        <p:blipFill>
          <a:blip r:embed="rId1"/>
          <a:stretch/>
        </p:blipFill>
        <p:spPr>
          <a:xfrm>
            <a:off x="1905120" y="1752480"/>
            <a:ext cx="545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Monotype Corsiva"/>
              </a:rPr>
              <a:t>The members of the House of Commons are elected every five years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3" name="Содержимое 5" descr="43812.jpg"/>
          <p:cNvPicPr/>
          <p:nvPr/>
        </p:nvPicPr>
        <p:blipFill>
          <a:blip r:embed="rId1"/>
          <a:stretch/>
        </p:blipFill>
        <p:spPr>
          <a:xfrm>
            <a:off x="1143000" y="1676520"/>
            <a:ext cx="6532560" cy="4093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5" name="Содержимое 4" descr="86893747_17cab1c4d4_o.jpg"/>
          <p:cNvPicPr/>
          <p:nvPr/>
        </p:nvPicPr>
        <p:blipFill>
          <a:blip r:embed="rId1"/>
          <a:stretch/>
        </p:blipFill>
        <p:spPr>
          <a:xfrm>
            <a:off x="473040" y="1371600"/>
            <a:ext cx="3695760" cy="4681440"/>
          </a:xfrm>
          <a:prstGeom prst="rect">
            <a:avLst/>
          </a:prstGeom>
          <a:ln w="0">
            <a:noFill/>
          </a:ln>
        </p:spPr>
      </p:pic>
      <p:pic>
        <p:nvPicPr>
          <p:cNvPr id="656" name="Содержимое 5" descr="house.jpg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Содержимое 5" descr="8.jpg"/>
          <p:cNvPicPr/>
          <p:nvPr/>
        </p:nvPicPr>
        <p:blipFill>
          <a:blip r:embed="rId1"/>
          <a:stretch/>
        </p:blipFill>
        <p:spPr>
          <a:xfrm>
            <a:off x="1506600" y="1527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The Queen of the   UK   </a:t>
            </a:r>
            <a:r>
              <a:rPr b="0" i="1" lang="en-US" sz="3300" spc="-1" strike="noStrike">
                <a:solidFill>
                  <a:srgbClr val="7b9899"/>
                </a:solidFill>
                <a:latin typeface="Monotype Corsiva"/>
              </a:rPr>
              <a:t>Elizabeth I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Содержимое 3" descr="55788.jpg"/>
          <p:cNvPicPr/>
          <p:nvPr/>
        </p:nvPicPr>
        <p:blipFill>
          <a:blip r:embed="rId1"/>
          <a:stretch/>
        </p:blipFill>
        <p:spPr>
          <a:xfrm>
            <a:off x="1600200" y="1981080"/>
            <a:ext cx="571500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Elizabeth II is a head of Sta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Содержимое 3" descr="picture.jpg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She is a symbol of Great Brita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Содержимое 3" descr="queen4.jpg"/>
          <p:cNvPicPr/>
          <p:nvPr/>
        </p:nvPicPr>
        <p:blipFill>
          <a:blip r:embed="rId1"/>
          <a:stretch/>
        </p:blipFill>
        <p:spPr>
          <a:xfrm>
            <a:off x="1251000" y="1527120"/>
            <a:ext cx="66056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Also, she is a Head of the Commonwealth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Содержимое 3" descr="eliz1.jpg"/>
          <p:cNvPicPr/>
          <p:nvPr/>
        </p:nvPicPr>
        <p:blipFill>
          <a:blip r:embed="rId1"/>
          <a:stretch/>
        </p:blipFill>
        <p:spPr>
          <a:xfrm>
            <a:off x="3429000" y="1676520"/>
            <a:ext cx="2722680" cy="444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She reigns, but does not rul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Содержимое 3" descr="151537411.jpg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352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She can not make law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Содержимое 3" descr="b_4068.jpg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Monotype Corsiva"/>
              </a:rPr>
              <a:t>She has no real state power, only symbolic pow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Содержимое 4" descr="pictureщ.jpg"/>
          <p:cNvPicPr/>
          <p:nvPr/>
        </p:nvPicPr>
        <p:blipFill>
          <a:blip r:embed="rId1"/>
          <a:stretch/>
        </p:blipFill>
        <p:spPr>
          <a:xfrm>
            <a:off x="457200" y="2286000"/>
            <a:ext cx="3760920" cy="2820960"/>
          </a:xfrm>
          <a:prstGeom prst="rect">
            <a:avLst/>
          </a:prstGeom>
          <a:ln w="0">
            <a:noFill/>
          </a:ln>
        </p:spPr>
      </p:pic>
      <p:pic>
        <p:nvPicPr>
          <p:cNvPr id="629" name="Содержимое 5" descr="zv2.jpg"/>
          <p:cNvPicPr/>
          <p:nvPr/>
        </p:nvPicPr>
        <p:blipFill>
          <a:blip r:embed="rId2"/>
          <a:stretch/>
        </p:blipFill>
        <p:spPr>
          <a:xfrm>
            <a:off x="5362560" y="1569960"/>
            <a:ext cx="291456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Содержимое 4" descr="141563.jpg"/>
          <p:cNvPicPr/>
          <p:nvPr/>
        </p:nvPicPr>
        <p:blipFill>
          <a:blip r:embed="rId1"/>
          <a:stretch/>
        </p:blipFill>
        <p:spPr>
          <a:xfrm>
            <a:off x="835200" y="2227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5" descr="eliz.jpg"/>
          <p:cNvPicPr/>
          <p:nvPr/>
        </p:nvPicPr>
        <p:blipFill>
          <a:blip r:embed="rId2"/>
          <a:stretch/>
        </p:blipFill>
        <p:spPr>
          <a:xfrm>
            <a:off x="4800600" y="2198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2-12-06T17:26:44Z</dcterms:modified>
  <cp:revision>9</cp:revision>
  <dc:subject/>
  <dc:title>The Queen of the   UK   Elizabeth II</dc:title>
</cp:coreProperties>
</file>