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126-D43C-4ADD-9608-68C07208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714-724A-4475-8954-7C7B4344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C00-4259-40BA-9C2E-C5203FB5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4A8-0D94-4EFD-B410-A02B6EA1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517-4504-4C30-B532-3CED1956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FB5-155E-4403-96F0-E8D6E69C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498-431C-4AD5-AE14-6F447345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DA9-181B-4465-A9EA-02495949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345-EEB0-4936-9F56-A38B5390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037-60DE-49E2-A655-2E21630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F16-4C6C-4AE4-934D-6A31A3CA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752-9CCF-4E71-9990-1A6ACEC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9491-E8C3-4105-BE99-1C625F6E6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705120" cy="55245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7" descr=""/>
          <p:cNvPicPr/>
          <p:nvPr/>
        </p:nvPicPr>
        <p:blipFill>
          <a:blip r:embed="rId2"/>
          <a:stretch/>
        </p:blipFill>
        <p:spPr>
          <a:xfrm>
            <a:off x="3627360" y="1504800"/>
            <a:ext cx="5840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сиамских близнец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8702"/>
          <p:cNvPicPr/>
          <p:nvPr/>
        </p:nvPicPr>
        <p:blipFill>
          <a:blip r:embed="rId1"/>
          <a:stretch/>
        </p:blipFill>
        <p:spPr>
          <a:xfrm>
            <a:off x="539640" y="1628640"/>
            <a:ext cx="273060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сиам"/>
          <p:cNvPicPr/>
          <p:nvPr/>
        </p:nvPicPr>
        <p:blipFill>
          <a:blip r:embed="rId2"/>
          <a:stretch/>
        </p:blipFill>
        <p:spPr>
          <a:xfrm>
            <a:off x="6227640" y="1773360"/>
            <a:ext cx="2516400" cy="177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чанг"/>
          <p:cNvPicPr/>
          <p:nvPr/>
        </p:nvPicPr>
        <p:blipFill>
          <a:blip r:embed="rId3"/>
          <a:stretch/>
        </p:blipFill>
        <p:spPr>
          <a:xfrm>
            <a:off x="3708360" y="1125360"/>
            <a:ext cx="2077920" cy="2919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сиамцы1"/>
          <p:cNvPicPr/>
          <p:nvPr/>
        </p:nvPicPr>
        <p:blipFill>
          <a:blip r:embed="rId4"/>
          <a:stretch/>
        </p:blipFill>
        <p:spPr>
          <a:xfrm>
            <a:off x="250920" y="3933720"/>
            <a:ext cx="4286160" cy="2657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сиамцы2"/>
          <p:cNvPicPr/>
          <p:nvPr/>
        </p:nvPicPr>
        <p:blipFill>
          <a:blip r:embed="rId5"/>
          <a:stretch/>
        </p:blipFill>
        <p:spPr>
          <a:xfrm>
            <a:off x="5148360" y="4005360"/>
            <a:ext cx="37544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изне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907920"/>
          <a:ext cx="8229600" cy="4359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Монозиг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зиго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Всегда одного п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Могут быть одно или разного п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Чаще - «Две капли вод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Степень сходства различ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Имеют один зародышевой пузы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Имеют каждый свой зародышевый пузы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Развиваются из одной яйцеклетки (зигот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Развиваются из разных яйцеклеток (зиг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Рождаются ре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Рождаются чащ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ой метод генетики -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гибридолог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24000" y="177336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мысл гибридологического мет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195640" y="2205000"/>
            <a:ext cx="64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вободное скрещивание особей, отличающихся определенными признаками, и анализ полученного потом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24000" y="3213000"/>
            <a:ext cx="64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 ли применение данного метода к изучению наследования признаков у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195640" y="4005360"/>
            <a:ext cx="6480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ические нормы (подбор супруг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ое число потомков (нет расщепл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лительный период между покол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 rot="19980000">
            <a:off x="324000" y="2637000"/>
            <a:ext cx="855324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нный метод 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яться не может!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ы изучения наследственност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алог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хим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тогене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знец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енеалогический метод –</a:t>
            </a:r>
            <a:br>
              <a:rPr sz="40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учение наследования признаков с помощью составления родосло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900000" y="1773360"/>
            <a:ext cx="1646280" cy="1645920"/>
            <a:chOff x="900000" y="1773360"/>
            <a:chExt cx="1646280" cy="1645920"/>
          </a:xfrm>
        </p:grpSpPr>
        <p:sp>
          <p:nvSpPr>
            <p:cNvPr id="53" name="Rectangle 5"/>
            <p:cNvSpPr/>
            <p:nvPr/>
          </p:nvSpPr>
          <p:spPr>
            <a:xfrm>
              <a:off x="1265760" y="1773360"/>
              <a:ext cx="366120" cy="36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1905840" y="1773360"/>
              <a:ext cx="366120" cy="36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180160" y="2413080"/>
              <a:ext cx="366120" cy="36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540080" y="3053160"/>
              <a:ext cx="366120" cy="36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1631520" y="2413080"/>
              <a:ext cx="366120" cy="36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180160" y="3053160"/>
              <a:ext cx="366120" cy="36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631520" y="1955880"/>
              <a:ext cx="274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1814400" y="1955880"/>
              <a:ext cx="36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1997280" y="2595960"/>
              <a:ext cx="1832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2088720" y="2595960"/>
              <a:ext cx="3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1722960" y="2870280"/>
              <a:ext cx="640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1722960" y="2870280"/>
              <a:ext cx="36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2363040" y="2870280"/>
              <a:ext cx="36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900000" y="3144240"/>
              <a:ext cx="549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Юля Т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9"/>
          <p:cNvGrpSpPr/>
          <p:nvPr/>
        </p:nvGrpSpPr>
        <p:grpSpPr>
          <a:xfrm>
            <a:off x="5435640" y="1916280"/>
            <a:ext cx="3292200" cy="1920240"/>
            <a:chOff x="5435640" y="1916280"/>
            <a:chExt cx="3292200" cy="1920240"/>
          </a:xfrm>
        </p:grpSpPr>
        <p:sp>
          <p:nvSpPr>
            <p:cNvPr id="68" name="Oval 20"/>
            <p:cNvSpPr/>
            <p:nvPr/>
          </p:nvSpPr>
          <p:spPr>
            <a:xfrm>
              <a:off x="5984280" y="2556000"/>
              <a:ext cx="366120" cy="36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1"/>
            <p:cNvSpPr/>
            <p:nvPr/>
          </p:nvSpPr>
          <p:spPr>
            <a:xfrm>
              <a:off x="5435640" y="2556000"/>
              <a:ext cx="366120" cy="36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2"/>
            <p:cNvSpPr/>
            <p:nvPr/>
          </p:nvSpPr>
          <p:spPr>
            <a:xfrm>
              <a:off x="7264440" y="2556000"/>
              <a:ext cx="366120" cy="36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3"/>
            <p:cNvSpPr/>
            <p:nvPr/>
          </p:nvSpPr>
          <p:spPr>
            <a:xfrm>
              <a:off x="7447320" y="1916280"/>
              <a:ext cx="366120" cy="36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4"/>
            <p:cNvSpPr/>
            <p:nvPr/>
          </p:nvSpPr>
          <p:spPr>
            <a:xfrm>
              <a:off x="7538760" y="3378960"/>
              <a:ext cx="366120" cy="36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5"/>
            <p:cNvSpPr/>
            <p:nvPr/>
          </p:nvSpPr>
          <p:spPr>
            <a:xfrm>
              <a:off x="5892840" y="3470400"/>
              <a:ext cx="366120" cy="36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6"/>
            <p:cNvSpPr/>
            <p:nvPr/>
          </p:nvSpPr>
          <p:spPr>
            <a:xfrm>
              <a:off x="6258600" y="1916280"/>
              <a:ext cx="366120" cy="36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7"/>
            <p:cNvSpPr/>
            <p:nvPr/>
          </p:nvSpPr>
          <p:spPr>
            <a:xfrm>
              <a:off x="6624360" y="2098800"/>
              <a:ext cx="823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6532920" y="2556000"/>
              <a:ext cx="366120" cy="36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9"/>
            <p:cNvSpPr/>
            <p:nvPr/>
          </p:nvSpPr>
          <p:spPr>
            <a:xfrm>
              <a:off x="6990120" y="2098800"/>
              <a:ext cx="3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0"/>
            <p:cNvSpPr/>
            <p:nvPr/>
          </p:nvSpPr>
          <p:spPr>
            <a:xfrm>
              <a:off x="6715800" y="2373120"/>
              <a:ext cx="731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1"/>
            <p:cNvSpPr/>
            <p:nvPr/>
          </p:nvSpPr>
          <p:spPr>
            <a:xfrm>
              <a:off x="7447320" y="2373120"/>
              <a:ext cx="36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>
              <a:off x="6715800" y="2373120"/>
              <a:ext cx="36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350040" y="2738880"/>
              <a:ext cx="1832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5618520" y="2373120"/>
              <a:ext cx="549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>
              <a:off x="6167160" y="2373120"/>
              <a:ext cx="36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>
              <a:off x="5618520" y="2373120"/>
              <a:ext cx="36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7"/>
            <p:cNvSpPr/>
            <p:nvPr/>
          </p:nvSpPr>
          <p:spPr>
            <a:xfrm>
              <a:off x="6441480" y="2738880"/>
              <a:ext cx="36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8"/>
            <p:cNvSpPr/>
            <p:nvPr/>
          </p:nvSpPr>
          <p:spPr>
            <a:xfrm>
              <a:off x="6075720" y="3196080"/>
              <a:ext cx="731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9"/>
            <p:cNvSpPr/>
            <p:nvPr/>
          </p:nvSpPr>
          <p:spPr>
            <a:xfrm>
              <a:off x="6075720" y="3196080"/>
              <a:ext cx="3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0"/>
            <p:cNvSpPr/>
            <p:nvPr/>
          </p:nvSpPr>
          <p:spPr>
            <a:xfrm>
              <a:off x="6807240" y="3196080"/>
              <a:ext cx="360" cy="36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41"/>
            <p:cNvSpPr/>
            <p:nvPr/>
          </p:nvSpPr>
          <p:spPr>
            <a:xfrm>
              <a:off x="6624360" y="3470400"/>
              <a:ext cx="366120" cy="36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42"/>
            <p:cNvSpPr/>
            <p:nvPr/>
          </p:nvSpPr>
          <p:spPr>
            <a:xfrm>
              <a:off x="7904520" y="2556000"/>
              <a:ext cx="366120" cy="36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3"/>
            <p:cNvSpPr/>
            <p:nvPr/>
          </p:nvSpPr>
          <p:spPr>
            <a:xfrm>
              <a:off x="7630200" y="2738880"/>
              <a:ext cx="274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4"/>
            <p:cNvSpPr/>
            <p:nvPr/>
          </p:nvSpPr>
          <p:spPr>
            <a:xfrm>
              <a:off x="7721640" y="2738880"/>
              <a:ext cx="360" cy="64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5"/>
            <p:cNvSpPr/>
            <p:nvPr/>
          </p:nvSpPr>
          <p:spPr>
            <a:xfrm>
              <a:off x="7995960" y="3470040"/>
              <a:ext cx="73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Наташа 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46"/>
          <p:cNvGrpSpPr/>
          <p:nvPr/>
        </p:nvGrpSpPr>
        <p:grpSpPr>
          <a:xfrm>
            <a:off x="5292720" y="4508640"/>
            <a:ext cx="2377800" cy="1463040"/>
            <a:chOff x="5292720" y="4508640"/>
            <a:chExt cx="2377800" cy="1463040"/>
          </a:xfrm>
        </p:grpSpPr>
        <p:sp>
          <p:nvSpPr>
            <p:cNvPr id="95" name="Rectangle 47"/>
            <p:cNvSpPr/>
            <p:nvPr/>
          </p:nvSpPr>
          <p:spPr>
            <a:xfrm>
              <a:off x="5292720" y="5231160"/>
              <a:ext cx="82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Андрей Ф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8"/>
            <p:cNvSpPr/>
            <p:nvPr/>
          </p:nvSpPr>
          <p:spPr>
            <a:xfrm>
              <a:off x="5841360" y="4599720"/>
              <a:ext cx="366120" cy="36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9"/>
            <p:cNvSpPr/>
            <p:nvPr/>
          </p:nvSpPr>
          <p:spPr>
            <a:xfrm>
              <a:off x="7304400" y="4599720"/>
              <a:ext cx="366120" cy="36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6572880" y="4599720"/>
              <a:ext cx="366120" cy="36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6024240" y="5605560"/>
              <a:ext cx="366120" cy="36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2"/>
            <p:cNvSpPr/>
            <p:nvPr/>
          </p:nvSpPr>
          <p:spPr>
            <a:xfrm>
              <a:off x="7212960" y="5605560"/>
              <a:ext cx="366120" cy="36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3"/>
            <p:cNvSpPr/>
            <p:nvPr/>
          </p:nvSpPr>
          <p:spPr>
            <a:xfrm>
              <a:off x="6207120" y="4782600"/>
              <a:ext cx="366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4"/>
            <p:cNvSpPr/>
            <p:nvPr/>
          </p:nvSpPr>
          <p:spPr>
            <a:xfrm>
              <a:off x="6938640" y="4782600"/>
              <a:ext cx="366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5"/>
            <p:cNvSpPr/>
            <p:nvPr/>
          </p:nvSpPr>
          <p:spPr>
            <a:xfrm>
              <a:off x="6390000" y="4782600"/>
              <a:ext cx="36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6"/>
            <p:cNvSpPr/>
            <p:nvPr/>
          </p:nvSpPr>
          <p:spPr>
            <a:xfrm>
              <a:off x="6207120" y="5331240"/>
              <a:ext cx="366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57"/>
            <p:cNvSpPr/>
            <p:nvPr/>
          </p:nvSpPr>
          <p:spPr>
            <a:xfrm>
              <a:off x="6207120" y="5331240"/>
              <a:ext cx="3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8"/>
            <p:cNvSpPr/>
            <p:nvPr/>
          </p:nvSpPr>
          <p:spPr>
            <a:xfrm>
              <a:off x="7121520" y="4782600"/>
              <a:ext cx="36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59"/>
            <p:cNvSpPr/>
            <p:nvPr/>
          </p:nvSpPr>
          <p:spPr>
            <a:xfrm>
              <a:off x="6938640" y="5331240"/>
              <a:ext cx="457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0"/>
            <p:cNvSpPr/>
            <p:nvPr/>
          </p:nvSpPr>
          <p:spPr>
            <a:xfrm>
              <a:off x="7395840" y="5331240"/>
              <a:ext cx="3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1"/>
            <p:cNvSpPr/>
            <p:nvPr/>
          </p:nvSpPr>
          <p:spPr>
            <a:xfrm>
              <a:off x="6298560" y="4508640"/>
              <a:ext cx="18324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62"/>
            <p:cNvSpPr/>
            <p:nvPr/>
          </p:nvSpPr>
          <p:spPr>
            <a:xfrm>
              <a:off x="7030080" y="4508640"/>
              <a:ext cx="18324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63"/>
          <p:cNvGrpSpPr/>
          <p:nvPr/>
        </p:nvGrpSpPr>
        <p:grpSpPr>
          <a:xfrm>
            <a:off x="1979640" y="3860640"/>
            <a:ext cx="1830240" cy="2286000"/>
            <a:chOff x="1979640" y="3860640"/>
            <a:chExt cx="1830240" cy="2286000"/>
          </a:xfrm>
        </p:grpSpPr>
        <p:sp>
          <p:nvSpPr>
            <p:cNvPr id="112" name="Oval 64"/>
            <p:cNvSpPr/>
            <p:nvPr/>
          </p:nvSpPr>
          <p:spPr>
            <a:xfrm>
              <a:off x="2711520" y="3860640"/>
              <a:ext cx="366480" cy="36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5"/>
            <p:cNvSpPr/>
            <p:nvPr/>
          </p:nvSpPr>
          <p:spPr>
            <a:xfrm>
              <a:off x="2711520" y="5049000"/>
              <a:ext cx="366480" cy="36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66"/>
            <p:cNvSpPr/>
            <p:nvPr/>
          </p:nvSpPr>
          <p:spPr>
            <a:xfrm>
              <a:off x="2345400" y="4500360"/>
              <a:ext cx="366480" cy="36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7"/>
            <p:cNvSpPr/>
            <p:nvPr/>
          </p:nvSpPr>
          <p:spPr>
            <a:xfrm>
              <a:off x="3443400" y="3860640"/>
              <a:ext cx="366480" cy="36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8"/>
            <p:cNvSpPr/>
            <p:nvPr/>
          </p:nvSpPr>
          <p:spPr>
            <a:xfrm>
              <a:off x="3077280" y="4500360"/>
              <a:ext cx="366480" cy="36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9"/>
            <p:cNvSpPr/>
            <p:nvPr/>
          </p:nvSpPr>
          <p:spPr>
            <a:xfrm>
              <a:off x="2345400" y="5689080"/>
              <a:ext cx="366480" cy="36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0"/>
            <p:cNvSpPr/>
            <p:nvPr/>
          </p:nvSpPr>
          <p:spPr>
            <a:xfrm>
              <a:off x="1979640" y="5049000"/>
              <a:ext cx="366480" cy="36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1"/>
            <p:cNvSpPr/>
            <p:nvPr/>
          </p:nvSpPr>
          <p:spPr>
            <a:xfrm>
              <a:off x="3077280" y="4043160"/>
              <a:ext cx="366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2"/>
            <p:cNvSpPr/>
            <p:nvPr/>
          </p:nvSpPr>
          <p:spPr>
            <a:xfrm>
              <a:off x="3260520" y="4043160"/>
              <a:ext cx="36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3"/>
            <p:cNvSpPr/>
            <p:nvPr/>
          </p:nvSpPr>
          <p:spPr>
            <a:xfrm>
              <a:off x="2711520" y="4683240"/>
              <a:ext cx="366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74"/>
            <p:cNvSpPr/>
            <p:nvPr/>
          </p:nvSpPr>
          <p:spPr>
            <a:xfrm>
              <a:off x="2894400" y="4683240"/>
              <a:ext cx="360" cy="36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5"/>
            <p:cNvSpPr/>
            <p:nvPr/>
          </p:nvSpPr>
          <p:spPr>
            <a:xfrm>
              <a:off x="2345400" y="5231880"/>
              <a:ext cx="366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6"/>
            <p:cNvSpPr/>
            <p:nvPr/>
          </p:nvSpPr>
          <p:spPr>
            <a:xfrm>
              <a:off x="2528280" y="5231880"/>
              <a:ext cx="36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2711520" y="5871960"/>
              <a:ext cx="640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икто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78"/>
          <p:cNvSpPr/>
          <p:nvPr/>
        </p:nvSpPr>
        <p:spPr>
          <a:xfrm>
            <a:off x="2987640" y="1773360"/>
            <a:ext cx="25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следование левору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иохимический метод –</a:t>
            </a:r>
            <a:br>
              <a:rPr sz="40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учение состава внутренних сред организма (группы крови, сывороточные белки и т.д.) с целью определения места и характера му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68360" y="2276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ерповидно-клеточная ан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68360" y="5157720"/>
            <a:ext cx="58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ал-гис-лей-тре-про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лутаминовая 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глу-лиз-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 вал-гис-лей-тре-про-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ал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глу-лиз-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анемия1"/>
          <p:cNvPicPr/>
          <p:nvPr/>
        </p:nvPicPr>
        <p:blipFill>
          <a:blip r:embed="rId1"/>
          <a:stretch/>
        </p:blipFill>
        <p:spPr>
          <a:xfrm>
            <a:off x="4067280" y="2133720"/>
            <a:ext cx="29527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628640"/>
          <a:ext cx="8229600" cy="3111480"/>
        </p:xfrm>
        <a:graphic>
          <a:graphicData uri="http://schemas.openxmlformats.org/drawingml/2006/table">
            <a:tbl>
              <a:tblPr/>
              <a:tblGrid>
                <a:gridCol w="914400"/>
                <a:gridCol w="1317600"/>
                <a:gridCol w="719280"/>
                <a:gridCol w="936360"/>
                <a:gridCol w="863640"/>
                <a:gridCol w="865080"/>
                <a:gridCol w="935280"/>
                <a:gridCol w="865080"/>
                <a:gridCol w="81288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b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-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99"/>
          <p:cNvSpPr/>
          <p:nvPr/>
        </p:nvSpPr>
        <p:spPr>
          <a:xfrm>
            <a:off x="1258920" y="40464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етическое сходство трех се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Цитогенетический метод –</a:t>
            </a:r>
            <a:br>
              <a:rPr sz="40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учение количества и формы хромосом при помощи микро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хромЧелов"/>
          <p:cNvPicPr/>
          <p:nvPr/>
        </p:nvPicPr>
        <p:blipFill>
          <a:blip r:embed="rId1"/>
          <a:stretch/>
        </p:blipFill>
        <p:spPr>
          <a:xfrm>
            <a:off x="324000" y="1628640"/>
            <a:ext cx="4535280" cy="3673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клайнфельтер"/>
          <p:cNvPicPr/>
          <p:nvPr/>
        </p:nvPicPr>
        <p:blipFill>
          <a:blip r:embed="rId2"/>
          <a:srcRect l="60258" t="0" r="3652" b="52653"/>
          <a:stretch/>
        </p:blipFill>
        <p:spPr>
          <a:xfrm>
            <a:off x="5724360" y="1484280"/>
            <a:ext cx="30718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клайнфельтер"/>
          <p:cNvPicPr/>
          <p:nvPr/>
        </p:nvPicPr>
        <p:blipFill>
          <a:blip r:embed="rId3"/>
          <a:srcRect l="0" t="58490" r="58464" b="0"/>
          <a:stretch/>
        </p:blipFill>
        <p:spPr>
          <a:xfrm>
            <a:off x="2195640" y="1628640"/>
            <a:ext cx="3313080" cy="2602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2916360" y="4221000"/>
            <a:ext cx="2050920" cy="9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дром Клайнфельтер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Х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372360" y="4653000"/>
            <a:ext cx="216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дром Тернера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Хромосомные болез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омалии аутос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Даун"/>
          <p:cNvPicPr/>
          <p:nvPr/>
        </p:nvPicPr>
        <p:blipFill>
          <a:blip r:embed="rId1"/>
          <a:stretch/>
        </p:blipFill>
        <p:spPr>
          <a:xfrm>
            <a:off x="250920" y="1628640"/>
            <a:ext cx="2571480" cy="3048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4000" y="4724280"/>
            <a:ext cx="2590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дром Дау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рисомия по 21 пар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adw"/>
          <p:cNvPicPr/>
          <p:nvPr/>
        </p:nvPicPr>
        <p:blipFill>
          <a:blip r:embed="rId2"/>
          <a:stretch/>
        </p:blipFill>
        <p:spPr>
          <a:xfrm>
            <a:off x="6156360" y="1700280"/>
            <a:ext cx="2503440" cy="2928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6084720" y="4797360"/>
            <a:ext cx="259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дром Эдвард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рисомия по 18 пар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pat"/>
          <p:cNvPicPr/>
          <p:nvPr/>
        </p:nvPicPr>
        <p:blipFill>
          <a:blip r:embed="rId3"/>
          <a:stretch/>
        </p:blipFill>
        <p:spPr>
          <a:xfrm>
            <a:off x="3059280" y="1197000"/>
            <a:ext cx="2808000" cy="27669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3203640" y="3933720"/>
            <a:ext cx="2590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дром Пата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рисомия по 13 пар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лизнецовый метод –</a:t>
            </a:r>
            <a:br>
              <a:rPr sz="40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учение близнецов с целью выделения роли окружающей среды и наследственности на развитие различных призн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700360" y="21337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Близне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 flipH="1">
            <a:off x="2916000" y="270828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780000" y="2708280"/>
            <a:ext cx="93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24000" y="3068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Н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356000" y="299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ом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1402920" y="342900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2627280" y="3429000"/>
            <a:ext cx="936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788000" y="3429000"/>
            <a:ext cx="93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24000" y="3789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о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нозиг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556000" y="3789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и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зиг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5003640" y="3789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амские близне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02:41:11Z</dcterms:created>
  <dc:creator>ОЕМ</dc:creator>
  <dc:description/>
  <dc:language>en-US</dc:language>
  <cp:lastModifiedBy>luda</cp:lastModifiedBy>
  <dcterms:modified xsi:type="dcterms:W3CDTF">2012-05-09T13:08:08Z</dcterms:modified>
  <cp:revision>13</cp:revision>
  <dc:subject/>
  <dc:title>Методы изучения генетики человека</dc:title>
</cp:coreProperties>
</file>