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EC3-9A5C-4EC4-A8DD-1718E3B2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3CA-7CE7-473D-AF10-1B335B02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A59-00E5-4652-B48F-AD076EB0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20F-7156-4A71-8686-BC081226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521-1A1F-46E4-AAD2-AE425498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C38-7C8F-41FF-92A4-B710E8E9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C1C-8318-42E3-BB9C-62165177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25D-7D0A-434C-A8F9-5A2BF74D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3C1-846C-43C8-811D-002E3715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2D6-45E0-49D4-9FE4-9AB6BF09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E23-0FA4-4561-B006-3174DD70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108-5438-4FD1-8A97-940B3003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AF2C-FF25-4098-B2F8-5BAF58D17F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3368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73160" y="993600"/>
            <a:ext cx="8686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казательства </a:t>
            </a:r>
            <a:endParaRPr b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ого происхождения </a:t>
            </a:r>
            <a:endParaRPr b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а</a:t>
            </a:r>
            <a:endParaRPr b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219200" y="4581360"/>
            <a:ext cx="468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Выполнил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Учитель биологии  высшей категори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МОУ  школы № 166 г. Самар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Куликова Людмила Алексеевн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3432240" y="620064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ара 200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367000" y="330120"/>
            <a:ext cx="57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Эмбриологические доказательств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457200" y="1143000"/>
          <a:ext cx="83818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81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979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79280" y="990720"/>
          <a:ext cx="8736120" cy="5867280"/>
        </p:xfrm>
        <a:graphic>
          <a:graphicData uri="http://schemas.openxmlformats.org/drawingml/2006/table">
            <a:tbl>
              <a:tblPr/>
              <a:tblGrid>
                <a:gridCol w="4368960"/>
                <a:gridCol w="436716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ные черты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 кого унаследованы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Генетический код ядра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Генетический код митохондрий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Двусторонняя симметрия тела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остный скелет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Пятипалые конечности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Легочное дых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 Амниотическое яйцо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 Удлиненные конечности, дифференциация зубов, молочные железы, теплокровность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 Плацента, живорождение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37"/>
          <p:cNvSpPr/>
          <p:nvPr/>
        </p:nvSpPr>
        <p:spPr>
          <a:xfrm>
            <a:off x="289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1303200" y="0"/>
            <a:ext cx="55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Основные черты человеческого тела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наследованные от животных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636360" y="0"/>
            <a:ext cx="22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Б. Рудимен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69960" y="824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55640" y="836640"/>
            <a:ext cx="794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дименты – это органы или части организма, утратившие в процессе эволюции свои первоначальные функции, имеющиеся у всех особей данного биологического вида. Рудименты – у человека 90 рудиментов: копчик и идущие к нему мышцы, околоушные мышцы, зубы мудрости, остаток мигательной перепонки во внутреннем углу глаза, червеобразный отросток слепой кишки (аппендикс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1" descr="Рудименты2"/>
          <p:cNvPicPr/>
          <p:nvPr/>
        </p:nvPicPr>
        <p:blipFill>
          <a:blip r:embed="rId1"/>
          <a:stretch/>
        </p:blipFill>
        <p:spPr>
          <a:xfrm>
            <a:off x="250920" y="2781360"/>
            <a:ext cx="8459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952720" cy="504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3492360" y="2060640"/>
            <a:ext cx="1943280" cy="288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5724360" y="476280"/>
            <a:ext cx="324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80880" y="762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тавизмы – это черты предковых форм, проявившиеся у отдельных особе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тавизмы – густая шерсть на лице, наличие хвоста, многососковость, сильно развитые клык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494880" y="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. Атавиз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86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672000" cy="57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672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53352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5181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762200" y="40464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еловекообразные обезьян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692360" y="549360"/>
            <a:ext cx="6264360" cy="393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323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новные гипотезы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схождения человек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46" name="Diagram 3"/>
          <p:cNvGrpSpPr/>
          <p:nvPr/>
        </p:nvGrpSpPr>
        <p:grpSpPr>
          <a:xfrm>
            <a:off x="1101240" y="1464840"/>
            <a:ext cx="6651720" cy="3778920"/>
            <a:chOff x="1101240" y="1464840"/>
            <a:chExt cx="6651720" cy="3778920"/>
          </a:xfrm>
        </p:grpSpPr>
        <p:sp>
          <p:nvSpPr>
            <p:cNvPr id="47" name="_s1028"/>
            <p:cNvSpPr/>
            <p:nvPr/>
          </p:nvSpPr>
          <p:spPr>
            <a:xfrm>
              <a:off x="3217680" y="2135880"/>
              <a:ext cx="2418480" cy="19177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_s1029"/>
            <p:cNvSpPr/>
            <p:nvPr/>
          </p:nvSpPr>
          <p:spPr>
            <a:xfrm>
              <a:off x="3790440" y="1464840"/>
              <a:ext cx="12722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реационизм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1030"/>
            <p:cNvSpPr/>
            <p:nvPr/>
          </p:nvSpPr>
          <p:spPr>
            <a:xfrm>
              <a:off x="4014000" y="3231000"/>
              <a:ext cx="2418480" cy="1917720"/>
            </a:xfrm>
            <a:prstGeom prst="ellipse">
              <a:avLst/>
            </a:prstGeom>
            <a:solidFill>
              <a:srgbClr val="ff0066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_s1031"/>
            <p:cNvSpPr/>
            <p:nvPr/>
          </p:nvSpPr>
          <p:spPr>
            <a:xfrm>
              <a:off x="6480000" y="4764240"/>
              <a:ext cx="12729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Эволюцион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гипотез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032"/>
            <p:cNvSpPr/>
            <p:nvPr/>
          </p:nvSpPr>
          <p:spPr>
            <a:xfrm>
              <a:off x="2418840" y="3228840"/>
              <a:ext cx="2418480" cy="19180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1101240" y="4764240"/>
              <a:ext cx="12722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смоген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гипотез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2"/>
          <p:cNvGraphicFramePr/>
          <p:nvPr/>
        </p:nvGraphicFramePr>
        <p:xfrm>
          <a:off x="152280" y="271440"/>
          <a:ext cx="8763120" cy="61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71440"/>
                    <a:ext cx="8763120" cy="61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-208080" y="907920"/>
            <a:ext cx="7288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Палеонтологическ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 Цитогенетические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. Физиологические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. Биохимические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5. Эмбриологические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. Сравнительно-анатомическ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Общий план строения скелетов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Рудимент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тавизм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. Черты сходства человека 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еловекообразных обезья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131560" y="306360"/>
            <a:ext cx="44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омашнее задани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46680" y="1766880"/>
            <a:ext cx="900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полнить рейтинговые задания в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ндивидуальных карточках (по желанию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63720" y="3213000"/>
            <a:ext cx="741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Изучить параграф учебника № 43   и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писи  в индивидуальных карточках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пользованны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-471600" y="1844640"/>
            <a:ext cx="9567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иологический энциклопедический словарь. Главный редактор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.С. Гиляров. Москва: Большая Российская энциклопедия , 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 Общая биология. Учебник для 10-11 класса под ред. Ю.И. Полянского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сква, Просвещение, 1998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Уроки биологии в 10-11 классах. Часть 2 Развернутое планирование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рославль: академия развития, 200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.Виртуальная школа Кирилла и Мефодия  уроки биологии Кирилла 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фод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щая биология, 11 класс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D-ROM Window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. http//biolka.narod.r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. http// bioword. narod.r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-655560" y="711360"/>
            <a:ext cx="1009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тропологи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( от греч.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тропос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человек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огос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учение ).Отрасль естествознания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торая занимается изучением происхождени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эволюции человек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7180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32920" y="3863880"/>
            <a:ext cx="867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ропосоциогенез – (от греч.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нтропос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еловек,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циум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–общество и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енезис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исхождение) –процесс происхождени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еловека, и становления его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 вида в процессе формирования обществ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701800" y="404640"/>
            <a:ext cx="33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еликие учены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Аристотель"/>
          <p:cNvPicPr/>
          <p:nvPr/>
        </p:nvPicPr>
        <p:blipFill>
          <a:blip r:embed="rId1"/>
          <a:stretch/>
        </p:blipFill>
        <p:spPr>
          <a:xfrm>
            <a:off x="2895480" y="1628640"/>
            <a:ext cx="2824200" cy="38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"/>
          <p:cNvPicPr/>
          <p:nvPr/>
        </p:nvPicPr>
        <p:blipFill>
          <a:blip r:embed="rId2"/>
          <a:stretch/>
        </p:blipFill>
        <p:spPr>
          <a:xfrm>
            <a:off x="6804000" y="3573360"/>
            <a:ext cx="159372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Ч"/>
          <p:cNvPicPr/>
          <p:nvPr/>
        </p:nvPicPr>
        <p:blipFill>
          <a:blip r:embed="rId3"/>
          <a:stretch/>
        </p:blipFill>
        <p:spPr>
          <a:xfrm>
            <a:off x="6227640" y="907920"/>
            <a:ext cx="2305080" cy="172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Ж"/>
          <p:cNvPicPr/>
          <p:nvPr/>
        </p:nvPicPr>
        <p:blipFill>
          <a:blip r:embed="rId4"/>
          <a:stretch/>
        </p:blipFill>
        <p:spPr>
          <a:xfrm>
            <a:off x="539640" y="620640"/>
            <a:ext cx="165600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К"/>
          <p:cNvPicPr/>
          <p:nvPr/>
        </p:nvPicPr>
        <p:blipFill>
          <a:blip r:embed="rId5"/>
          <a:stretch/>
        </p:blipFill>
        <p:spPr>
          <a:xfrm>
            <a:off x="900000" y="3860640"/>
            <a:ext cx="1463760" cy="2160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3495600" y="5661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662520" y="28526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. Дарвин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787440" y="604188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. Энгель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902160" y="61657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. Линне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76560" y="308916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.Б. Ламар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851200" y="378000"/>
            <a:ext cx="37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йди соответстви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95280" y="981000"/>
            <a:ext cx="4572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Впервые выдвинул идею, что человек – «родственник животных», выявил различия между человеком и животным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Поместил человека наряду с высшими и низшими обезьянами в один отряд – примат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Описывал происхождение человека: исходный предок человека «четверорукое» существо, которое спустилось на Землю и постепенно стремясь к совершенству превратилось в двурукое существо, способное к прямохождени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Доказал на фактах близкое родство человека с антропоидами, указав на роль социальных фактор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Писал «Труд создал самого человека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867640" y="119700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ан Батист Ламар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943600" y="2205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рльз Дарвин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941800" y="314172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л Линне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6012000" y="407664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5870160" y="551664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ридрих Энгельс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061800" y="2826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роверь себ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403280" y="155736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1. Аристотель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2. Карл Линне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3. Жан Батист Ламар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4. Чарльз Дарвин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5.Фридрих Энгельс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7920" y="307800"/>
            <a:ext cx="88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 систематическое место человека в природ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195640" y="83664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арство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тип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класс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ряд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отряд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мейство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д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50920" y="4724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лекопитающие, приматы, позвоночные, узконосые обезьяны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животные, человек, хордовые, гоминиды(люди), плацентарные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еловек разумны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3368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338200" y="1484280"/>
            <a:ext cx="5007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арство Животные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ип  Хордовые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тип  Позвоночные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асс  Млекопитающие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класс  Плацентарные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ряд  Приматы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отряд  Обезьян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мейство Гоминиды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  Человек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  Человек разумный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183120" y="4698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верь себ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Diagram 7"/>
          <p:cNvGrpSpPr/>
          <p:nvPr/>
        </p:nvGrpSpPr>
        <p:grpSpPr>
          <a:xfrm>
            <a:off x="433080" y="163800"/>
            <a:ext cx="7628760" cy="6285960"/>
            <a:chOff x="433080" y="163800"/>
            <a:chExt cx="7628760" cy="6285960"/>
          </a:xfrm>
        </p:grpSpPr>
        <p:sp>
          <p:nvSpPr>
            <p:cNvPr id="83" name="_s2052"/>
            <p:cNvSpPr/>
            <p:nvPr/>
          </p:nvSpPr>
          <p:spPr>
            <a:xfrm flipH="1" flipV="1">
              <a:off x="2410200" y="2522880"/>
              <a:ext cx="919440" cy="39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2053"/>
            <p:cNvSpPr/>
            <p:nvPr/>
          </p:nvSpPr>
          <p:spPr>
            <a:xfrm>
              <a:off x="433080" y="1344600"/>
              <a:ext cx="2121840" cy="1572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Физиологические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_s2054"/>
            <p:cNvSpPr/>
            <p:nvPr/>
          </p:nvSpPr>
          <p:spPr>
            <a:xfrm flipH="1">
              <a:off x="2410200" y="3698640"/>
              <a:ext cx="919440" cy="39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_s2055"/>
            <p:cNvSpPr/>
            <p:nvPr/>
          </p:nvSpPr>
          <p:spPr>
            <a:xfrm>
              <a:off x="433080" y="3698640"/>
              <a:ext cx="2121840" cy="1572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Биохимические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2056"/>
            <p:cNvSpPr/>
            <p:nvPr/>
          </p:nvSpPr>
          <p:spPr>
            <a:xfrm>
              <a:off x="4246200" y="4090320"/>
              <a:ext cx="0" cy="78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_s2057"/>
            <p:cNvSpPr/>
            <p:nvPr/>
          </p:nvSpPr>
          <p:spPr>
            <a:xfrm>
              <a:off x="3184560" y="4876920"/>
              <a:ext cx="2121840" cy="1572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Цитогенетические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058"/>
            <p:cNvSpPr/>
            <p:nvPr/>
          </p:nvSpPr>
          <p:spPr>
            <a:xfrm>
              <a:off x="5161680" y="3698640"/>
              <a:ext cx="919440" cy="39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059"/>
            <p:cNvSpPr/>
            <p:nvPr/>
          </p:nvSpPr>
          <p:spPr>
            <a:xfrm>
              <a:off x="5939280" y="3698640"/>
              <a:ext cx="2122560" cy="1572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Сравнительно-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эмбриологические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060"/>
            <p:cNvSpPr/>
            <p:nvPr/>
          </p:nvSpPr>
          <p:spPr>
            <a:xfrm flipV="1">
              <a:off x="5161680" y="2522880"/>
              <a:ext cx="919440" cy="39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061"/>
            <p:cNvSpPr/>
            <p:nvPr/>
          </p:nvSpPr>
          <p:spPr>
            <a:xfrm>
              <a:off x="5939280" y="1342080"/>
              <a:ext cx="2122560" cy="1572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Сравнительно-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анатомические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062"/>
            <p:cNvSpPr/>
            <p:nvPr/>
          </p:nvSpPr>
          <p:spPr>
            <a:xfrm flipV="1">
              <a:off x="4246200" y="1736640"/>
              <a:ext cx="0" cy="78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063"/>
            <p:cNvSpPr/>
            <p:nvPr/>
          </p:nvSpPr>
          <p:spPr>
            <a:xfrm>
              <a:off x="3184560" y="163800"/>
              <a:ext cx="2121840" cy="1572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Палеонтологические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064"/>
            <p:cNvSpPr/>
            <p:nvPr/>
          </p:nvSpPr>
          <p:spPr>
            <a:xfrm>
              <a:off x="3184560" y="2523240"/>
              <a:ext cx="2121840" cy="1572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оказательства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животного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роисхождения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человек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11:09Z</dcterms:created>
  <dc:creator>Administrator</dc:creator>
  <dc:description/>
  <dc:language>en-US</dc:language>
  <cp:lastModifiedBy>User</cp:lastModifiedBy>
  <dcterms:modified xsi:type="dcterms:W3CDTF">2012-09-11T15:08:22Z</dcterms:modified>
  <cp:revision>41</cp:revision>
  <dc:subject/>
  <dc:title>Презентация PowerPoint</dc:title>
</cp:coreProperties>
</file>