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736-7FFA-4979-AE7C-8B95B404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BF9-03E7-46AA-9960-6438E2E0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776-038F-4229-8646-A0EF5AE7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FCD-A2F8-4F41-92EA-83CDA07D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AE7A6-1CBD-4401-960D-B3455074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3DDC4-B67F-4CA4-A962-4BDADABA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03886-0E82-470F-94C4-8E94698F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4C4C2-7A04-4650-8CC1-2AFADDE8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DB273-7F88-428D-B614-111DF75B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2CFF4-88F6-4673-B918-AD2F00D3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4805B-B2FD-42EB-895C-A114D67B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8E7-69DC-426B-86F7-CA1B80F4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1722A-A29E-439A-9853-1FBE5959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057CE-7747-42B1-841B-577C2BCE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0A66B-919F-48EA-BAD2-2A3B93A4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DEA53-9BBA-43A4-A627-87E227BB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85F98-1663-48A4-A4D8-C0186666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B8F-F02B-4677-AB9E-3A334E14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6BF-F11E-489E-9884-AA9888E2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FA2-91B6-48AC-89A5-DDF1DA5C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7D0-8ABB-4ACD-9031-EB5EFD6D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E1F-200E-4FAC-8A94-A8A98881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421-DDF4-4C84-A60D-F5912E81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81B-DBC6-41D5-A8D3-9C40AF59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E379-81F2-41D0-9F42-7B5D216A5F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2C5B-E4A2-45DF-BA22-264D815985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-304920"/>
            <a:ext cx="9144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"Квадратные уравнения"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80988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ЦЕЛЬ: Закрепить навык решения квадратных уравнений  по дискременанту , навык решения приведенных  квадратных уравнений  и биквадратных уравн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ВОСПИТАТЕЛЬНАЯ ЦЕЛЬ:воститывать внимание, смекалку, усидчивость, трудолюбие, познавательный интерес к предмету , упорство в достижении ц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380880"/>
            <a:ext cx="92962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нение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х уравнений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09480"/>
            <a:ext cx="93726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1)При построении графика квадратичной функ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2)При решение квадратных неравенст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3)В 10-11 классах при решении показательных, логарифмических и тригонометрических уравнен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228600"/>
          <a:ext cx="8229600" cy="5749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х+8х+1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-Х -7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-4х+5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х+3х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228600"/>
          <a:ext cx="8229600" cy="5484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388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1)Д –больше-О</a:t>
            </a: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  а) 1 коре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2)Д-равен –О</a:t>
            </a: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б) нет корн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3)Д- меньше –О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  В) 2 кор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066680"/>
            <a:ext cx="78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33cc33"/>
                </a:solidFill>
                <a:uFillTx/>
                <a:latin typeface="Arial"/>
              </a:rPr>
              <a:t>1 ---- в)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ff9933"/>
                </a:solidFill>
                <a:uFillTx/>
                <a:latin typeface="Arial"/>
              </a:rPr>
              <a:t>2 ---- а)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ff0000"/>
                </a:solidFill>
                <a:uFillTx/>
                <a:latin typeface="Arial"/>
              </a:rPr>
              <a:t>3 ---- б)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28600"/>
          <a:ext cx="8229600" cy="5943600"/>
        </p:xfrm>
        <a:graphic>
          <a:graphicData uri="http://schemas.openxmlformats.org/drawingml/2006/table">
            <a:tbl>
              <a:tblPr/>
              <a:tblGrid>
                <a:gridCol w="2743200"/>
                <a:gridCol w="2438280"/>
                <a:gridCol w="3048120"/>
              </a:tblGrid>
              <a:tr h="14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авне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умма корне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изведен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рне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х + 6х-16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Х  -5х+ 6 =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Х +8х+15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762120"/>
            <a:ext cx="8001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1)-6;-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2)5 ; 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3)-8;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er</cp:lastModifiedBy>
  <dcterms:modified xsi:type="dcterms:W3CDTF">2009-01-27T22:47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