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A47-EECF-4C50-AE90-FA3406DEF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67F-F628-4DE7-98E5-1A27BD32E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5868-9A14-44FF-AA3D-E502C1209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E7A-555D-46E9-BB01-F08E1955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1A1-FB23-4C65-86A2-963F877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35-FF95-47B7-BB12-5353A340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993-48F9-478D-9DFB-336AEC31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EC6-6474-44B9-9E4D-3536C015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8D9-4041-499C-93DF-2DE9641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1D9-14B8-4906-8093-C1FEA8E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CC1A-34E4-4AD6-BC2F-023821D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5781-41C8-4697-B343-496FE7E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F291-2134-41AC-8A24-8DCDE98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4EC-2D20-4599-A5FB-6F23698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CC5-F501-40B4-99A8-53EDEA2A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CB0E-0C9C-477F-B5F8-86824BF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1184-2AFA-4ED8-AA57-644622B8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4D0E-50C8-49C9-8333-D7864B3E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B5D6-6D9E-4DE6-85B5-A5641344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6D9-7F0C-412C-B567-D01322E6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B4A-7E08-45E0-96CD-E29C6494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98F-2D7C-426B-AB22-6EE0621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797-38D5-4570-A36C-694DD0B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1F6-C244-421D-A8F9-C42975D3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589-1477-4310-BCAD-E328A4A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207-D689-42B1-9F2E-B2D5848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883-1CEC-4500-9414-F64F6CA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E1A8-F80D-4B7E-AA5E-3E1284EBF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AB0-319B-4D3E-889E-2F1E5CB04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756D-87C1-4C5B-ACEF-AD9F62E3F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5D6-09FA-47E8-9092-9150AC322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928800"/>
            <a:ext cx="5832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правильной речи обучающихся 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ступ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214880" y="3357720"/>
            <a:ext cx="421488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Сердцева Татьяна Петр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учитель – логопед МБУ ИМЦ О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4786200" y="4929120"/>
            <a:ext cx="1914480" cy="97632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42A1-C093-430C-8C42-27265740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допускаемые грамматически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85520" y="1357200"/>
            <a:ext cx="7900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 согласуют сл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а </a:t>
            </a: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кн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ла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родительного падежа существительных множественного чи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ОМ – ДОМОВ; РУЧКА – РУЧ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потреблении несклоняемых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 у меня на пальте пуговица оторвалас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9FF-F16B-4DD4-845A-6E1B96203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ого сл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F73-74B9-4517-BCC6-5DC47DEF9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643800" y="1214280"/>
            <a:ext cx="2071440" cy="2000520"/>
          </a:xfrm>
          <a:prstGeom prst="rect">
            <a:avLst/>
          </a:prstGeom>
          <a:ln w="0">
            <a:noFill/>
          </a:ln>
        </p:spPr>
      </p:pic>
      <p:sp>
        <p:nvSpPr>
          <p:cNvPr id="166" name="Облако 6"/>
          <p:cNvSpPr/>
          <p:nvPr/>
        </p:nvSpPr>
        <p:spPr>
          <a:xfrm>
            <a:off x="714240" y="1643040"/>
            <a:ext cx="3143520" cy="128592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а -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блако 7"/>
          <p:cNvSpPr/>
          <p:nvPr/>
        </p:nvSpPr>
        <p:spPr>
          <a:xfrm>
            <a:off x="2214720" y="4714920"/>
            <a:ext cx="3429000" cy="157176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ки -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лако 8"/>
          <p:cNvSpPr/>
          <p:nvPr/>
        </p:nvSpPr>
        <p:spPr>
          <a:xfrm>
            <a:off x="4000680" y="1428840"/>
            <a:ext cx="3357360" cy="1643040"/>
          </a:xfrm>
          <a:prstGeom prst="pi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ка - Ля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блако 9"/>
          <p:cNvSpPr/>
          <p:nvPr/>
        </p:nvSpPr>
        <p:spPr>
          <a:xfrm>
            <a:off x="1214280" y="3357720"/>
            <a:ext cx="292896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-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блако 10"/>
          <p:cNvSpPr/>
          <p:nvPr/>
        </p:nvSpPr>
        <p:spPr>
          <a:xfrm>
            <a:off x="4786200" y="3357720"/>
            <a:ext cx="3857760" cy="142848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и - 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3880" y="1357200"/>
            <a:ext cx="80010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движение органов речевого аппара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мышечную систему языка, губ, щё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удерживать  определённую артикуляционную поз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ребёнка к правильному              произношению зву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амплитуд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й я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96E-AAA7-400B-9991-917CE4B25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5786280" y="4714920"/>
            <a:ext cx="3033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Дуть на пламя, свечку, одуван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3D8-E02C-4E6B-A7DB-72E48F624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6715080" y="1285920"/>
            <a:ext cx="1571760" cy="1785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1143000" y="271476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4"/>
          <a:stretch/>
        </p:blipFill>
        <p:spPr>
          <a:xfrm>
            <a:off x="2786040" y="4286160"/>
            <a:ext cx="1552680" cy="20005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3158640" y="307188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Мыльные пузы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3944160" y="557208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у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оздушные ша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5"/>
          <a:stretch/>
        </p:blipFill>
        <p:spPr>
          <a:xfrm>
            <a:off x="5072040" y="3714840"/>
            <a:ext cx="1857240" cy="1571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3"/>
          <p:cNvSpPr/>
          <p:nvPr/>
        </p:nvSpPr>
        <p:spPr>
          <a:xfrm>
            <a:off x="6863760" y="4143240"/>
            <a:ext cx="18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уть в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олом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на кончиках паль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0556-0A63-4B65-A9D2-A7DE15B6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1071720" y="1571760"/>
            <a:ext cx="764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ечевых областей совершается под влиянием кинестетических импульсов от рук, а точнее, от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звитие движений пальцев соответствует возрасту, то и речевое развитие находится в пределах н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500280" y="4286160"/>
            <a:ext cx="2643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мер, способствующих развитию рук и ручной умел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57160" y="1599840"/>
            <a:ext cx="6858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 гимнаст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крупой, бусинками, пуговицами, мелкими камешк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 пластилин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учивание гаек, шуру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мозаикой. Составление картин по образцу и самостоятельное придумывание сюж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FFD-41B8-4174-8267-950B28807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user\Рабочий стол\999.jpeg"/>
          <p:cNvPicPr/>
          <p:nvPr/>
        </p:nvPicPr>
        <p:blipFill>
          <a:blip r:embed="rId2"/>
          <a:stretch/>
        </p:blipFill>
        <p:spPr>
          <a:xfrm>
            <a:off x="6715080" y="17859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user\Рабочий стол\55.jpeg"/>
          <p:cNvPicPr/>
          <p:nvPr/>
        </p:nvPicPr>
        <p:blipFill>
          <a:blip r:embed="rId3"/>
          <a:stretch/>
        </p:blipFill>
        <p:spPr>
          <a:xfrm>
            <a:off x="2786040" y="3643200"/>
            <a:ext cx="1714680" cy="1214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4"/>
          <a:stretch/>
        </p:blipFill>
        <p:spPr>
          <a:xfrm>
            <a:off x="5715000" y="3214800"/>
            <a:ext cx="1643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храна гол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у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Истошно крич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Громко гово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Пить холодные напи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Есть сн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Находиться в прокуренных помещ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EBC2-EEF1-4CCB-865E-993981BBB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Обратите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28440" y="9288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8141-383C-4C34-8C18-FD1408116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Горизонтальный свиток 9"/>
          <p:cNvSpPr/>
          <p:nvPr/>
        </p:nvSpPr>
        <p:spPr>
          <a:xfrm>
            <a:off x="928800" y="714240"/>
            <a:ext cx="5072040" cy="1428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звуки правильно произносит ваш ребен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Горизонтальный свиток 10"/>
          <p:cNvSpPr/>
          <p:nvPr/>
        </p:nvSpPr>
        <p:spPr>
          <a:xfrm>
            <a:off x="3071880" y="1928880"/>
            <a:ext cx="5715000" cy="1214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и он различать похожие звуки на сл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Горизонтальный свиток 11"/>
          <p:cNvSpPr/>
          <p:nvPr/>
        </p:nvSpPr>
        <p:spPr>
          <a:xfrm>
            <a:off x="928800" y="314316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ет ли он элементарными навыками звукового анализа с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Горизонтальный свиток 12"/>
          <p:cNvSpPr/>
          <p:nvPr/>
        </p:nvSpPr>
        <p:spPr>
          <a:xfrm>
            <a:off x="2286000" y="4357800"/>
            <a:ext cx="6357960" cy="1071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 богат его словарный зап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Горизонтальный свиток 13"/>
          <p:cNvSpPr/>
          <p:nvPr/>
        </p:nvSpPr>
        <p:spPr>
          <a:xfrm>
            <a:off x="1071720" y="5286240"/>
            <a:ext cx="7429320" cy="1214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лает ли он в речи грамматических ошиб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ли владеет связной реч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мог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в семье условия, благоприятные для общего и речевого развития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одить целенаправленную и систематическую работу по речевому развитию детей и необходимую коррекцию недостатков в развитии ре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ругать ребенка за неправильную реч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навязчиво исправлять неправильное произнош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аострять внимание на запинках и повторах слогов и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ять позитивный настрой ребенка на занятия с педагог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5ED-1751-425F-99FC-CDEF2234B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620280"/>
            <a:ext cx="7758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«Великий, свободный, правдивый, могучий русский язы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D56-A24C-44A1-A119-D9EFD79DB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3492360" y="23493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643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Documents and Settings\user\Рабочий стол\sm_full.jpeg"/>
          <p:cNvPicPr/>
          <p:nvPr/>
        </p:nvPicPr>
        <p:blipFill>
          <a:blip r:embed="rId2"/>
          <a:stretch/>
        </p:blipFill>
        <p:spPr>
          <a:xfrm>
            <a:off x="6643800" y="285840"/>
            <a:ext cx="2214360" cy="2714400"/>
          </a:xfrm>
          <a:prstGeom prst="rect">
            <a:avLst/>
          </a:prstGeom>
          <a:ln w="0">
            <a:noFill/>
          </a:ln>
        </p:spPr>
      </p:pic>
      <p:sp>
        <p:nvSpPr>
          <p:cNvPr id="99" name="Загнутый угол 4"/>
          <p:cNvSpPr/>
          <p:nvPr/>
        </p:nvSpPr>
        <p:spPr>
          <a:xfrm>
            <a:off x="928800" y="1214280"/>
            <a:ext cx="2857320" cy="12859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развит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нутый угол 5"/>
          <p:cNvSpPr/>
          <p:nvPr/>
        </p:nvSpPr>
        <p:spPr>
          <a:xfrm>
            <a:off x="4071960" y="1357200"/>
            <a:ext cx="2500200" cy="17146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щение с окружающ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нутый угол 6"/>
          <p:cNvSpPr/>
          <p:nvPr/>
        </p:nvSpPr>
        <p:spPr>
          <a:xfrm>
            <a:off x="928800" y="2786040"/>
            <a:ext cx="2714400" cy="14288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е выражение своих мы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нутый угол 7"/>
          <p:cNvSpPr/>
          <p:nvPr/>
        </p:nvSpPr>
        <p:spPr>
          <a:xfrm>
            <a:off x="4071960" y="3357720"/>
            <a:ext cx="2286000" cy="1214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ность в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нутый угол 8"/>
          <p:cNvSpPr/>
          <p:nvPr/>
        </p:nvSpPr>
        <p:spPr>
          <a:xfrm>
            <a:off x="5857920" y="4786200"/>
            <a:ext cx="2643120" cy="15004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адаптироваться к люб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нутый угол 9"/>
          <p:cNvSpPr/>
          <p:nvPr/>
        </p:nvSpPr>
        <p:spPr>
          <a:xfrm>
            <a:off x="1357200" y="4786200"/>
            <a:ext cx="3214800" cy="135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е обучение в школе, овладение грам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2A5E-C420-49B7-8A30-0B0BD0BBB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CDC-3E89-4862-9DFF-8468623B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2"/>
          <a:stretch/>
        </p:blipFill>
        <p:spPr>
          <a:xfrm>
            <a:off x="317520" y="30240"/>
            <a:ext cx="936936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ая готовность ребёнка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471960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55640" y="532440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55640" y="568476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826920" y="601488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7"/>
          <p:cNvSpPr/>
          <p:nvPr/>
        </p:nvSpPr>
        <p:spPr>
          <a:xfrm>
            <a:off x="785880" y="1714680"/>
            <a:ext cx="421488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звуковой стороны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8"/>
          <p:cNvSpPr/>
          <p:nvPr/>
        </p:nvSpPr>
        <p:spPr>
          <a:xfrm>
            <a:off x="4429080" y="1643040"/>
            <a:ext cx="435780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фонетически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9"/>
          <p:cNvSpPr/>
          <p:nvPr/>
        </p:nvSpPr>
        <p:spPr>
          <a:xfrm>
            <a:off x="1571760" y="5000760"/>
            <a:ext cx="485748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звукобуквенному анализу и синте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0"/>
          <p:cNvSpPr/>
          <p:nvPr/>
        </p:nvSpPr>
        <p:spPr>
          <a:xfrm>
            <a:off x="714240" y="3429000"/>
            <a:ext cx="421488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грамматического строя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5357880" y="3429000"/>
            <a:ext cx="3143160" cy="207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льзования способами слов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3EC-E8BD-45EB-BBB2-D482A2C0D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азвития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85880" y="1600200"/>
            <a:ext cx="81439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произношени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матическое восприятие различных слов на слу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ОМ – ДОМ; ТАЧКА – ДАЧ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УШ – ТУШЬ; ТОЧКА - ДОЧ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АРТИНА – ГАР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говая структура сл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илиционер, велосипедист, снеговик, аквариум, сковор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Documents and Settings\user\Рабочий стол\r.gif"/>
          <p:cNvPicPr/>
          <p:nvPr/>
        </p:nvPicPr>
        <p:blipFill>
          <a:blip r:embed="rId2"/>
          <a:stretch/>
        </p:blipFill>
        <p:spPr>
          <a:xfrm>
            <a:off x="4929120" y="1500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15000" y="150012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643800" y="1500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7358040" y="1500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8072280" y="1500120"/>
            <a:ext cx="500400" cy="642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4"/>
          <p:cNvSpPr/>
          <p:nvPr/>
        </p:nvSpPr>
        <p:spPr>
          <a:xfrm>
            <a:off x="10717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C87D-EA37-4B34-841E-8937620D8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азвития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28800" y="856800"/>
            <a:ext cx="7758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нополняемость слов смазано – невнятно, пропуск звуков, зам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формирован грамматический строй ре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словарный зап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ет связная реч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я общая и артикуляционная мотор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000080" y="3500280"/>
            <a:ext cx="1257480" cy="142884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4B2-13F0-40ED-9FA0-26E59E785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скажённого речев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487-ACFE-47A5-B6BC-A3235344A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хема 6" descr=""/>
          <p:cNvPicPr/>
          <p:nvPr/>
        </p:nvPicPr>
        <p:blipFill>
          <a:blip r:embed="rId2"/>
          <a:stretch/>
        </p:blipFill>
        <p:spPr>
          <a:xfrm>
            <a:off x="835200" y="1639800"/>
            <a:ext cx="7827840" cy="4724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857160" y="3500280"/>
            <a:ext cx="382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ёлые заболе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ые трав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722560" y="2500200"/>
            <a:ext cx="24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по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уш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664160" y="500076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нгит, энцефал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б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лияние среды на 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8800" y="1213920"/>
            <a:ext cx="7829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7a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являетесь для своих детей авторитетом и образцом правильной и грамотной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Documents and Settings\user\Рабочий стол\8.jpeg"/>
          <p:cNvPicPr/>
          <p:nvPr/>
        </p:nvPicPr>
        <p:blipFill>
          <a:blip r:embed="rId2"/>
          <a:stretch/>
        </p:blipFill>
        <p:spPr>
          <a:xfrm>
            <a:off x="2786040" y="34290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31FB-0914-43D4-BB2B-5D08C9FED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рные слова 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71680" y="1285920"/>
            <a:ext cx="78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BE9F-D2FA-4EF6-9791-9B06EA899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лнце 4"/>
          <p:cNvSpPr/>
          <p:nvPr/>
        </p:nvSpPr>
        <p:spPr>
          <a:xfrm>
            <a:off x="500040" y="785880"/>
            <a:ext cx="2786040" cy="17143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лнце 5"/>
          <p:cNvSpPr/>
          <p:nvPr/>
        </p:nvSpPr>
        <p:spPr>
          <a:xfrm>
            <a:off x="2928960" y="785880"/>
            <a:ext cx="4000320" cy="13572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АК - 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лнце 6"/>
          <p:cNvSpPr/>
          <p:nvPr/>
        </p:nvSpPr>
        <p:spPr>
          <a:xfrm>
            <a:off x="500040" y="2786040"/>
            <a:ext cx="3857760" cy="13572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В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лнце 7"/>
          <p:cNvSpPr/>
          <p:nvPr/>
        </p:nvSpPr>
        <p:spPr>
          <a:xfrm>
            <a:off x="5786280" y="1571760"/>
            <a:ext cx="2928960" cy="1643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ХОД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лнце 8"/>
          <p:cNvSpPr/>
          <p:nvPr/>
        </p:nvSpPr>
        <p:spPr>
          <a:xfrm>
            <a:off x="4143240" y="2643120"/>
            <a:ext cx="2857680" cy="1143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Т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лнце 9"/>
          <p:cNvSpPr/>
          <p:nvPr/>
        </p:nvSpPr>
        <p:spPr>
          <a:xfrm>
            <a:off x="4214880" y="4500720"/>
            <a:ext cx="2857320" cy="10000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ХОЧ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лнце 10"/>
          <p:cNvSpPr/>
          <p:nvPr/>
        </p:nvSpPr>
        <p:spPr>
          <a:xfrm>
            <a:off x="1071720" y="3857760"/>
            <a:ext cx="3357360" cy="13572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Х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лнце 11"/>
          <p:cNvSpPr/>
          <p:nvPr/>
        </p:nvSpPr>
        <p:spPr>
          <a:xfrm>
            <a:off x="5643720" y="3500280"/>
            <a:ext cx="3000240" cy="1143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У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лнце 12"/>
          <p:cNvSpPr/>
          <p:nvPr/>
        </p:nvSpPr>
        <p:spPr>
          <a:xfrm>
            <a:off x="2786040" y="2143080"/>
            <a:ext cx="142884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лнце 13"/>
          <p:cNvSpPr/>
          <p:nvPr/>
        </p:nvSpPr>
        <p:spPr>
          <a:xfrm>
            <a:off x="785880" y="5214960"/>
            <a:ext cx="4286160" cy="9288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ОКЛАД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лнце 14"/>
          <p:cNvSpPr/>
          <p:nvPr/>
        </p:nvSpPr>
        <p:spPr>
          <a:xfrm>
            <a:off x="5072040" y="5357880"/>
            <a:ext cx="3571920" cy="10000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А ПАЛ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рные слова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, бр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, зв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, вз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, зв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, кран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a0000"/>
                </a:solidFill>
                <a:latin typeface="Calibri"/>
              </a:rPr>
              <a:t>Чао, паркинг, драйф, бойфренд, беби, йес, хай, мерси, о майн год, уекенд, су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4F0-5F15-4508-AA44-1727E3F4C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3143160" y="3714840"/>
            <a:ext cx="3714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Анатолий</cp:lastModifiedBy>
  <dcterms:modified xsi:type="dcterms:W3CDTF">2012-12-06T19:43:06Z</dcterms:modified>
  <cp:revision>33</cp:revision>
  <dc:subject/>
  <dc:title>Слайд 1</dc:title>
</cp:coreProperties>
</file>