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637-C0DE-4605-A078-AB4546648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3A9-F6EF-420F-8226-07AE82A3D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E21-4ECF-458B-B2F0-67DAC2D8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32C-0F42-461C-B2E9-3CA03E7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09D-5388-4E14-9037-BA395F2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074-8277-4F58-9AF8-779E1CD9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8DC-71CD-4CCF-A95C-A2C52569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695-6075-46C4-9060-9EB8C2E5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2E6-CFB8-4230-9A31-18A7E69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B4D-FFC7-45C1-9518-8C841726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9D8-BD6C-48F0-91F5-3F7C5820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4B1-A54B-4A8A-9571-24481D4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7AF-6155-43D8-A24B-81802CC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AEE-3F0F-409F-A18A-E44D631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161-63F8-4303-B6BA-BCF98184F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7631280" cy="230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Биосфера. Среды жиз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природоведения, 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Соверткова Юлия Владиле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826920" y="836640"/>
            <a:ext cx="756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ая общеобразовательная средняя школа №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жневарт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и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олочка Земли, состоящая из всех живых организмов и среды их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спомните, что такое «биосфер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глобус"/>
          <p:cNvPicPr/>
          <p:nvPr/>
        </p:nvPicPr>
        <p:blipFill>
          <a:blip r:embed="rId1"/>
          <a:stretch/>
        </p:blipFill>
        <p:spPr>
          <a:xfrm flipH="1" rot="10800000">
            <a:off x="3581280" y="2819520"/>
            <a:ext cx="236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77916 0.0226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2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реда обитания организма (окружающая сред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всё, что окружает живой организ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>
            <a:lum contrast="10000"/>
          </a:blip>
          <a:srcRect l="8331" t="0" r="0" b="26665"/>
          <a:stretch/>
        </p:blipFill>
        <p:spPr>
          <a:xfrm>
            <a:off x="2209680" y="2286000"/>
            <a:ext cx="4307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8394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Факторы среды обитания (экологические фактор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условия среды обитания (тела, явления), с которыми организм находится в определённых взаимоотнош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>
            <a:lum contrast="10000"/>
          </a:blip>
          <a:srcRect l="8331" t="0" r="0" b="26665"/>
          <a:stretch/>
        </p:blipFill>
        <p:spPr>
          <a:xfrm>
            <a:off x="2209680" y="2286000"/>
            <a:ext cx="4307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реды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емн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rcRect l="8331" t="0" r="0" b="26665"/>
          <a:stretch/>
        </p:blipFill>
        <p:spPr>
          <a:xfrm>
            <a:off x="0" y="28195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1" name="Line 9"/>
          <p:cNvSpPr/>
          <p:nvPr/>
        </p:nvSpPr>
        <p:spPr>
          <a:xfrm flipH="1">
            <a:off x="1828800" y="11430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3580920" y="1219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029200" y="1219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6019920" y="12193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3623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4956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"/>
          <p:cNvPicPr/>
          <p:nvPr/>
        </p:nvPicPr>
        <p:blipFill>
          <a:blip r:embed="rId2"/>
          <a:srcRect l="0" t="27779" r="0" b="0"/>
          <a:stretch/>
        </p:blipFill>
        <p:spPr>
          <a:xfrm>
            <a:off x="3733920" y="2971800"/>
            <a:ext cx="4495680" cy="3916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6553080" y="1828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"/>
          <p:cNvPicPr/>
          <p:nvPr/>
        </p:nvPicPr>
        <p:blipFill>
          <a:blip r:embed="rId3"/>
          <a:srcRect l="6441" t="0" r="29153" b="71431"/>
          <a:stretch/>
        </p:blipFill>
        <p:spPr>
          <a:xfrm>
            <a:off x="2209680" y="2568600"/>
            <a:ext cx="6629400" cy="428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"/>
          <p:cNvPicPr/>
          <p:nvPr/>
        </p:nvPicPr>
        <p:blipFill>
          <a:blip r:embed="rId4"/>
          <a:srcRect l="5554" t="72226" r="23615" b="0"/>
          <a:stretch/>
        </p:blipFill>
        <p:spPr>
          <a:xfrm>
            <a:off x="838080" y="3122640"/>
            <a:ext cx="76201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Факторы среды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572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абиотические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 flipH="1">
            <a:off x="2743200" y="12193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5257800" y="12193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800600" y="1676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биот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>
            <a:off x="6781680" y="2819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солнышко 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609480"/>
            <a:ext cx="1511280" cy="1343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2"/>
          <p:cNvSpPr/>
          <p:nvPr/>
        </p:nvSpPr>
        <p:spPr>
          <a:xfrm>
            <a:off x="1295280" y="3048120"/>
            <a:ext cx="2667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5867280" y="3124080"/>
            <a:ext cx="3124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гусеница 4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8001000" y="685800"/>
            <a:ext cx="11430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>
            <a:lum contrast="30000"/>
          </a:blip>
          <a:srcRect l="0" t="0" r="-843" b="0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715000" y="83808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105520" y="380880"/>
            <a:ext cx="35812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азовите среду обитания кара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Какие абиотические факторы на него воздейству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акие биотические факторы на него воздейству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 flipH="1">
            <a:off x="2666880" y="1295280"/>
            <a:ext cx="2362320" cy="198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такое – «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биосфер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такое – «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окружающая сре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4 основных среды обита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такое – «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экологические факто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2 вида экологических фактор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76720" y="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пом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Используемый источ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филова Л.Д. Тематическое и поурочное планирование по природоведению: 5 класс: к учебнику В.М. Пакуловой, Н.В. Ивановой «Природа.  Неживая и живая.5 класс»/Л.Д. Парфилова.-М.:Издательство «Экзамен», 2005.-1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2-08T12:21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