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9963-B444-4364-8433-87E8C9207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8487-B8AD-4762-8BA5-1172203FA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48D9-A24F-4EEF-BFEC-D314DEBA9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B1A8-AF16-4B76-BC8A-383973175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01C5-47A0-44B1-ADF5-65BD3FB6E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CDAF-3B34-488B-AE1A-EA091F39A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7C0E-0A50-424F-B19B-71BEE8B50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8589-D699-4F63-82D8-B9EBCA4C7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1FE8-E0AF-4431-8F86-3D4E3AE4F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A7E3-4669-4C8E-9529-6E94A5AC4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FDA7-10FD-4838-AB22-1C1A0C974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A120-6D78-43B7-8461-DCEC1244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E39C6-A74B-4F37-98AE-087FD7BEE90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fd293"/>
                </a:solidFill>
                <a:latin typeface="Arial"/>
              </a:rPr>
              <a:t>Сердце</a:t>
            </a:r>
            <a:r>
              <a:rPr b="0" lang="en-US" sz="1800" spc="-1" strike="noStrike">
                <a:solidFill>
                  <a:srgbClr val="dfd293"/>
                </a:solidFill>
                <a:latin typeface="Arial"/>
              </a:rPr>
              <a:t> - это полый мышечный орган, состоящий из четырех камер: двух предсердий и двух желудочков. Между этими камерами имеются клапаны, которые пропускают кровь только в одном направлении.</a:t>
            </a:r>
            <a:endParaRPr b="0" lang="en-US" sz="18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835280" y="1349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Работа сердца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кращение предсердий – 0,1 се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кращение желудочков  - 0,3 се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сслабление сердца – 0,4 се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364000" y="3213000"/>
            <a:ext cx="3456000" cy="34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 здоровых людей максимальное кровяное давление – около 120 мм рт. ст., минимальное – 70-80 мм рт.ст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вышение кровяного давления – гипертония, понижение – гипото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Пульс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это ритмическое колебание артериальной стенки, возникающее при каждом сокращении сердц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 пульсу можно узнать количество сокращений сердца в минуту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0T19:10:19Z</dcterms:created>
  <dc:creator>HomeSulea</dc:creator>
  <dc:description/>
  <dc:language>en-US</dc:language>
  <cp:lastModifiedBy>HomeSulea</cp:lastModifiedBy>
  <dcterms:modified xsi:type="dcterms:W3CDTF">2012-11-20T19:12:31Z</dcterms:modified>
  <cp:revision>1</cp:revision>
  <dc:subject/>
  <dc:title>Сердце - это полый мышечный орган, состоящий из четырех камер: двух предсердий и двух желудочков. Между этими камерами имеются клапаны, которые пропускают кровь только в одном направлении.</dc:title>
</cp:coreProperties>
</file>