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33C-62CD-484E-A06A-10838073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66E-B3A0-496F-8FE2-E20FA6F5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58D-18F0-413B-BD2E-CB19C636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28D-211E-40D6-963F-B79DF88C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C4D-F260-4525-82C0-8820766D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E71-40A4-4C82-9171-04A2C306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224-A522-450F-B12E-A6D846C8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9AC-F5ED-4FE2-9327-A956E32B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007-9E7A-454D-837A-BA1E241F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9ED-9359-4CDF-B57E-5CCF278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D8C-40B2-4F3D-8D5A-80E50E60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3B4-B523-4C2B-BA10-E1DABA82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3668-45FA-4969-AEE6-55C75BA6F0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ервая помощь при остановке сердц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Сочетание непрямого массажа сердца и ИВ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799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Азбука» элементарной реанимаци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рить у пострадавшего наличие пульса на сонной арте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рить наличие дых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ложить пострадавшего на спину на твердую поверхность, расстегнуть одежду, стесняющую грудь, обеспечить свободную проходимость дыхательных пу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тать рядом с пострадавшим слева от него на кол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нет пульса на сонной артерии и дыхания, срочно приступить к реанимации, начать делать искусственное дыхание и непрямой массаж серд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ить реанимацию до прибытия врачебной 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РЕАНИМАЦИ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сстановление или временное замещение резко нарушенных или утраченных жизненно важных функций организ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Сайт «Первая помощь»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ttp://www.pomogi-sebe.ru/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первая помощ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определить пульс пострадавше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выполняется непрямой массаж сердц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происходит с сердцем во время массаж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искусственная вентиляция легки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жите о правилах выполнения искусственного дых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Что такое первая помощь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ервая помощ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совокупность простых, целесообразных мер по охране здоровья и жизни пострадавшего от травмы или внезапно заболевшего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Как определить пульс пострадавшего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йте пульс только кончиками двух пальцев. Положите их справа от кадыка, без наж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льзите пальцами назад, по стороне кадыка, так, чтобы они попали в вертикальную бороздку между ним и мышцей, расположенной сбоку от н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ы не почувствовали пульс сразу, надавите кончиками пальцев чуть ближе и чуть дальше от кадыка, пока не нащупаете би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48000" y="5013360"/>
            <a:ext cx="30243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Как выполняется непрямой массаж сердца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43640" y="2133720"/>
            <a:ext cx="2435400" cy="338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59280" y="3789360"/>
            <a:ext cx="2857320" cy="2028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9640" y="2060640"/>
            <a:ext cx="2019240" cy="248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348000" y="1844640"/>
            <a:ext cx="2200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Как выполняется непрямой массаж сердца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43640" y="2133720"/>
            <a:ext cx="2435400" cy="338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59280" y="3789360"/>
            <a:ext cx="2857320" cy="2028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9640" y="2060640"/>
            <a:ext cx="2019240" cy="24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48000" y="1844640"/>
            <a:ext cx="2200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Что происходит с сердцем во время массажа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7440" y="1701720"/>
            <a:ext cx="6988320" cy="3951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69850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9:13:21Z</dcterms:created>
  <dc:creator>HomeSulea</dc:creator>
  <dc:description/>
  <dc:language>en-US</dc:language>
  <cp:lastModifiedBy>HomeSulea</cp:lastModifiedBy>
  <dcterms:modified xsi:type="dcterms:W3CDTF">2012-11-20T19:18:39Z</dcterms:modified>
  <cp:revision>1</cp:revision>
  <dc:subject/>
  <dc:title>Первая помощь при остановке сердца</dc:title>
</cp:coreProperties>
</file>