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78E-C42F-4988-9EC3-B88AC001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8C7-A39E-4003-8596-50CC5A4F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AC1-8817-47AB-B564-4AAAF403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DF8-D34F-4B44-8324-973389BF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E323-06AF-4776-8433-F0BB888B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C297-5310-4312-AC2C-7E7C0CC1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0EB8-6C66-425A-A242-73AC5E43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9369-B8AF-4A17-BD55-EAA6EE8F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7DD5-4AA4-4F66-BB53-5FDE26E9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09B4-A67D-4D95-908B-41EBCC2A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CDFD-9BFA-434F-8589-94352E17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BC6-521E-4DD0-BBAF-ECFB6F52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8E02-FD0D-4B96-BE97-33D0938C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E07A-490D-4807-AFFE-C7B7E193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CCFA-0CDB-416C-A775-ACA4F910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3335-A009-41A0-81D6-4F4C2EB6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E941-41DD-4392-9C7D-7B671AA7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DA5-2999-4818-9C38-33598276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5FC-F844-4A62-AF0A-BF5BF0F1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DB4-810E-4735-870E-4EDC8FC9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D08-2D97-415E-B73F-CC2D9273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ACC-EFA7-483B-B81F-CE1DAE24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EAF-47EF-4E46-83EB-2F1D070A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5FC-E14B-4F83-95CF-57B4E6A3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3EAD-1EF5-4450-BA63-0CDFEEF1A5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0D87-3A08-477B-8160-63D999CAB20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turismy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3c145"/>
                </a:solidFill>
                <a:latin typeface="Tahoma"/>
              </a:rPr>
              <a:t>Название работы «Чудеса све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3c145"/>
                </a:solidFill>
                <a:latin typeface="Tahoma"/>
              </a:rPr>
              <a:t>Направление - исто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3c145"/>
                </a:solidFill>
                <a:latin typeface="Tahoma"/>
              </a:rPr>
              <a:t>Место выполнения – МОУ СОШ№40 г.Владикавка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3c145"/>
                </a:solidFill>
                <a:latin typeface="Tahoma"/>
              </a:rPr>
              <a:t>3 «А»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3c145"/>
                </a:solidFill>
                <a:latin typeface="Tahoma"/>
              </a:rPr>
              <a:t>Научный руководитель – Ильенко Елена Николаевна – учитель высшей категории, 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3c145"/>
                </a:solidFill>
                <a:latin typeface="Tahoma"/>
              </a:rPr>
              <a:t>2012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4194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отправляемся в путешествие в Двуречье. Климат здесь сухой и жаркий. И вдруг среди этой пустоты, песка и жары открывалась удивительная картина: сады в которых деревья как бы взбираются под самое небо. Издали казалось, что они висят в воздухе. Висячие сады были разбиты для жены мидийского царя Семирамид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7" descr="4"/>
          <p:cNvPicPr/>
          <p:nvPr/>
        </p:nvPicPr>
        <p:blipFill>
          <a:blip r:embed="rId1"/>
          <a:stretch/>
        </p:blipFill>
        <p:spPr>
          <a:xfrm>
            <a:off x="4267080" y="533520"/>
            <a:ext cx="4724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54064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c145"/>
                </a:solidFill>
                <a:latin typeface="Tahoma"/>
              </a:rPr>
              <a:t>Вывод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висячие сады оказались недолговечными и пропали вместе с Вавилоном. Многие творения рук человека не дошли до нашего времени из-за стихийных бедств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c145"/>
                </a:solidFill>
                <a:latin typeface="Tahoma"/>
              </a:rPr>
              <a:t>Египетские пирами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и словно вырастают из песков пустыни – величественные, подавляющие человека необычайными размерами и строгостью очерт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7" descr="1011576-PH03742"/>
          <p:cNvPicPr/>
          <p:nvPr/>
        </p:nvPicPr>
        <p:blipFill>
          <a:blip r:embed="rId1"/>
          <a:stretch/>
        </p:blipFill>
        <p:spPr>
          <a:xfrm>
            <a:off x="1447920" y="3352680"/>
            <a:ext cx="6553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3925800"/>
            <a:ext cx="854064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сообщал древнегреческий историк Геродот, посетивший Египет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.до н.э., одна только дорога, по которой доставлялись камни из каменоломен, строилась около десяти лет. Через каждые три месяца менялись рабочие, число которых достигло 100 тысяч человек. Никаких машин для поднятия 2-х тонных глыб не бы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8" descr="1259311511_22"/>
          <p:cNvPicPr/>
          <p:nvPr/>
        </p:nvPicPr>
        <p:blipFill>
          <a:blip r:embed="rId1"/>
          <a:stretch/>
        </p:blipFill>
        <p:spPr>
          <a:xfrm>
            <a:off x="304920" y="609480"/>
            <a:ext cx="4114800" cy="3087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4~0"/>
          <p:cNvPicPr/>
          <p:nvPr/>
        </p:nvPicPr>
        <p:blipFill>
          <a:blip r:embed="rId2"/>
          <a:stretch/>
        </p:blipFill>
        <p:spPr>
          <a:xfrm>
            <a:off x="4876920" y="609480"/>
            <a:ext cx="4038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151920" y="609120"/>
            <a:ext cx="43434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узнал, что строитель первой пирамиды Имхотеп был архитектором, врачом, астрономом, писателем, советником фараона. Археологи насчитали 80 пирамид. Не все они дошли до наших дней. Самая большая из сохранившихся пирамид – пирамида Хеопса – высотой 147м. Из-за наступления песков её высота уменьшилась до 137 мет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7" descr="4431232"/>
          <p:cNvPicPr/>
          <p:nvPr/>
        </p:nvPicPr>
        <p:blipFill>
          <a:blip r:embed="rId1"/>
          <a:stretch/>
        </p:blipFill>
        <p:spPr>
          <a:xfrm>
            <a:off x="4419720" y="685800"/>
            <a:ext cx="4498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c145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которые тайны египетских пирамид разгаданы, но великое множество вопросов остаётся без ответов. Следовательно, это сохранившееся чудо света будет по-прежнему привлекать учёных и просто любознательных люд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Picture 11" descr="0_1397_9f5c10cd_XL"/>
          <p:cNvPicPr/>
          <p:nvPr/>
        </p:nvPicPr>
        <p:blipFill>
          <a:blip r:embed="rId1"/>
          <a:stretch/>
        </p:blipFill>
        <p:spPr>
          <a:xfrm>
            <a:off x="4343400" y="1676520"/>
            <a:ext cx="4648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c145"/>
                </a:solidFill>
                <a:latin typeface="Tahoma"/>
              </a:rPr>
              <a:t>Статуя Зевса Олимпийског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ые четыре года в Олимпию стекался народ. Особые вестники объявляли о начале знаменитых Олимпийских играх, в дни которых провозглашался священный мир. Все, ехавшие на Олимпийские игры, находились под охраной верховного бога греков – Зев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ной святыней Олимпии был храм Зевса со статуей верховного бога, созданный гениальным скульптором Греции – Фиди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арь богов сидел на троне. В одной руке Зевс держал статую богини Ники, а в другой- жезл, увенчанный изображением священного орла. Сидящий Зевс почти касался головой потолка хра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11" descr="001"/>
          <p:cNvPicPr/>
          <p:nvPr/>
        </p:nvPicPr>
        <p:blipFill>
          <a:blip r:embed="rId1"/>
          <a:stretch/>
        </p:blipFill>
        <p:spPr>
          <a:xfrm>
            <a:off x="457200" y="304920"/>
            <a:ext cx="3276720" cy="3581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60-0"/>
          <p:cNvPicPr/>
          <p:nvPr/>
        </p:nvPicPr>
        <p:blipFill>
          <a:blip r:embed="rId2"/>
          <a:stretch/>
        </p:blipFill>
        <p:spPr>
          <a:xfrm>
            <a:off x="4495680" y="304920"/>
            <a:ext cx="4191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419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генда рассказывает, что Фидий, утомлённый работой, после того, как статуя была установлена и закончена, пришёл в храм. Фидий поднял голову к лицу Зевса и воскликнул: «Доволен ли ты, Зевс?». Раздался громовой удар и мраморный пол, где стояла статуя, треснул. Это Зевс ответил: «Д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7" descr="47717772_1243626298_zeus1"/>
          <p:cNvPicPr/>
          <p:nvPr/>
        </p:nvPicPr>
        <p:blipFill>
          <a:blip r:embed="rId1"/>
          <a:stretch/>
        </p:blipFill>
        <p:spPr>
          <a:xfrm>
            <a:off x="4800600" y="457200"/>
            <a:ext cx="396252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c145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а подвести итог. Статую Зевса причисляют к чудесам света потому, что Олимпия была центром поклонения богу Зевса, а статуя – самым известным его изображени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дий создал новый образ Зевса, изобразив его старым, мудрым челове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ому богу христиане поклонялись спустя 450 л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c145"/>
                </a:solidFill>
                <a:latin typeface="Tahoma"/>
              </a:rPr>
              <a:t>Юные исследовател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Picture 11" descr="SDC12280"/>
          <p:cNvPicPr/>
          <p:nvPr/>
        </p:nvPicPr>
        <p:blipFill>
          <a:blip r:embed="rId1"/>
          <a:stretch/>
        </p:blipFill>
        <p:spPr>
          <a:xfrm>
            <a:off x="1571760" y="1600200"/>
            <a:ext cx="59990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3c145"/>
                </a:solidFill>
                <a:latin typeface="Tahoma"/>
              </a:rPr>
              <a:t>III</a:t>
            </a:r>
            <a:r>
              <a:rPr b="1" lang="ru-RU" sz="4400" spc="-1" strike="noStrike">
                <a:solidFill>
                  <a:srgbClr val="a3c145"/>
                </a:solidFill>
                <a:latin typeface="Tahoma"/>
              </a:rPr>
              <a:t> Заключ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в различную литературу, мы смогли убедиться в том, что чудеса света всё же существовали. Доказательства этому упоминание о них в древних папирусах, сохранившиеся пирами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ё, что считается чудом света всегда создавалось или создаётся силой разума и руками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ченными знаниями мы можем поделиться с одноклассниками. Гипотезу своего проекта мы подтвердил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c145"/>
                </a:solidFill>
                <a:latin typeface="Tahoma"/>
              </a:rPr>
              <a:t>Используемая литерату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ая иллюстративная энциклопедия школьника, М., «Махаон», 2010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тлас чудес света, М., «РОСМЭН», 2007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ая иллюстрированная энциклопед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., «РОСМЭН», 2009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ниверсальный энциклопедический справочник, Белгород, «Клуб семейного досуга», 2009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рестоматия по истории, 3кл., Чутко Н.Я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на Л.Е., 1996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есть что «Семь чудес света», Непомнящий Н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., «Слово», 2000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turismy.co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люстрации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3c145"/>
                </a:solidFill>
                <a:latin typeface="Tahoma"/>
              </a:rPr>
              <a:t>I</a:t>
            </a:r>
            <a:r>
              <a:rPr b="1" lang="ru-RU" sz="4400" spc="-1" strike="noStrike">
                <a:solidFill>
                  <a:srgbClr val="a3c145"/>
                </a:solidFill>
                <a:latin typeface="Tahoma"/>
              </a:rPr>
              <a:t> Введ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 исследования – желание совершить путешествие во времени по странам и континент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ить представление о наиболее значимых сооружениях искусства Древнего ми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168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a3c145"/>
                </a:solidFill>
                <a:latin typeface="Tahoma"/>
              </a:rPr>
              <a:t>Какие задачи мы поставили перед      собо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знать из дополнительной литературы о Чудесах с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ить на вопрос: «Почему некоторые произведения культуры называют «Чудесами света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знать о времени, о жизни людей, живших в Древнем ми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a3c145"/>
                </a:solidFill>
                <a:latin typeface="Tahoma"/>
              </a:rPr>
              <a:t>Предмет исследова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исторические сведения о Чудесах с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a3c145"/>
                </a:solidFill>
                <a:latin typeface="Tahoma"/>
              </a:rPr>
              <a:t>Методы исследова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читали дополнительную литературу, спрашивали у взрослых, самостоятельно думали, обращались к Интернету, анализировали мифы Древней Греции, проводили опро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a3c145"/>
                </a:solidFill>
                <a:latin typeface="Tahoma"/>
              </a:rPr>
              <a:t>Гипоте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предположим, что Чудес света не было; если были, тогда мы сможем объяснить своим одноклассникам эти исторические фа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c145"/>
                </a:solidFill>
                <a:latin typeface="Tahoma"/>
              </a:rPr>
              <a:t>II</a:t>
            </a:r>
            <a:r>
              <a:rPr b="1" lang="ru-RU" sz="4000" spc="-1" strike="noStrike">
                <a:solidFill>
                  <a:srgbClr val="a3c145"/>
                </a:solidFill>
                <a:latin typeface="Tahoma"/>
              </a:rPr>
              <a:t> Древний мир и чудеса све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т папируса дошёл до нас в очень повреждённом виде. На потемневшем листке сохранились лишь четко написанный заголовок «Чудеса света» и отдельные слова тек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учёного, который прочёл строки древнего папируса, слова «семь чудес» не были загадкой. О чудесах света писали, ими гордились. В сочинениях древних учёных мы встречаем отзывы и подробные описания чудес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3c145"/>
                </a:solidFill>
                <a:latin typeface="Tahoma"/>
              </a:rPr>
              <a:t>Всё, о чём мы собираемся вам рассказать, действительно существовало. Но всё же это были чудеса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22" descr="47717772_1243626298_zeus1"/>
          <p:cNvPicPr/>
          <p:nvPr/>
        </p:nvPicPr>
        <p:blipFill>
          <a:blip r:embed="rId1"/>
          <a:stretch/>
        </p:blipFill>
        <p:spPr>
          <a:xfrm>
            <a:off x="1447920" y="1371600"/>
            <a:ext cx="1981080" cy="2325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3" descr="4431232"/>
          <p:cNvPicPr/>
          <p:nvPr/>
        </p:nvPicPr>
        <p:blipFill>
          <a:blip r:embed="rId2"/>
          <a:stretch/>
        </p:blipFill>
        <p:spPr>
          <a:xfrm>
            <a:off x="5386320" y="1600200"/>
            <a:ext cx="2716200" cy="2173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4" descr="4"/>
          <p:cNvPicPr/>
          <p:nvPr/>
        </p:nvPicPr>
        <p:blipFill>
          <a:blip r:embed="rId3"/>
          <a:stretch/>
        </p:blipFill>
        <p:spPr>
          <a:xfrm>
            <a:off x="789120" y="3925800"/>
            <a:ext cx="3217680" cy="2173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5" descr="mayak"/>
          <p:cNvPicPr/>
          <p:nvPr/>
        </p:nvPicPr>
        <p:blipFill>
          <a:blip r:embed="rId4"/>
          <a:stretch/>
        </p:blipFill>
        <p:spPr>
          <a:xfrm>
            <a:off x="5295960" y="3925800"/>
            <a:ext cx="2897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CL-Fall08-Bkwtrs-Rhodes"/>
          <p:cNvPicPr/>
          <p:nvPr/>
        </p:nvPicPr>
        <p:blipFill>
          <a:blip r:embed="rId1"/>
          <a:stretch/>
        </p:blipFill>
        <p:spPr>
          <a:xfrm>
            <a:off x="152280" y="1066680"/>
            <a:ext cx="4724640" cy="49532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1"/>
          <p:cNvPicPr/>
          <p:nvPr/>
        </p:nvPicPr>
        <p:blipFill>
          <a:blip r:embed="rId2"/>
          <a:stretch/>
        </p:blipFill>
        <p:spPr>
          <a:xfrm>
            <a:off x="5257800" y="762120"/>
            <a:ext cx="3506760" cy="2935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hram"/>
          <p:cNvPicPr/>
          <p:nvPr/>
        </p:nvPicPr>
        <p:blipFill>
          <a:blip r:embed="rId3"/>
          <a:stretch/>
        </p:blipFill>
        <p:spPr>
          <a:xfrm>
            <a:off x="5257800" y="3962520"/>
            <a:ext cx="3581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c145"/>
                </a:solidFill>
                <a:latin typeface="Tahoma"/>
              </a:rPr>
              <a:t>Висячие сады Семирами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90 км от Багдада находятся развалины Древнего Вавилона. Много удивительных сооружений было в Вавилоне, но больше всего поражали висячие сады царского двор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7" descr="card00282_fr"/>
          <p:cNvPicPr/>
          <p:nvPr/>
        </p:nvPicPr>
        <p:blipFill>
          <a:blip r:embed="rId1"/>
          <a:stretch/>
        </p:blipFill>
        <p:spPr>
          <a:xfrm>
            <a:off x="4343400" y="14479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08T18:03:3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