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337-957E-49EA-B13C-3DC37A25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0C6-681A-4782-A3E9-2E002864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B4D-00D4-41CC-B664-FEDB182B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A46-D22D-41E1-8A69-818BA169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40A-1868-4BF1-8629-7801839D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4BE-D0C7-48F2-B616-94FE7951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90B-2FF8-4F28-90E9-A30E1EB2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FC9-E390-434F-B10A-5018506D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362320" y="4038480"/>
            <a:ext cx="647676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F74-E586-400A-BCFF-DAFBF2AE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22B-8FD3-4851-9B60-E24FCD32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124-C98A-451A-BEC5-907C2ED3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674-15AE-4888-A038-181299BB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1" name="Прямоугольник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2" name="Прямоугольник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3" name="Прямоугольник 6"/>
          <p:cNvSpPr/>
          <p:nvPr/>
        </p:nvSpPr>
        <p:spPr>
          <a:xfrm>
            <a:off x="0" y="5970960"/>
            <a:ext cx="9143640" cy="886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" name="Прямоугольник 9"/>
          <p:cNvSpPr/>
          <p:nvPr/>
        </p:nvSpPr>
        <p:spPr>
          <a:xfrm>
            <a:off x="-9000" y="6053400"/>
            <a:ext cx="2248920" cy="7128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" name="Прямоугольник 10"/>
          <p:cNvSpPr/>
          <p:nvPr/>
        </p:nvSpPr>
        <p:spPr>
          <a:xfrm>
            <a:off x="2359080" y="6044040"/>
            <a:ext cx="6784560" cy="71280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def5fa"/>
                </a:solidFill>
                <a:latin typeface="Tw Cen MT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76320" y="6068520"/>
            <a:ext cx="205704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6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772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def5fa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2F59EAF-267D-4D9C-8AE0-645AFF77DCC7}" type="slidenum">
              <a:rPr b="1" lang="ru-RU" sz="1400" spc="-1" strike="noStrike">
                <a:solidFill>
                  <a:srgbClr val="def5fa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ru-RU" sz="2900" spc="-1" strike="noStrike">
              <a:solidFill>
                <a:srgbClr val="ffffff"/>
              </a:solidFill>
              <a:latin typeface="Tw Cen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ru-RU" sz="2300" spc="-1" strike="noStrike">
              <a:solidFill>
                <a:srgbClr val="ffffff"/>
              </a:solidFill>
              <a:latin typeface="Tw Cen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w Cen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 cap="all">
                <a:solidFill>
                  <a:srgbClr val="def5fa"/>
                </a:solidFill>
                <a:latin typeface="Tw Cen MT"/>
              </a:rPr>
              <a:t>My working day</a:t>
            </a:r>
            <a:endParaRPr b="0" lang="ru-RU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mardashvili Dav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Рисунок 3"/>
          <p:cNvSpPr/>
          <p:nvPr/>
        </p:nvSpPr>
        <p:spPr>
          <a:xfrm>
            <a:off x="2627640" y="548640"/>
            <a:ext cx="4248000" cy="4242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I get up at 7 o’cloc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исунок 4"/>
          <p:cNvSpPr/>
          <p:nvPr/>
        </p:nvSpPr>
        <p:spPr>
          <a:xfrm>
            <a:off x="2123640" y="692640"/>
            <a:ext cx="5040360" cy="4512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I clean my teeth at 7:1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Рисунок 3"/>
          <p:cNvSpPr/>
          <p:nvPr/>
        </p:nvSpPr>
        <p:spPr>
          <a:xfrm>
            <a:off x="1835640" y="1203120"/>
            <a:ext cx="5714640" cy="38095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I wash my face and hands at 7:3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Рисунок 4"/>
          <p:cNvSpPr/>
          <p:nvPr/>
        </p:nvSpPr>
        <p:spPr>
          <a:xfrm>
            <a:off x="755640" y="620640"/>
            <a:ext cx="56642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Рисунок 5"/>
          <p:cNvSpPr/>
          <p:nvPr/>
        </p:nvSpPr>
        <p:spPr>
          <a:xfrm>
            <a:off x="5287680" y="3285000"/>
            <a:ext cx="3168000" cy="2376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At 8 o’clock I have breakfast and go to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Рисунок 3"/>
          <p:cNvSpPr/>
          <p:nvPr/>
        </p:nvSpPr>
        <p:spPr>
          <a:xfrm>
            <a:off x="899640" y="476640"/>
            <a:ext cx="3799440" cy="51796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Рисунок 4"/>
          <p:cNvSpPr/>
          <p:nvPr/>
        </p:nvSpPr>
        <p:spPr>
          <a:xfrm>
            <a:off x="5148000" y="1845000"/>
            <a:ext cx="3474000" cy="2823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4400" spc="-1" strike="noStrike" cap="all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I usually come home at 2 o’cloc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Рисунок 3"/>
          <p:cNvSpPr/>
          <p:nvPr/>
        </p:nvSpPr>
        <p:spPr>
          <a:xfrm>
            <a:off x="1619640" y="908640"/>
            <a:ext cx="6242760" cy="4125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I do my home work at 3 o’cloc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Рисунок 3"/>
          <p:cNvSpPr/>
          <p:nvPr/>
        </p:nvSpPr>
        <p:spPr>
          <a:xfrm>
            <a:off x="755640" y="509400"/>
            <a:ext cx="3809520" cy="5079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Рисунок 4"/>
          <p:cNvSpPr/>
          <p:nvPr/>
        </p:nvSpPr>
        <p:spPr>
          <a:xfrm>
            <a:off x="4932000" y="1889640"/>
            <a:ext cx="3688560" cy="269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4400" spc="-1" strike="noStrike" cap="all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In the evening I play with my toys and watch TV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Рисунок 3"/>
          <p:cNvSpPr/>
          <p:nvPr/>
        </p:nvSpPr>
        <p:spPr>
          <a:xfrm>
            <a:off x="395640" y="548640"/>
            <a:ext cx="5328360" cy="4262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Рисунок 4"/>
          <p:cNvSpPr/>
          <p:nvPr/>
        </p:nvSpPr>
        <p:spPr>
          <a:xfrm>
            <a:off x="4731480" y="3005280"/>
            <a:ext cx="4088520" cy="2727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At 9 o’clock I usually read books and go to b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Рисунок 3"/>
          <p:cNvSpPr/>
          <p:nvPr/>
        </p:nvSpPr>
        <p:spPr>
          <a:xfrm>
            <a:off x="514800" y="692640"/>
            <a:ext cx="3768840" cy="29534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Рисунок 4"/>
          <p:cNvSpPr/>
          <p:nvPr/>
        </p:nvSpPr>
        <p:spPr>
          <a:xfrm>
            <a:off x="4428000" y="2781000"/>
            <a:ext cx="4244040" cy="2832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бычн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dian</Template>
  <TotalTime>51</TotalTime>
  <Application>LibreOffice/7.4.7.2$Linux_X86_64 LibreOffice_project/40$Build-2</Application>
  <AppVersion>15.0000</AppVersion>
  <Words>80</Words>
  <Paragraphs>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8:40:49Z</dcterms:created>
  <dc:creator>604</dc:creator>
  <dc:description/>
  <dc:language>en-US</dc:language>
  <cp:lastModifiedBy>604</cp:lastModifiedBy>
  <dcterms:modified xsi:type="dcterms:W3CDTF">2012-05-02T19:38:29Z</dcterms:modified>
  <cp:revision>6</cp:revision>
  <dc:subject/>
  <dc:title>My working day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