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EAB-074E-405D-BF0D-2B01D298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879-8B5F-4712-ACAE-105309A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530-16DF-47B4-B087-AFA31B22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203-9CA5-427B-95EC-27234163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5B6-E2DA-437E-ABB2-20319C30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C24-194B-45FB-8787-B54EAB9B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411-8EB4-4E81-A0DA-D58F8475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633-2D03-4C73-9FDB-E05A47F6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4D3-B9C6-424F-BF0C-9EB4A2E1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183-D880-4507-B94A-1E525E11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939-4A6D-4AAD-BFD0-AFE6CD8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34C-96D2-4ECC-926D-241C4B2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F845-78CA-4765-A4F7-48218700D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бобщение знаний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о теме: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«Фонетик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2349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763640" y="3213000"/>
            <a:ext cx="691380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в страну 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онетика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1785960" y="5929200"/>
            <a:ext cx="6858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якова О.Е., учитель русского языка и лит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ГСОШ филиал Василё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лязинского района Твер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Спасибо"/>
          <p:cNvPicPr/>
          <p:nvPr/>
        </p:nvPicPr>
        <p:blipFill>
          <a:blip r:embed="rId1"/>
          <a:stretch/>
        </p:blipFill>
        <p:spPr>
          <a:xfrm>
            <a:off x="1547640" y="1052640"/>
            <a:ext cx="741708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35280" y="1341000"/>
            <a:ext cx="692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знания о фоне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ить навыки различения звукового значения букв в разных фонетических пози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ь предмет изучения графики и каллиграфии, познакомить с историей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ь знакомство с предметом изучения орфоэпии, с основными произносительными нормами и их отражением в орфоэпических словарях; формировать навык правильного произношения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763640" y="0"/>
            <a:ext cx="583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мматическая сказ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сегда вместе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4932360" y="1844640"/>
            <a:ext cx="3960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танц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"Теоретическа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47640" y="1989000"/>
            <a:ext cx="396108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а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Хочу всё знать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5076720" y="3213000"/>
            <a:ext cx="38433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ан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ктическая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332000" y="4437000"/>
            <a:ext cx="377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рфоэпическая"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4356000" y="4286160"/>
            <a:ext cx="40672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ц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рфографическая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11" descr="Автобус едет"/>
          <p:cNvPicPr/>
          <p:nvPr/>
        </p:nvPicPr>
        <p:blipFill>
          <a:blip r:embed="rId13"/>
          <a:stretch/>
        </p:blipFill>
        <p:spPr>
          <a:xfrm>
            <a:off x="1835280" y="5722920"/>
            <a:ext cx="2089080" cy="11350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8172360" y="6021360"/>
            <a:ext cx="792360" cy="836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195640" y="0"/>
            <a:ext cx="5832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мматическая сказ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сегда вместе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124000" y="2205000"/>
            <a:ext cx="24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5292720" y="220500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8" descr="телефон-2"/>
          <p:cNvPicPr/>
          <p:nvPr/>
        </p:nvPicPr>
        <p:blipFill>
          <a:blip r:embed="rId5"/>
          <a:stretch/>
        </p:blipFill>
        <p:spPr>
          <a:xfrm>
            <a:off x="3995640" y="191628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Цветок распускается"/>
          <p:cNvPicPr/>
          <p:nvPr/>
        </p:nvPicPr>
        <p:blipFill>
          <a:blip r:embed="rId6"/>
          <a:stretch/>
        </p:blipFill>
        <p:spPr>
          <a:xfrm>
            <a:off x="6732720" y="4292640"/>
            <a:ext cx="1601640" cy="160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Цветок распускается"/>
          <p:cNvPicPr/>
          <p:nvPr/>
        </p:nvPicPr>
        <p:blipFill>
          <a:blip r:embed="rId7"/>
          <a:stretch/>
        </p:blipFill>
        <p:spPr>
          <a:xfrm rot="19869600">
            <a:off x="6300720" y="5157720"/>
            <a:ext cx="1387440" cy="131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Цветок распускается"/>
          <p:cNvPicPr/>
          <p:nvPr/>
        </p:nvPicPr>
        <p:blipFill>
          <a:blip r:embed="rId8"/>
          <a:stretch/>
        </p:blipFill>
        <p:spPr>
          <a:xfrm rot="847800">
            <a:off x="7524720" y="486864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Вьюга"/>
          <p:cNvPicPr/>
          <p:nvPr/>
        </p:nvPicPr>
        <p:blipFill>
          <a:blip r:embed="rId9"/>
          <a:stretch/>
        </p:blipFill>
        <p:spPr>
          <a:xfrm>
            <a:off x="1547640" y="4508640"/>
            <a:ext cx="2089440" cy="20714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7493"/>
                </a:moveTo>
                <a:lnTo>
                  <a:pt x="17156" y="7493"/>
                </a:lnTo>
                <a:lnTo>
                  <a:pt x="17156" y="12828"/>
                </a:lnTo>
                <a:cubicBezTo>
                  <a:pt x="17156" y="13751"/>
                  <a:pt x="17956" y="14482"/>
                  <a:pt x="18992" y="14482"/>
                </a:cubicBezTo>
                <a:lnTo>
                  <a:pt x="20655" y="14482"/>
                </a:lnTo>
                <a:cubicBezTo>
                  <a:pt x="21690" y="14482"/>
                  <a:pt x="22491" y="13751"/>
                  <a:pt x="22491" y="12828"/>
                </a:cubicBezTo>
                <a:lnTo>
                  <a:pt x="22491" y="7493"/>
                </a:lnTo>
                <a:lnTo>
                  <a:pt x="20655" y="7493"/>
                </a:lnTo>
                <a:lnTo>
                  <a:pt x="24162" y="3985"/>
                </a:lnTo>
                <a:lnTo>
                  <a:pt x="27835" y="7493"/>
                </a:lnTo>
                <a:lnTo>
                  <a:pt x="25999" y="7493"/>
                </a:lnTo>
                <a:lnTo>
                  <a:pt x="25999" y="12828"/>
                </a:lnTo>
                <a:cubicBezTo>
                  <a:pt x="25999" y="15596"/>
                  <a:pt x="23422" y="18155"/>
                  <a:pt x="20655" y="18155"/>
                </a:cubicBezTo>
                <a:lnTo>
                  <a:pt x="18992" y="18155"/>
                </a:lnTo>
                <a:cubicBezTo>
                  <a:pt x="16224" y="18155"/>
                  <a:pt x="13648" y="15596"/>
                  <a:pt x="1364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розочка"/>
          <p:cNvPicPr/>
          <p:nvPr/>
        </p:nvPicPr>
        <p:blipFill>
          <a:blip r:embed="rId10"/>
          <a:stretch/>
        </p:blipFill>
        <p:spPr>
          <a:xfrm>
            <a:off x="4067280" y="49417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0.00024 L 0.41736 0.19954 E"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1 0.01087 L -0.44097 0.19954 E">
                                      <p:cBhvr>
                                        <p:cTn id="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834920" y="1341360"/>
            <a:ext cx="712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изучает фонет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звуки образуются только с помощью голо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буквы е, ё, ю, я обозначают сочетания двух зву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звук всегда мягкий, звон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значит сделать фонетический разбор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их междометиях надо переставить звуки, чтобы они перестали жаловатьс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 я в школе на сте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ы, реки есть на м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 – от вас не утаю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е в школе я ст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м слове достаточно заменить один звук, чтобы животное с длинными ушами превратилось в хищную птиц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ется искусство красивого письм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050920" y="189000"/>
            <a:ext cx="6337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танц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"Теоретическа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0" y="6237360"/>
            <a:ext cx="1258920" cy="620640"/>
          </a:xfrm>
          <a:custGeom>
            <a:avLst/>
            <a:gdLst>
              <a:gd name="textAreaLeft" fmla="*/ 39960 w 1258920"/>
              <a:gd name="textAreaRight" fmla="*/ 1218960 w 1258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3801" h="21600">
                <a:moveTo>
                  <a:pt x="0" y="0"/>
                </a:moveTo>
                <a:lnTo>
                  <a:pt x="43801" y="0"/>
                </a:lnTo>
                <a:lnTo>
                  <a:pt x="43801" y="21600"/>
                </a:lnTo>
                <a:lnTo>
                  <a:pt x="0" y="21600"/>
                </a:lnTo>
                <a:close/>
              </a:path>
              <a:path fill="lightenLess" w="43801" h="21600">
                <a:moveTo>
                  <a:pt x="0" y="0"/>
                </a:moveTo>
                <a:lnTo>
                  <a:pt x="43801" y="0"/>
                </a:lnTo>
                <a:lnTo>
                  <a:pt x="42401" y="1400"/>
                </a:lnTo>
                <a:lnTo>
                  <a:pt x="1400" y="1400"/>
                </a:lnTo>
                <a:close/>
              </a:path>
              <a:path fill="darken" w="43801" h="21600">
                <a:moveTo>
                  <a:pt x="43801" y="0"/>
                </a:moveTo>
                <a:lnTo>
                  <a:pt x="43801" y="21600"/>
                </a:lnTo>
                <a:lnTo>
                  <a:pt x="42401" y="20200"/>
                </a:lnTo>
                <a:lnTo>
                  <a:pt x="42401" y="1400"/>
                </a:lnTo>
                <a:close/>
              </a:path>
              <a:path fill="darkenLess" w="43801" h="21600">
                <a:moveTo>
                  <a:pt x="4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01" y="20200"/>
                </a:lnTo>
                <a:close/>
              </a:path>
              <a:path fill="lighten" w="4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01" h="21600">
                <a:moveTo>
                  <a:pt x="14894" y="7493"/>
                </a:moveTo>
                <a:lnTo>
                  <a:pt x="18402" y="7493"/>
                </a:lnTo>
                <a:lnTo>
                  <a:pt x="18402" y="12828"/>
                </a:lnTo>
                <a:cubicBezTo>
                  <a:pt x="18402" y="13751"/>
                  <a:pt x="19202" y="14482"/>
                  <a:pt x="20238" y="14482"/>
                </a:cubicBezTo>
                <a:lnTo>
                  <a:pt x="21901" y="14482"/>
                </a:lnTo>
                <a:cubicBezTo>
                  <a:pt x="22936" y="14482"/>
                  <a:pt x="23737" y="13751"/>
                  <a:pt x="23737" y="12828"/>
                </a:cubicBezTo>
                <a:lnTo>
                  <a:pt x="23737" y="7493"/>
                </a:lnTo>
                <a:lnTo>
                  <a:pt x="21901" y="7493"/>
                </a:lnTo>
                <a:lnTo>
                  <a:pt x="25408" y="3985"/>
                </a:lnTo>
                <a:lnTo>
                  <a:pt x="29081" y="7493"/>
                </a:lnTo>
                <a:lnTo>
                  <a:pt x="27245" y="7493"/>
                </a:lnTo>
                <a:lnTo>
                  <a:pt x="27245" y="12828"/>
                </a:lnTo>
                <a:cubicBezTo>
                  <a:pt x="27245" y="15596"/>
                  <a:pt x="24668" y="18155"/>
                  <a:pt x="21901" y="18155"/>
                </a:cubicBezTo>
                <a:lnTo>
                  <a:pt x="20238" y="18155"/>
                </a:lnTo>
                <a:cubicBezTo>
                  <a:pt x="17470" y="18155"/>
                  <a:pt x="14894" y="15596"/>
                  <a:pt x="148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явился славянский алфав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алфавит стал основой для создания славянс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ошли слова «алфавит» и «азбук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самая молодая буква в русском алфав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оздал первый печатный станок на Ру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2124000" y="0"/>
            <a:ext cx="619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а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Хочу всё знать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0" y="6237360"/>
            <a:ext cx="1258920" cy="620640"/>
          </a:xfrm>
          <a:custGeom>
            <a:avLst/>
            <a:gdLst>
              <a:gd name="textAreaLeft" fmla="*/ 39960 w 1258920"/>
              <a:gd name="textAreaRight" fmla="*/ 1218960 w 1258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3801" h="21600">
                <a:moveTo>
                  <a:pt x="0" y="0"/>
                </a:moveTo>
                <a:lnTo>
                  <a:pt x="43801" y="0"/>
                </a:lnTo>
                <a:lnTo>
                  <a:pt x="43801" y="21600"/>
                </a:lnTo>
                <a:lnTo>
                  <a:pt x="0" y="21600"/>
                </a:lnTo>
                <a:close/>
              </a:path>
              <a:path fill="lightenLess" w="43801" h="21600">
                <a:moveTo>
                  <a:pt x="0" y="0"/>
                </a:moveTo>
                <a:lnTo>
                  <a:pt x="43801" y="0"/>
                </a:lnTo>
                <a:lnTo>
                  <a:pt x="42401" y="1400"/>
                </a:lnTo>
                <a:lnTo>
                  <a:pt x="1400" y="1400"/>
                </a:lnTo>
                <a:close/>
              </a:path>
              <a:path fill="darken" w="43801" h="21600">
                <a:moveTo>
                  <a:pt x="43801" y="0"/>
                </a:moveTo>
                <a:lnTo>
                  <a:pt x="43801" y="21600"/>
                </a:lnTo>
                <a:lnTo>
                  <a:pt x="42401" y="20200"/>
                </a:lnTo>
                <a:lnTo>
                  <a:pt x="42401" y="1400"/>
                </a:lnTo>
                <a:close/>
              </a:path>
              <a:path fill="darkenLess" w="43801" h="21600">
                <a:moveTo>
                  <a:pt x="4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01" y="20200"/>
                </a:lnTo>
                <a:close/>
              </a:path>
              <a:path fill="lighten" w="4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01" h="21600">
                <a:moveTo>
                  <a:pt x="14894" y="7493"/>
                </a:moveTo>
                <a:lnTo>
                  <a:pt x="18402" y="7493"/>
                </a:lnTo>
                <a:lnTo>
                  <a:pt x="18402" y="12828"/>
                </a:lnTo>
                <a:cubicBezTo>
                  <a:pt x="18402" y="13751"/>
                  <a:pt x="19202" y="14482"/>
                  <a:pt x="20238" y="14482"/>
                </a:cubicBezTo>
                <a:lnTo>
                  <a:pt x="21901" y="14482"/>
                </a:lnTo>
                <a:cubicBezTo>
                  <a:pt x="22936" y="14482"/>
                  <a:pt x="23737" y="13751"/>
                  <a:pt x="23737" y="12828"/>
                </a:cubicBezTo>
                <a:lnTo>
                  <a:pt x="23737" y="7493"/>
                </a:lnTo>
                <a:lnTo>
                  <a:pt x="21901" y="7493"/>
                </a:lnTo>
                <a:lnTo>
                  <a:pt x="25408" y="3985"/>
                </a:lnTo>
                <a:lnTo>
                  <a:pt x="29081" y="7493"/>
                </a:lnTo>
                <a:lnTo>
                  <a:pt x="27245" y="7493"/>
                </a:lnTo>
                <a:lnTo>
                  <a:pt x="27245" y="12828"/>
                </a:lnTo>
                <a:cubicBezTo>
                  <a:pt x="27245" y="15596"/>
                  <a:pt x="24668" y="18155"/>
                  <a:pt x="21901" y="18155"/>
                </a:cubicBezTo>
                <a:lnTo>
                  <a:pt x="20238" y="18155"/>
                </a:lnTo>
                <a:cubicBezTo>
                  <a:pt x="17470" y="18155"/>
                  <a:pt x="14894" y="15596"/>
                  <a:pt x="148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63640" y="1052280"/>
            <a:ext cx="712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те мягкие соглас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, шина, яма, точка, дело, т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Подчеркните твёрдые соглас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, шар, щель, весь, жи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Укажите, ка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бук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назва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б – бэ; б) в – вэ; в) г – гэ; г) к – кэ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4. Найдите слова, в которых букв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я, ю, ё, 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обозначают два зву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каюта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) ясный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) вьюга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) сяд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пределите, сколько букв и звуков в слов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ъём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 б., 5 зв.; б) 5 б., 6 зв.; в) 6 б., 5 зв.;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6 б., 6 зв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411280" y="189000"/>
            <a:ext cx="54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ан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ктическая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0" y="6381720"/>
            <a:ext cx="1258920" cy="476280"/>
          </a:xfrm>
          <a:custGeom>
            <a:avLst/>
            <a:gdLst>
              <a:gd name="textAreaLeft" fmla="*/ 30600 w 1258920"/>
              <a:gd name="textAreaRight" fmla="*/ 1228320 w 1258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7067" h="21600">
                <a:moveTo>
                  <a:pt x="0" y="0"/>
                </a:moveTo>
                <a:lnTo>
                  <a:pt x="57067" y="0"/>
                </a:lnTo>
                <a:lnTo>
                  <a:pt x="57067" y="21600"/>
                </a:lnTo>
                <a:lnTo>
                  <a:pt x="0" y="21600"/>
                </a:lnTo>
                <a:close/>
              </a:path>
              <a:path fill="lightenLess" w="57067" h="21600">
                <a:moveTo>
                  <a:pt x="0" y="0"/>
                </a:moveTo>
                <a:lnTo>
                  <a:pt x="57067" y="0"/>
                </a:lnTo>
                <a:lnTo>
                  <a:pt x="55667" y="1400"/>
                </a:lnTo>
                <a:lnTo>
                  <a:pt x="1400" y="1400"/>
                </a:lnTo>
                <a:close/>
              </a:path>
              <a:path fill="darken" w="57067" h="21600">
                <a:moveTo>
                  <a:pt x="57067" y="0"/>
                </a:moveTo>
                <a:lnTo>
                  <a:pt x="57067" y="21600"/>
                </a:lnTo>
                <a:lnTo>
                  <a:pt x="55667" y="20200"/>
                </a:lnTo>
                <a:lnTo>
                  <a:pt x="55667" y="1400"/>
                </a:lnTo>
                <a:close/>
              </a:path>
              <a:path fill="darkenLess" w="57067" h="21600">
                <a:moveTo>
                  <a:pt x="57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667" y="20200"/>
                </a:lnTo>
                <a:close/>
              </a:path>
              <a:path fill="lighten" w="57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067" h="21600">
                <a:moveTo>
                  <a:pt x="21527" y="7493"/>
                </a:moveTo>
                <a:lnTo>
                  <a:pt x="25035" y="7493"/>
                </a:lnTo>
                <a:lnTo>
                  <a:pt x="25035" y="12828"/>
                </a:lnTo>
                <a:cubicBezTo>
                  <a:pt x="25035" y="13751"/>
                  <a:pt x="25835" y="14482"/>
                  <a:pt x="26871" y="14482"/>
                </a:cubicBezTo>
                <a:lnTo>
                  <a:pt x="28534" y="14482"/>
                </a:lnTo>
                <a:cubicBezTo>
                  <a:pt x="29569" y="14482"/>
                  <a:pt x="30370" y="13751"/>
                  <a:pt x="30370" y="12828"/>
                </a:cubicBezTo>
                <a:lnTo>
                  <a:pt x="30370" y="7493"/>
                </a:lnTo>
                <a:lnTo>
                  <a:pt x="28534" y="7493"/>
                </a:lnTo>
                <a:lnTo>
                  <a:pt x="32041" y="3985"/>
                </a:lnTo>
                <a:lnTo>
                  <a:pt x="35714" y="7493"/>
                </a:lnTo>
                <a:lnTo>
                  <a:pt x="33878" y="7493"/>
                </a:lnTo>
                <a:lnTo>
                  <a:pt x="33878" y="12828"/>
                </a:lnTo>
                <a:cubicBezTo>
                  <a:pt x="33878" y="15596"/>
                  <a:pt x="31301" y="18155"/>
                  <a:pt x="28534" y="18155"/>
                </a:cubicBezTo>
                <a:lnTo>
                  <a:pt x="26871" y="18155"/>
                </a:lnTo>
                <a:cubicBezTo>
                  <a:pt x="24103" y="18155"/>
                  <a:pt x="21527" y="15596"/>
                  <a:pt x="2152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4720" y="1484280"/>
            <a:ext cx="223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03640" y="1483920"/>
            <a:ext cx="20890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618920" y="148428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ь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еч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411280" y="333360"/>
            <a:ext cx="5689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рфоэпическая"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6" h="21600">
                <a:moveTo>
                  <a:pt x="16326" y="7493"/>
                </a:moveTo>
                <a:lnTo>
                  <a:pt x="19834" y="7493"/>
                </a:lnTo>
                <a:lnTo>
                  <a:pt x="19834" y="12828"/>
                </a:lnTo>
                <a:cubicBezTo>
                  <a:pt x="19834" y="13751"/>
                  <a:pt x="20635" y="14482"/>
                  <a:pt x="21670" y="14482"/>
                </a:cubicBezTo>
                <a:lnTo>
                  <a:pt x="23333" y="14482"/>
                </a:lnTo>
                <a:cubicBezTo>
                  <a:pt x="24369" y="14482"/>
                  <a:pt x="25169" y="13751"/>
                  <a:pt x="25169" y="12828"/>
                </a:cubicBezTo>
                <a:lnTo>
                  <a:pt x="25169" y="7493"/>
                </a:lnTo>
                <a:lnTo>
                  <a:pt x="23333" y="7493"/>
                </a:lnTo>
                <a:lnTo>
                  <a:pt x="26840" y="3985"/>
                </a:lnTo>
                <a:lnTo>
                  <a:pt x="30513" y="7493"/>
                </a:lnTo>
                <a:lnTo>
                  <a:pt x="28677" y="7493"/>
                </a:lnTo>
                <a:lnTo>
                  <a:pt x="28677" y="12828"/>
                </a:lnTo>
                <a:cubicBezTo>
                  <a:pt x="28677" y="15596"/>
                  <a:pt x="26101" y="18155"/>
                  <a:pt x="23333" y="18155"/>
                </a:cubicBezTo>
                <a:lnTo>
                  <a:pt x="21670" y="18155"/>
                </a:lnTo>
                <a:cubicBezTo>
                  <a:pt x="18903" y="18155"/>
                  <a:pt x="16326" y="15596"/>
                  <a:pt x="1632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19280" y="1599840"/>
            <a:ext cx="752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заглядывать (в) сл_варь полез _но, знают все.(В) сл_варях об_ясняют_ся и пр_стые , и очень мудрые сл_ва. Загл_нув (в) сл_варь “Юному книголюбу”, ты вряд ли (не) досмотриш_ его до конца. Здесь почти всякое об_яснение превращает_ся (в) любопытную историю. Будто чита_ш_ не сл_варь, а ска_ки, и (у) каждой ска_ки свой особый смысл, иногда з_гадоч _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2411280" y="0"/>
            <a:ext cx="5543640" cy="16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ц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рфографическая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14926" y="7493"/>
                </a:moveTo>
                <a:lnTo>
                  <a:pt x="18434" y="7493"/>
                </a:lnTo>
                <a:lnTo>
                  <a:pt x="18434" y="12828"/>
                </a:lnTo>
                <a:cubicBezTo>
                  <a:pt x="18434" y="13751"/>
                  <a:pt x="19234" y="14482"/>
                  <a:pt x="20270" y="14482"/>
                </a:cubicBezTo>
                <a:lnTo>
                  <a:pt x="21932" y="14482"/>
                </a:lnTo>
                <a:cubicBezTo>
                  <a:pt x="22968" y="14482"/>
                  <a:pt x="23769" y="13751"/>
                  <a:pt x="23769" y="12828"/>
                </a:cubicBezTo>
                <a:lnTo>
                  <a:pt x="23769" y="7493"/>
                </a:lnTo>
                <a:lnTo>
                  <a:pt x="21932" y="7493"/>
                </a:lnTo>
                <a:lnTo>
                  <a:pt x="25440" y="3985"/>
                </a:lnTo>
                <a:lnTo>
                  <a:pt x="29113" y="7493"/>
                </a:lnTo>
                <a:lnTo>
                  <a:pt x="27276" y="7493"/>
                </a:lnTo>
                <a:lnTo>
                  <a:pt x="27276" y="12828"/>
                </a:lnTo>
                <a:cubicBezTo>
                  <a:pt x="27276" y="15596"/>
                  <a:pt x="24700" y="18155"/>
                  <a:pt x="21932" y="18155"/>
                </a:cubicBezTo>
                <a:lnTo>
                  <a:pt x="20270" y="18155"/>
                </a:lnTo>
                <a:cubicBezTo>
                  <a:pt x="17502" y="18155"/>
                  <a:pt x="14926" y="15596"/>
                  <a:pt x="1492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6:59:58Z</dcterms:created>
  <dc:creator> Полякова</dc:creator>
  <dc:description/>
  <dc:language>en-US</dc:language>
  <cp:lastModifiedBy>Admin</cp:lastModifiedBy>
  <dcterms:modified xsi:type="dcterms:W3CDTF">2012-12-08T16:16:12Z</dcterms:modified>
  <cp:revision>3</cp:revision>
  <dc:subject/>
  <dc:title>Обобщение знаний  по теме: «Фонетика» </dc:title>
</cp:coreProperties>
</file>