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363B-3C40-453B-8877-87D1296153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ая гиги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C739-FABD-4435-B77A-6A3AD9E140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D6C8-D0C0-4196-80A4-2E264BDD91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402A-F3BB-48D0-B7AA-7A797F65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A4D5-12FE-40A3-A982-7FA015D8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A1B3-D171-4360-B35B-ED7BD69D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29C-B76C-4417-B8B3-E765AC84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10E-9677-4C0B-B908-02355D90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D8D7-1EB2-4E81-B6A1-A8D2C36A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0CF-1F3C-4310-B6B0-437367F6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105-525C-40B2-BE4D-A7311D13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F68-5EDC-46A2-999A-14155482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674F-28F1-489F-AB50-AF4C95A7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FDE-1FE5-470B-A2C5-4E72422C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5AF3-F9A7-4F52-87D6-55BFA225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1EF2-1D1C-4A3A-9F30-B06F0F9B32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81457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гигиена0001.jpg"/>
          <p:cNvPicPr/>
          <p:nvPr/>
        </p:nvPicPr>
        <p:blipFill>
          <a:blip r:embed="rId1"/>
          <a:stretch/>
        </p:blipFill>
        <p:spPr>
          <a:xfrm>
            <a:off x="185760" y="836640"/>
            <a:ext cx="87789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гигиена0002.jpg"/>
          <p:cNvPicPr/>
          <p:nvPr/>
        </p:nvPicPr>
        <p:blipFill>
          <a:blip r:embed="rId1"/>
          <a:stretch/>
        </p:blipFill>
        <p:spPr>
          <a:xfrm>
            <a:off x="262080" y="189000"/>
            <a:ext cx="855792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гигиена0003.jpg"/>
          <p:cNvPicPr/>
          <p:nvPr/>
        </p:nvPicPr>
        <p:blipFill>
          <a:blip r:embed="rId1"/>
          <a:stretch/>
        </p:blipFill>
        <p:spPr>
          <a:xfrm>
            <a:off x="395280" y="157320"/>
            <a:ext cx="8427960" cy="65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гигиена0004.jpg"/>
          <p:cNvPicPr/>
          <p:nvPr/>
        </p:nvPicPr>
        <p:blipFill>
          <a:blip r:embed="rId1"/>
          <a:stretch/>
        </p:blipFill>
        <p:spPr>
          <a:xfrm>
            <a:off x="179280" y="981000"/>
            <a:ext cx="87789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6" descr="гигиена0005 - копия (2).jpg"/>
          <p:cNvPicPr/>
          <p:nvPr/>
        </p:nvPicPr>
        <p:blipFill>
          <a:blip r:embed="rId1"/>
          <a:stretch/>
        </p:blipFill>
        <p:spPr>
          <a:xfrm>
            <a:off x="0" y="189000"/>
            <a:ext cx="4876920" cy="3558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гигиена0005 - копия.jpg"/>
          <p:cNvPicPr/>
          <p:nvPr/>
        </p:nvPicPr>
        <p:blipFill>
          <a:blip r:embed="rId2"/>
          <a:stretch/>
        </p:blipFill>
        <p:spPr>
          <a:xfrm>
            <a:off x="4859280" y="189000"/>
            <a:ext cx="4127400" cy="36576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гигиена0005.jpg"/>
          <p:cNvPicPr/>
          <p:nvPr/>
        </p:nvPicPr>
        <p:blipFill>
          <a:blip r:embed="rId3"/>
          <a:stretch/>
        </p:blipFill>
        <p:spPr>
          <a:xfrm>
            <a:off x="4211640" y="3200400"/>
            <a:ext cx="1897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3:16:43Z</dcterms:created>
  <dc:creator>vik</dc:creator>
  <dc:description/>
  <dc:language>en-US</dc:language>
  <cp:lastModifiedBy>бвц</cp:lastModifiedBy>
  <dcterms:modified xsi:type="dcterms:W3CDTF">2012-12-08T14:06:50Z</dcterms:modified>
  <cp:revision>11</cp:revision>
  <dc:subject/>
  <dc:title>ЛИЧНАЯ ГИГИЕНА</dc:title>
</cp:coreProperties>
</file>