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2C8-4F67-4BF2-8905-A7E01A53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23C-AB2A-4340-9DCB-FCDB6425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77D-0A53-49D4-BB55-D6C0A2F6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D76-202C-40C2-B128-1792C7A1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2BF-8438-4E6C-90E0-BD119B3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FC3-0121-4B67-A0E5-4752A320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E8D-0542-45EB-BDE8-58AD5256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90C-F42A-4F64-9612-6D61835C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D30-5324-4CEB-99CC-FBA340E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F47-639C-4EC9-A0EE-5089F1E5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0C5-EFF0-410D-83A5-FB83791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C0B-9567-4078-8020-22DAA7A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3C2-57CE-4B6C-AF49-BCBA34703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afrodita.md/images/fon70hipp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5626080" y="-298440"/>
            <a:ext cx="3537000" cy="143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1.photocentra.ru/images/main32/329207_main.jpg"/>
          <p:cNvPicPr/>
          <p:nvPr/>
        </p:nvPicPr>
        <p:blipFill>
          <a:blip r:embed="rId3"/>
          <a:stretch/>
        </p:blipFill>
        <p:spPr>
          <a:xfrm>
            <a:off x="-60480" y="-6480"/>
            <a:ext cx="527868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http://4.bp.blogspot.com/_I6Q-KiSwrKY/SvuC8vZQqtI/AAAAAAAABLg/xej-IkHS2Kg/s400/peace-symbol.jpg"/>
          <p:cNvPicPr/>
          <p:nvPr/>
        </p:nvPicPr>
        <p:blipFill>
          <a:blip r:embed="rId4"/>
          <a:stretch/>
        </p:blipFill>
        <p:spPr>
          <a:xfrm>
            <a:off x="5821200" y="907920"/>
            <a:ext cx="3329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22:59Z</dcterms:modified>
  <cp:revision>18</cp:revision>
  <dc:subject/>
  <dc:title>Слайд 1</dc:title>
</cp:coreProperties>
</file>