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D0EE2-FEC0-46E2-AF05-3F9B9904E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8BA59-CAC2-40F2-9867-8694E2127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C8C63-A39A-4759-A0E4-4168959FE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A07B8-15CB-45A6-B076-686E27ED3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D6134-3B3D-477D-A536-47E376DD1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1828F-0FBD-4043-80D9-E5C4ECC25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44440-5FB2-49FF-8A00-7C3169631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867BA-1C58-421E-A94F-599C6FCC5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B3A74-5657-42AA-A7AB-DB7123F24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7DB33-31AA-4746-9D64-073E41D70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8B8F8-38F1-408F-BA17-9B2F84DF6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97AAC-0469-441C-BCBD-E715A8B96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31738-5189-461E-9868-401A58BFB8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http://www.maniactive.com/backgrounds/spring-flowers.jpg"/>
          <p:cNvPicPr/>
          <p:nvPr/>
        </p:nvPicPr>
        <p:blipFill>
          <a:blip r:embed="rId1"/>
          <a:stretch/>
        </p:blipFill>
        <p:spPr>
          <a:xfrm>
            <a:off x="0" y="0"/>
            <a:ext cx="914724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Прямоугольник 4"/>
          <p:cNvSpPr/>
          <p:nvPr/>
        </p:nvSpPr>
        <p:spPr>
          <a:xfrm>
            <a:off x="457200" y="685800"/>
            <a:ext cx="2971800" cy="56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Культура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хиппи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 1960-х развилась из бит-культуры 1950-х. Одними из предшественников хиппи была группа «Весёлые проказники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Первое использование слова «хиппи» зафиксировано в передаче одного из нью-йоркских телеканалов, где этим словом была названа группа молодых людей в майках, джинсах и с длинными волосами, протестующих против вьетнамской войн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2" descr="http://cs4193.vkontakte.ru/u1638808/19606628/x_4d558522.jpg"/>
          <p:cNvPicPr/>
          <p:nvPr/>
        </p:nvPicPr>
        <p:blipFill>
          <a:blip r:embed="rId2"/>
          <a:stretch/>
        </p:blipFill>
        <p:spPr>
          <a:xfrm>
            <a:off x="5102280" y="146160"/>
            <a:ext cx="3882960" cy="51940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4" descr="http://www.emod.ru/wp-content/uploads/free-people-2.jpg"/>
          <p:cNvPicPr/>
          <p:nvPr/>
        </p:nvPicPr>
        <p:blipFill>
          <a:blip r:embed="rId3"/>
          <a:stretch/>
        </p:blipFill>
        <p:spPr>
          <a:xfrm>
            <a:off x="3956040" y="1060560"/>
            <a:ext cx="4621320" cy="50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2T16:00:18Z</dcterms:created>
  <dc:creator>Lenovo</dc:creator>
  <dc:description/>
  <dc:language>en-US</dc:language>
  <cp:lastModifiedBy>SamLab.ws</cp:lastModifiedBy>
  <dcterms:modified xsi:type="dcterms:W3CDTF">2012-12-07T13:14:38Z</dcterms:modified>
  <cp:revision>13</cp:revision>
  <dc:subject/>
  <dc:title>Слайд 1</dc:title>
</cp:coreProperties>
</file>