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FD1-8FF6-4A4E-A3E2-7C34926A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C2E-3EA1-4D05-9563-57FA403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E50-9B59-4546-AB8D-A654B6F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7F4-30F9-47D6-8982-D5F43158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B08-0EAE-4284-9EAE-FEC269E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EC4-2835-49FE-93F1-4CA46368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2DD-F7A5-47A8-B0D5-49C2F24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FFC-BFD5-4262-A12C-746FEC73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7DC-D7FD-46D2-BEC1-AAE26D40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EA7-0120-46E8-B9BE-99FE916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46D-C379-43EB-B628-D1CBB44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F4E-4BED-431F-BA83-87B4B7A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6388-D50E-4FCF-94B8-674DB518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Прямоугольник 2"/>
          <p:cNvSpPr/>
          <p:nvPr/>
        </p:nvSpPr>
        <p:spPr>
          <a:xfrm>
            <a:off x="304920" y="30492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чалом движения хиппи можно считать 1965 год в США. Основным принципом субкультуры являлось ненасил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иппи носили длинные волосы, слушали рок-н-ролл, жили в коммунах, путешествовали автостопом, увлекались медитацией и восточной мистикой и религиями, многие из них были вегетариа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скольку хиппи часто вплетали цветы в волосы, раздавали цветы прохожим и вставляли их в оружейные дула полицейских и солдат, а также использовали лозунг «Flower Power», их стали называть «детьми цве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xoxot.com.ua/uploads/posts/2012-01/thumbs/morning_picdump_92_640_33.jpg"/>
          <p:cNvPicPr/>
          <p:nvPr/>
        </p:nvPicPr>
        <p:blipFill>
          <a:blip r:embed="rId2"/>
          <a:stretch/>
        </p:blipFill>
        <p:spPr>
          <a:xfrm>
            <a:off x="4413240" y="-6480"/>
            <a:ext cx="4737240" cy="31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vbarinov.ru/portfolio/portret/big/20p.jpg"/>
          <p:cNvPicPr/>
          <p:nvPr/>
        </p:nvPicPr>
        <p:blipFill>
          <a:blip r:embed="rId3"/>
          <a:stretch/>
        </p:blipFill>
        <p:spPr>
          <a:xfrm>
            <a:off x="4492800" y="3425760"/>
            <a:ext cx="4657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24:10Z</dcterms:modified>
  <cp:revision>15</cp:revision>
  <dc:subject/>
  <dc:title>Слайд 1</dc:title>
</cp:coreProperties>
</file>