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688-06EB-49ED-962E-822039A8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DA3-0BB9-4B2F-93F9-A917C32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0C6-7774-47CC-B6A9-BDC7D1B5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C34-C917-478F-ABB2-9AD1CDCC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3B8-607E-4392-9992-678ABA6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586-D3D6-4FED-BD63-45A9F5B2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17A-156F-4CB1-9559-40615DFC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509-048D-4449-9B01-8410FE3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5B6-BF18-4F78-B9A3-8E32C63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8EE-9402-4346-81C2-13446BD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B54-F870-400E-8DC9-E421C0A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353-FA3C-4871-BC75-81BE261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545B-06C5-4E2D-9C5B-820C2E4AC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4933800"/>
            <a:ext cx="9144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ик популярности движения пришёлся на 1967 год (так называемое «лето любви»), когда были выпущены неофициальные гимны хиппи — «San Francisco , «All You Need Is Love» и «She’s Leaving Home» The Beat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есмотря на закат хиппи-движения в мировом масштабе, его представителей до сих пор можно найти во многих странах мира. Идеи хиппи, казавшиеся в 1970-е годы консервативным обывателям утопическими, вошли в менталитет современног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g0.liveinternet.ru/images/attach/c/2/68/36/68036293_51667894_hippy_by_Luceedays.jpg"/>
          <p:cNvPicPr/>
          <p:nvPr/>
        </p:nvPicPr>
        <p:blipFill>
          <a:blip r:embed="rId2"/>
          <a:stretch/>
        </p:blipFill>
        <p:spPr>
          <a:xfrm>
            <a:off x="907920" y="19080"/>
            <a:ext cx="7407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17:52Z</dcterms:modified>
  <cp:revision>13</cp:revision>
  <dc:subject/>
  <dc:title>Слайд 1</dc:title>
</cp:coreProperties>
</file>