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FBB-FC10-4F49-8367-26E2793F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A70-E36F-41D9-9992-71AAD31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6AA-C9F0-4445-B78D-5658616D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34C-6A45-4B43-B850-331A22FC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915-E617-43FA-A304-1C184A7C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F48-1BC0-46ED-9866-48A4801F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724-E928-48F8-9619-5B1FA721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84A-464B-41C8-8CF2-4A8CD6D1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192-4881-41B3-AA8D-3C492DF0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962-0519-42A3-BDA4-BD57D6F2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58B-CDB5-4BC2-A9B5-05C92DF4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899-36D6-498C-95A6-4F58875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4C80-1642-41A2-99B4-3DD80714C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maniactive.com/backgrounds/spring-flowers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228600" y="228600"/>
            <a:ext cx="3809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Хиппи верит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что человек должен быть свобод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что достичь свободы можно, лишь изменив внутренний строй душ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что поступки внутренне раскованного человека определяются стремлением оберегать свою свободу как величайшую драгоц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что красота и свобода тождественны друг другу и что реализация того и другого — чисто духовная пробл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что все, кто разделяют сказанное выше, образуют духовную общи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. что духовная община — идеальная форма общеж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7 .что все, думающие иначе, заблужд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www.proza.ru/photos/bespechnost.jpg"/>
          <p:cNvPicPr/>
          <p:nvPr/>
        </p:nvPicPr>
        <p:blipFill>
          <a:blip r:embed="rId2"/>
          <a:stretch/>
        </p:blipFill>
        <p:spPr>
          <a:xfrm>
            <a:off x="4260960" y="219240"/>
            <a:ext cx="451152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00:18Z</dcterms:created>
  <dc:creator>Lenovo</dc:creator>
  <dc:description/>
  <dc:language>en-US</dc:language>
  <cp:lastModifiedBy>SamLab.ws</cp:lastModifiedBy>
  <dcterms:modified xsi:type="dcterms:W3CDTF">2012-12-07T13:18:53Z</dcterms:modified>
  <cp:revision>13</cp:revision>
  <dc:subject/>
  <dc:title>Слайд 1</dc:title>
</cp:coreProperties>
</file>