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07FD-302B-4129-BB26-EF1E76E2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FB62-8EE0-4B22-9EB6-BCBFA294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78BC-4BEA-4192-BDDD-ECBFBA0E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FB01-8F09-4D00-8232-0D968916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12DD-CB3A-416C-B1BA-686DE512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61C9-B6D7-4BC1-8858-C7CACBF8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4DB9-DDF4-444E-8158-60C21B70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E221-0EDF-4360-BECD-1DBAA9AB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0266-6865-4333-BA0E-3DE8A9E2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6E5-3F66-41DF-A455-01D3CBE9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1CD4-546A-4D42-9AFB-EB5C43D5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A39-16EB-44EF-8375-350C84B2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C55D-9603-4C62-BD3F-F6D07C0EE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7;&#1085;&#1077;&#1095;&#1082;&#1080;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maniactive.com/backgrounds/spring-flowers.jpg"/>
          <p:cNvPicPr/>
          <p:nvPr/>
        </p:nvPicPr>
        <p:blipFill>
          <a:blip r:embed="rId1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97920" y="152280"/>
            <a:ext cx="399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мволика Хипп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380880" y="1066680"/>
            <a:ext cx="3048120" cy="56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тнических элементы: бусы, плетеные из бисера или ниток, браслеты, фенечки и проч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мером могут служить так называемые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фенечки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 Фенечки имеют сложную символику, у каждой фенечки именно свой цвет, который передает характер хозяина, и каждый цвет обозначает что – то св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жинсы стали «фирменной» одеждой хипп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multi-lady.ru/wp-content/uploads/2012/06/454-570x500.jpg"/>
          <p:cNvPicPr/>
          <p:nvPr/>
        </p:nvPicPr>
        <p:blipFill>
          <a:blip r:embed="rId3"/>
          <a:stretch/>
        </p:blipFill>
        <p:spPr>
          <a:xfrm>
            <a:off x="4870440" y="225360"/>
            <a:ext cx="3767040" cy="3303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://cs5896.vkontakte.ru/u67123433/-5/x_fd097603.jpg"/>
          <p:cNvPicPr/>
          <p:nvPr/>
        </p:nvPicPr>
        <p:blipFill>
          <a:blip r:embed="rId4"/>
          <a:stretch/>
        </p:blipFill>
        <p:spPr>
          <a:xfrm>
            <a:off x="4565520" y="2511360"/>
            <a:ext cx="4365720" cy="2908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www.0lik.ru/uploads/posts/2011-07/thumbs/1311358831_0lik.ru_peace-simbols.jpg"/>
          <p:cNvPicPr/>
          <p:nvPr/>
        </p:nvPicPr>
        <p:blipFill>
          <a:blip r:embed="rId5"/>
          <a:stretch/>
        </p:blipFill>
        <p:spPr>
          <a:xfrm>
            <a:off x="4108320" y="3121200"/>
            <a:ext cx="3603600" cy="35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00:18Z</dcterms:created>
  <dc:creator>Lenovo</dc:creator>
  <dc:description/>
  <dc:language>en-US</dc:language>
  <cp:lastModifiedBy>SamLab.ws</cp:lastModifiedBy>
  <dcterms:modified xsi:type="dcterms:W3CDTF">2012-12-07T13:25:35Z</dcterms:modified>
  <cp:revision>14</cp:revision>
  <dc:subject/>
  <dc:title>Слайд 1</dc:title>
</cp:coreProperties>
</file>