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9860-484A-4681-845A-072CC59A9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FC71-B9B3-4B71-BA96-98630BC7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CC86-2257-4C00-B4EB-46FFBBD94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50D0-230A-4682-9BEE-E500C8BD1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F9C1-E2D1-4C93-AB3F-5FFB2BEA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61BD-DF15-45B9-8FAB-1768F252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11AD-F43B-4D66-BD2E-5931F339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5DBD-485A-4F21-8E73-C2AC4A4B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00C4-8872-44E7-AF89-E48E1945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5746-0A97-4256-8EE9-764586DF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B9F2-EAB8-4426-8CD2-3B36679E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7918-9309-4D1D-822D-012E5CE9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9055-AC21-4ADB-8FCD-97DBD04F40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maniactive.com/backgrounds/spring-flowers.jpg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2" name="Прямоугольник 2"/>
          <p:cNvSpPr/>
          <p:nvPr/>
        </p:nvSpPr>
        <p:spPr>
          <a:xfrm>
            <a:off x="457200" y="1143000"/>
            <a:ext cx="2819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«Off The Pig!»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«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ключи свинью!») (игра слов — «свиньёй» назывался пулемет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60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маловажный атрибут и символ Вьетнамской вой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ive Peace A Chance»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«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йте миру шанс») (название песни Джона Ленно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ll No, We Won’t Go!»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«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и черта мы не уйдём!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ll You Need Is Love!»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«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ё, что тебе нужно — это любовь!»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80880" y="22860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Лозунг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http://cs302706.userapi.com/u104976552/147862667/x_53c6df49.jpg"/>
          <p:cNvPicPr/>
          <p:nvPr/>
        </p:nvPicPr>
        <p:blipFill>
          <a:blip r:embed="rId2"/>
          <a:stretch/>
        </p:blipFill>
        <p:spPr>
          <a:xfrm>
            <a:off x="3193920" y="530280"/>
            <a:ext cx="39751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00:18Z</dcterms:created>
  <dc:creator>Lenovo</dc:creator>
  <dc:description/>
  <dc:language>en-US</dc:language>
  <cp:lastModifiedBy>SamLab.ws</cp:lastModifiedBy>
  <dcterms:modified xsi:type="dcterms:W3CDTF">2012-12-07T13:26:30Z</dcterms:modified>
  <cp:revision>14</cp:revision>
  <dc:subject/>
  <dc:title>Слайд 1</dc:title>
</cp:coreProperties>
</file>