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170-247B-476A-B0CB-792FE59E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853-842D-4020-A25A-2069B273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96E-A66C-4853-A9C4-89AC7D1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9FC-FB5D-43B2-8AA5-CA69A189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B1E-6612-46E5-BBE0-25AC6F5C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F3D-0211-4A7A-9BEE-74CCEF4B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877-A920-41EB-B1AE-32B9A2BC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7AA-C289-472C-8DE3-52CE76F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8EC-BD48-4A3C-BF04-2A9684A4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5D1-001A-4330-974B-C7F2E33B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D69-577F-46D2-9851-08D7070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FB5-F638-4DD7-9CCB-973D548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F1DA-9641-49BA-96E0-72264AC53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457200" y="1143000"/>
            <a:ext cx="396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рип» — фильм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узыка красных хиппи» — альбом ленинградской рок-группы «Санкт-Петербур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Хиппи» — телесериал (Великобритания,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месте» — фильм шведского режиссёра Люкаса Мудиссона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Через Вселенную» — фильм-мюзикл Джулии Тэймор 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Дом Солнца» — фильм Гарика Сукачева по повести Ивана Охлобыстина 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Hippies» — альбом группы гаражного рока Harlem 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сы»- фильм режиссера Милоша Формана (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8600" y="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произ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filmdream.info/img/dom_soln/small/dom_soln_01_small.jpg"/>
          <p:cNvPicPr/>
          <p:nvPr/>
        </p:nvPicPr>
        <p:blipFill>
          <a:blip r:embed="rId2"/>
          <a:stretch/>
        </p:blipFill>
        <p:spPr>
          <a:xfrm>
            <a:off x="4535640" y="-6480"/>
            <a:ext cx="4614840" cy="296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farm3.static.flickr.com/2199/2322017598_ff71771f0f.jpg"/>
          <p:cNvPicPr/>
          <p:nvPr/>
        </p:nvPicPr>
        <p:blipFill>
          <a:blip r:embed="rId3"/>
          <a:stretch/>
        </p:blipFill>
        <p:spPr>
          <a:xfrm>
            <a:off x="5632560" y="907920"/>
            <a:ext cx="329868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blog.bestamericanpoetry.com/.a/6a00e54fe4158b8833014e8a33401f970d-320wi"/>
          <p:cNvPicPr/>
          <p:nvPr/>
        </p:nvPicPr>
        <p:blipFill>
          <a:blip r:embed="rId4"/>
          <a:stretch/>
        </p:blipFill>
        <p:spPr>
          <a:xfrm>
            <a:off x="4870440" y="1901880"/>
            <a:ext cx="28717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20:39Z</dcterms:modified>
  <cp:revision>12</cp:revision>
  <dc:subject/>
  <dc:title>Слайд 1</dc:title>
</cp:coreProperties>
</file>