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715-CF69-4720-A67B-8C73CCD6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2CF-48B3-46C3-B0A7-58880444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ADB-F959-41E6-83D2-95B639FB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A04-0118-4711-974F-7D8EC7A0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DC88-D4DC-4723-ACF7-7E0E7804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D1F1-51A5-4EB0-AC13-67346D6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F6E-39B5-4877-A7FB-057CF75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96D2-B795-4A40-9F92-18BC47D3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E474-A885-409A-BCAA-FB31403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CD58-1B27-48C3-BE53-B114F43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DF63-68F0-4DA9-B741-4A12D03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976-8913-4168-9558-A1C7BC33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6618-27EB-489A-B502-0ED808B4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D291-A2F0-4E6C-ACCA-9CC6DC7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B179-8573-4D29-BAB7-8EC8CDDA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1C43-7865-44F7-9540-6419B92F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E791-863D-478D-9F50-14459269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4C6-0835-483E-8CF8-F146C30D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985-4A74-4E9C-B152-1725724A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F88-143F-46E6-AFB5-E03E748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90C-5BC7-41C4-9A1A-5A4F7479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D89-4CEF-4EAA-B128-9317B0CD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98E-6FD1-4CD8-B28A-7B539D12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F38-8AE3-4D55-9F22-9E6E45A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34B4-7E61-4C79-AE52-8A262F84EA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DAAD-8BA4-4228-9919-89D8A6A0F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3068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1"/>
          <a:srcRect l="33673" t="20512" r="19349" b="15098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4446720" y="203040"/>
            <a:ext cx="185760" cy="646200"/>
          </a:xfrm>
          <a:prstGeom prst="rect">
            <a:avLst/>
          </a:prstGeom>
          <a:solidFill>
            <a:srgbClr val="99ff99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68360" y="260280"/>
            <a:ext cx="8156520" cy="646200"/>
          </a:xfrm>
          <a:prstGeom prst="rect">
            <a:avLst/>
          </a:prstGeom>
          <a:solidFill>
            <a:srgbClr val="fee1a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Рисунок 7" descr="E:\barsuchij_jir - копия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Рисунок 3" descr="E:\640.xopek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6446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403280" y="105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Рисунок 3" descr="E:\desktopwallpapers.org.ua-5179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840"/>
            <a:ext cx="797256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Рисунок 3" descr="E:\osetr_b.jpg"/>
          <p:cNvPicPr/>
          <p:nvPr/>
        </p:nvPicPr>
        <p:blipFill>
          <a:blip r:embed="rId1"/>
          <a:stretch/>
        </p:blipFill>
        <p:spPr>
          <a:xfrm>
            <a:off x="214200" y="214200"/>
            <a:ext cx="850104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9" name="Содержимое 3" descr=""/>
          <p:cNvPicPr/>
          <p:nvPr/>
        </p:nvPicPr>
        <p:blipFill>
          <a:blip r:embed="rId1"/>
          <a:srcRect l="33673" t="20512" r="18546" b="14818"/>
          <a:stretch/>
        </p:blipFill>
        <p:spPr>
          <a:xfrm>
            <a:off x="285840" y="28584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796000" y="5445000"/>
            <a:ext cx="183960" cy="58428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4" descr=""/>
          <p:cNvPicPr/>
          <p:nvPr/>
        </p:nvPicPr>
        <p:blipFill>
          <a:blip r:embed="rId1"/>
          <a:srcRect l="34306" t="20256" r="19202" b="15851"/>
          <a:stretch/>
        </p:blipFill>
        <p:spPr>
          <a:xfrm>
            <a:off x="214200" y="357120"/>
            <a:ext cx="8501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337680"/>
            <a:ext cx="8229600" cy="11811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6" name="Рисунок 9" descr=""/>
          <p:cNvPicPr/>
          <p:nvPr/>
        </p:nvPicPr>
        <p:blipFill>
          <a:blip r:embed="rId1"/>
          <a:srcRect l="33512" t="19946" r="18386" b="16811"/>
          <a:stretch/>
        </p:blipFill>
        <p:spPr>
          <a:xfrm>
            <a:off x="214200" y="35712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811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8" name="Рисунок 8" descr=""/>
          <p:cNvPicPr/>
          <p:nvPr/>
        </p:nvPicPr>
        <p:blipFill>
          <a:blip r:embed="rId1"/>
          <a:srcRect l="33673" t="20231" r="19349" b="15384"/>
          <a:stretch/>
        </p:blipFill>
        <p:spPr>
          <a:xfrm>
            <a:off x="285840" y="285840"/>
            <a:ext cx="8643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E:\9284.jpg"/>
          <p:cNvPicPr/>
          <p:nvPr/>
        </p:nvPicPr>
        <p:blipFill>
          <a:blip r:embed="rId1"/>
          <a:stretch/>
        </p:blipFill>
        <p:spPr>
          <a:xfrm>
            <a:off x="1601640" y="1039680"/>
            <a:ext cx="594072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8"/>
          <p:cNvSpPr/>
          <p:nvPr/>
        </p:nvSpPr>
        <p:spPr>
          <a:xfrm>
            <a:off x="450072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39640" y="476280"/>
            <a:ext cx="184320" cy="58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219640" y="476280"/>
            <a:ext cx="184320" cy="58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364000" y="1484280"/>
            <a:ext cx="3311640" cy="646200"/>
          </a:xfrm>
          <a:prstGeom prst="rect">
            <a:avLst/>
          </a:prstGeom>
          <a:solidFill>
            <a:srgbClr val="ccff99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714240" y="1785960"/>
            <a:ext cx="2971800" cy="646200"/>
          </a:xfrm>
          <a:prstGeom prst="rect">
            <a:avLst/>
          </a:prstGeom>
          <a:solidFill>
            <a:srgbClr val="eed19e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Рисунок 6" descr="E:\59cb8b8077c87694125fe585217314ee.jpg"/>
          <p:cNvPicPr/>
          <p:nvPr/>
        </p:nvPicPr>
        <p:blipFill>
          <a:blip r:embed="rId1"/>
          <a:stretch/>
        </p:blipFill>
        <p:spPr>
          <a:xfrm>
            <a:off x="285840" y="28584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547640" y="692280"/>
            <a:ext cx="184320" cy="58392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771640" y="1844640"/>
            <a:ext cx="3703680" cy="1191240"/>
          </a:xfrm>
          <a:prstGeom prst="rect">
            <a:avLst/>
          </a:prstGeom>
          <a:solidFill>
            <a:srgbClr val="ff9933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Рисунок 3" descr="E:\0_6638f_38cd5ca4_XL.jpe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31480"/>
            <a:ext cx="8229600" cy="1199880"/>
          </a:xfrm>
          <a:prstGeom prst="rect">
            <a:avLst/>
          </a:prstGeom>
          <a:solidFill>
            <a:srgbClr val="eed19e"/>
          </a:solidFill>
          <a:ln w="57240">
            <a:solidFill>
              <a:srgbClr val="a26d18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0" name="Рисунок 3" descr="E:\8472.jpg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4525920" y="1628640"/>
            <a:ext cx="184320" cy="646200"/>
          </a:xfrm>
          <a:prstGeom prst="rect">
            <a:avLst/>
          </a:prstGeom>
          <a:solidFill>
            <a:srgbClr val="f9d793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280" y="189000"/>
            <a:ext cx="8569440" cy="646200"/>
          </a:xfrm>
          <a:prstGeom prst="rect">
            <a:avLst/>
          </a:prstGeom>
          <a:solidFill>
            <a:srgbClr val="ffcccc"/>
          </a:solidFill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392720" y="5516640"/>
            <a:ext cx="183960" cy="58428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332000" y="189000"/>
            <a:ext cx="183960" cy="707760"/>
          </a:xfrm>
          <a:prstGeom prst="rect">
            <a:avLst/>
          </a:prstGeom>
          <a:solidFill>
            <a:srgbClr val="ffcccc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Рисунок 6" descr="E:\B_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4:15:03Z</dcterms:created>
  <dc:creator>мама</dc:creator>
  <dc:description/>
  <dc:language>en-US</dc:language>
  <cp:lastModifiedBy>333</cp:lastModifiedBy>
  <dcterms:modified xsi:type="dcterms:W3CDTF">2012-12-06T07:17:53Z</dcterms:modified>
  <cp:revision>15</cp:revision>
  <dc:subject/>
  <dc:title>Неживая и живая природа. Явления природы.</dc:title>
</cp:coreProperties>
</file>