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ECE-9DAD-4FBF-9397-01B2B293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07A-2EB4-4721-9A84-7AC0B182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6F3-6E5C-4F23-8D02-09185FEC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BBA-946F-47E9-A571-2CFB092D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07D9-3814-4C57-AB27-890281A4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97F6-20D1-435D-880C-3BC1D9B8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629A-5F18-4C70-86C6-15E3B254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D7BA-4117-414F-B380-B0209D64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4547-2A9B-4D94-990A-966060F5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3CC4-7402-4F43-B007-902A963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7257-9D7E-4082-B35D-35930716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ECE-8DB1-4E5E-B9CD-A6BF1BEA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58EA-3366-4F59-8E20-0E62EEF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25A9-4385-4B4A-913F-8937406B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0526-53E9-4EC9-848E-B65F40C3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5FB5-D8AC-4999-811D-872768B3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AC4F-F2C6-4182-979F-6692E531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F596-0057-4A04-A607-6A9A7CD3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D63E-884D-4239-B6CB-64FA28AB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64EC-00AD-4AE0-883C-5ABD3DD1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401F-86FF-48F6-BBC7-CBA1C297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210A-17C3-452B-9BBF-47F8FD57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5A9-F631-4B2F-8E91-42B3CA0B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884F-965E-40E1-935B-FB8AE1EE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2F7E-6F9A-408E-8DA7-D056A322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D0F0-E8D0-42D4-B53E-5480BBAB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2087-2DD7-4E97-83DC-56A6DBB8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72A5-DE4A-4ADF-B7DD-007F38CE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444E-1667-4FE8-9241-30C5B25E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F0FF-36BC-41BF-BD24-348724EB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ED26-F265-4047-884F-5F4E124C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57C5-5774-4BC6-9A9E-C6ACA093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0721-9EDA-4E17-AF3D-E0D2E6EE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EAB-2481-421E-A884-0758AB68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597D-0050-4B35-BB1D-3397F4F4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B6FAB-A4AB-4571-A5A9-AD7500C0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2EF0C-3003-47A0-A0B5-C25DBD83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54C0-FB3B-4931-A953-9D379D17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4826-FBFB-4D04-AD65-15BDC5D3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EFE15-3C97-4CBB-8A30-89B672E3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9013-6AD9-4699-865D-9FF7BEE3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88447-3E27-4FB4-AA07-2626EE68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7D6A2-EE93-42D5-9FAB-2DBA00CC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15450-6BAD-43BB-9CC9-2BE83DF2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57B-AA3F-40DD-9F5D-9216B4AD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3CA7D-1798-41C7-ADB3-6C2E4687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CF441-2C73-4AFC-865D-9950A950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5BC68-0668-40C7-AA82-BF779C77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BEDD-619D-405B-A4EF-394F3011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50431-089E-4C9F-A822-2D12D3BA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C7DB2-1E28-439D-9898-9CD3502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FD02-67A8-4209-8608-798B591D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69F7-42B0-4C2C-80CE-D4C44CFD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B1CB-97DF-40E0-8416-4A759E8C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8535-4750-4959-96B9-FC9C96DF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AD4-A926-4BA4-945C-12CB3A65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CD830-49D2-40B4-8719-90882454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88C1C-5E8B-4CA1-8400-712F44E8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CEA1-6231-47E2-BC1C-159A3D65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16EF-AA9B-4F85-9D90-DC08AB56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B2AA4-9CB1-4C4C-9C89-3F703C24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93967-B7E3-4E8F-95A5-927BB5FB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FB008-F150-4F1E-B850-4152A85C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60A25-EAC7-4D63-B94D-E9E222AC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ECED4-CADA-45E7-B96B-7FFA80B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A7A0-102B-4AA6-992C-E0D853A3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946-F10B-44E1-86EF-AFD216FC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9C4D3-015B-4AF4-8795-71FFD3D9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2B22-6787-4EFC-AE93-F920504A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F979D-98BC-442B-91FC-D92736D4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AD0F3-1C22-47B8-B4FB-559303E6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B4407-09C0-4018-81FE-58350AEA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5782A-2B70-4190-9F15-2FE12B36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93BA3-F700-41B2-8025-0529E768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01A36-BA2C-4F27-91F8-6223D7EB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6DAC8-E80F-4A69-B19A-AD6029E5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8E6B3-85DF-4B1A-B098-EC90CC3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5DB-E7DE-4015-AC6F-41624F62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F9F4C-2EC1-45AA-8453-D77E531D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A9B73-A34E-401D-BF02-FD92109F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9C553-16D5-42BC-B798-F6798AD9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14A1A-A199-4C2E-B6DC-E376B651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8CD1A-D17E-48E7-B4CE-49F3D8FA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595-B437-4A8E-9D57-60F679FC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7D23-4897-4267-A285-C08DDEF40B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8907-C1CA-4B86-AB7A-7B5EC63D80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CD13-EEA9-4CDB-B6CD-7DBAE1A192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1413-CCD2-4842-9D4A-AD9A77A51B3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7A25-59C1-4966-8470-9C88F1A76E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81B7-A25B-4348-A219-2A249321FC9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4BC1-8716-47BD-AB60-052AA133B28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ndara"/>
              </a:rPr>
              <a:t>Литературно – музыкальный</a:t>
            </a:r>
            <a:br>
              <a:rPr sz="4400"/>
            </a:br>
            <a:br>
              <a:rPr sz="4400"/>
            </a:br>
            <a:r>
              <a:rPr b="1" lang="ru-RU" sz="6000" spc="-1" strike="noStrike">
                <a:solidFill>
                  <a:srgbClr val="002060"/>
                </a:solidFill>
                <a:latin typeface="Candara"/>
              </a:rPr>
              <a:t> ЭРУДИЦИОН 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7" name="Picture 11" descr=""/>
          <p:cNvPicPr/>
          <p:nvPr/>
        </p:nvPicPr>
        <p:blipFill>
          <a:blip r:embed="rId1"/>
          <a:stretch/>
        </p:blipFill>
        <p:spPr>
          <a:xfrm>
            <a:off x="5003640" y="4343400"/>
            <a:ext cx="4051440" cy="2293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2" descr=""/>
          <p:cNvPicPr/>
          <p:nvPr/>
        </p:nvPicPr>
        <p:blipFill>
          <a:blip r:embed="rId2"/>
          <a:stretch/>
        </p:blipFill>
        <p:spPr>
          <a:xfrm>
            <a:off x="179280" y="2908440"/>
            <a:ext cx="4176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ndara"/>
              </a:rPr>
              <a:t>Отгадай композито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12" descr="D:\Кир@н Под\0028-022-V-techenie-19-veka-svoi-sily-v-tserkovnom-pesnetvorchestve-probovali-M.I.jpg"/>
          <p:cNvPicPr/>
          <p:nvPr/>
        </p:nvPicPr>
        <p:blipFill>
          <a:blip r:embed="rId1"/>
          <a:stretch/>
        </p:blipFill>
        <p:spPr>
          <a:xfrm>
            <a:off x="108000" y="96840"/>
            <a:ext cx="2448000" cy="3262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" descr="D:\Кир@н Под\shostakovishbig.jpg"/>
          <p:cNvPicPr/>
          <p:nvPr/>
        </p:nvPicPr>
        <p:blipFill>
          <a:blip r:embed="rId2"/>
          <a:stretch/>
        </p:blipFill>
        <p:spPr>
          <a:xfrm>
            <a:off x="271440" y="3613320"/>
            <a:ext cx="2479680" cy="3251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D:\Кир@н Под\1-1.jpg"/>
          <p:cNvPicPr/>
          <p:nvPr/>
        </p:nvPicPr>
        <p:blipFill>
          <a:blip r:embed="rId3"/>
          <a:stretch/>
        </p:blipFill>
        <p:spPr>
          <a:xfrm>
            <a:off x="5219640" y="96840"/>
            <a:ext cx="2279880" cy="3147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D:\Кир@н Под\75448710_large_4000491_rims.jpg"/>
          <p:cNvPicPr/>
          <p:nvPr/>
        </p:nvPicPr>
        <p:blipFill>
          <a:blip r:embed="rId4"/>
          <a:stretch/>
        </p:blipFill>
        <p:spPr>
          <a:xfrm>
            <a:off x="4792680" y="3603600"/>
            <a:ext cx="2490840" cy="3259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2771640" y="3244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.И. Гли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Прямоугольник 10"/>
          <p:cNvSpPr/>
          <p:nvPr/>
        </p:nvSpPr>
        <p:spPr>
          <a:xfrm>
            <a:off x="7020000" y="32446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И.Чайков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21"/>
          <p:cNvSpPr/>
          <p:nvPr/>
        </p:nvSpPr>
        <p:spPr>
          <a:xfrm>
            <a:off x="7367760" y="6059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.А.Римский- Корса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Прямоугольник 23"/>
          <p:cNvSpPr/>
          <p:nvPr/>
        </p:nvSpPr>
        <p:spPr>
          <a:xfrm>
            <a:off x="2843280" y="612936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Д.Шостакови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ndara"/>
              </a:rPr>
              <a:t>Музыкальная виктори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Рисунок 4" descr=""/>
          <p:cNvPicPr/>
          <p:nvPr/>
        </p:nvPicPr>
        <p:blipFill>
          <a:blip r:embed="rId1"/>
          <a:stretch/>
        </p:blipFill>
        <p:spPr>
          <a:xfrm>
            <a:off x="250920" y="90360"/>
            <a:ext cx="2808360" cy="3738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D:\Кир@н Под\20100112192822_3b.jpg"/>
          <p:cNvPicPr/>
          <p:nvPr/>
        </p:nvPicPr>
        <p:blipFill>
          <a:blip r:embed="rId2"/>
          <a:stretch/>
        </p:blipFill>
        <p:spPr>
          <a:xfrm>
            <a:off x="5867280" y="3508200"/>
            <a:ext cx="2355840" cy="3238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D:\Кир@н Под\1e1b0bf86c6f5a4c0bc57a220008d2d8.jpg"/>
          <p:cNvPicPr/>
          <p:nvPr/>
        </p:nvPicPr>
        <p:blipFill>
          <a:blip r:embed="rId3"/>
          <a:stretch/>
        </p:blipFill>
        <p:spPr>
          <a:xfrm>
            <a:off x="324000" y="3921120"/>
            <a:ext cx="3887640" cy="29113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D:\Кир@н Под\20100522_1_dehterev.jpg"/>
          <p:cNvPicPr/>
          <p:nvPr/>
        </p:nvPicPr>
        <p:blipFill>
          <a:blip r:embed="rId4"/>
          <a:stretch/>
        </p:blipFill>
        <p:spPr>
          <a:xfrm>
            <a:off x="4332240" y="1555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ndara"/>
              </a:rPr>
              <a:t>Музыкальные инструмен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Picture 11" descr="флейта"/>
          <p:cNvPicPr/>
          <p:nvPr/>
        </p:nvPicPr>
        <p:blipFill>
          <a:blip r:embed="rId1"/>
          <a:stretch/>
        </p:blipFill>
        <p:spPr>
          <a:xfrm>
            <a:off x="179280" y="189000"/>
            <a:ext cx="4464000" cy="1906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4" descr="tromba"/>
          <p:cNvPicPr/>
          <p:nvPr/>
        </p:nvPicPr>
        <p:blipFill>
          <a:blip r:embed="rId2"/>
          <a:stretch/>
        </p:blipFill>
        <p:spPr>
          <a:xfrm>
            <a:off x="4932360" y="198360"/>
            <a:ext cx="4032360" cy="2367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скрипка"/>
          <p:cNvPicPr/>
          <p:nvPr/>
        </p:nvPicPr>
        <p:blipFill>
          <a:blip r:embed="rId3"/>
          <a:stretch/>
        </p:blipFill>
        <p:spPr>
          <a:xfrm>
            <a:off x="971640" y="2238480"/>
            <a:ext cx="2736720" cy="4476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D:\Кир@н Под\800px-Trombone_CG_Bach42AG.jpg"/>
          <p:cNvPicPr/>
          <p:nvPr/>
        </p:nvPicPr>
        <p:blipFill>
          <a:blip r:embed="rId4"/>
          <a:stretch/>
        </p:blipFill>
        <p:spPr>
          <a:xfrm>
            <a:off x="4714920" y="3022560"/>
            <a:ext cx="42498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1619280" y="1595520"/>
            <a:ext cx="5892840" cy="52624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ndara"/>
              </a:rPr>
              <a:t>Что за прелесть эти сказки!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3240" y="1413000"/>
            <a:ext cx="3301920" cy="2303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3"/>
          <a:stretch/>
        </p:blipFill>
        <p:spPr>
          <a:xfrm>
            <a:off x="6070680" y="1420920"/>
            <a:ext cx="2928960" cy="2584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4"/>
          <a:stretch/>
        </p:blipFill>
        <p:spPr>
          <a:xfrm>
            <a:off x="3203640" y="1420920"/>
            <a:ext cx="2736720" cy="3421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5"/>
          <a:stretch/>
        </p:blipFill>
        <p:spPr>
          <a:xfrm>
            <a:off x="6257880" y="4005360"/>
            <a:ext cx="2556000" cy="2925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"/>
          <p:cNvPicPr/>
          <p:nvPr/>
        </p:nvPicPr>
        <p:blipFill>
          <a:blip r:embed="rId6"/>
          <a:stretch/>
        </p:blipFill>
        <p:spPr>
          <a:xfrm>
            <a:off x="25560" y="3860640"/>
            <a:ext cx="29937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5" descr="http://festival.1september.ru/articles/608633/img1.gif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4" descr="http://festival.1september.ru/articles/608633/img2.gif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3" descr="http://festival.1september.ru/articles/608633/img3.gif"/>
          <p:cNvPicPr/>
          <p:nvPr/>
        </p:nvPicPr>
        <p:blipFill>
          <a:blip r:embed="rId1"/>
          <a:stretch/>
        </p:blipFill>
        <p:spPr>
          <a:xfrm>
            <a:off x="0" y="33480"/>
            <a:ext cx="92170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Рисунок 2" descr="http://festival.1september.ru/articles/608633/img4.gif"/>
          <p:cNvPicPr/>
          <p:nvPr/>
        </p:nvPicPr>
        <p:blipFill>
          <a:blip r:embed="rId1"/>
          <a:stretch/>
        </p:blipFill>
        <p:spPr>
          <a:xfrm>
            <a:off x="0" y="0"/>
            <a:ext cx="91695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http://festival.1september.ru/articles/608633/img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ndara"/>
              </a:rPr>
              <a:t>Музыкальная шкатулк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11" descr=""/>
          <p:cNvPicPr/>
          <p:nvPr/>
        </p:nvPicPr>
        <p:blipFill>
          <a:blip r:embed="rId1"/>
          <a:stretch/>
        </p:blipFill>
        <p:spPr>
          <a:xfrm>
            <a:off x="179280" y="3567240"/>
            <a:ext cx="8785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30:49Z</dcterms:created>
  <dc:creator>User</dc:creator>
  <dc:description/>
  <dc:language>en-US</dc:language>
  <cp:lastModifiedBy>Admin</cp:lastModifiedBy>
  <dcterms:modified xsi:type="dcterms:W3CDTF">2012-12-06T12:40:32Z</dcterms:modified>
  <cp:revision>76</cp:revision>
  <dc:subject/>
  <dc:title>лекия</dc:title>
</cp:coreProperties>
</file>