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F3F4E-1147-423F-8BE9-8B59790D9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2EA5-1B22-4D9F-9334-CD9CF4D6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B2D63-D9FA-4A24-9DAC-B95B7BD63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4CB86-F1B2-41D8-8F67-6CA279949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4D77-0E64-4863-8A66-F321F241D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A6B8A-99C3-4038-8072-1F0D3333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3DC13-34EA-41B5-A7A3-1E48AD77A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00BCD-2CD9-4EF0-BE23-CC0205E6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D5D03-C334-4B37-8FE9-FAC4954B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B81B-3C15-4B03-92D9-76713814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D144-856F-4326-855E-2F6786C76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B1E3-3104-4959-BB3C-85D92DDED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0394-E974-44C3-A760-49E77081C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32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Маркетинговые коммуникации.</a:t>
            </a:r>
            <a:br>
              <a:rPr sz="4000"/>
            </a:br>
            <a:endParaRPr b="0" lang="en-US" sz="4000" spc="-1" strike="noStrike">
              <a:solidFill>
                <a:srgbClr val="000000"/>
              </a:solidFill>
              <a:latin typeface="Arial"/>
            </a:endParaRPr>
          </a:p>
        </p:txBody>
      </p:sp>
      <p:sp>
        <p:nvSpPr>
          <p:cNvPr id="42" name=""/>
          <p:cNvSpPr/>
          <p:nvPr/>
        </p:nvSpPr>
        <p:spPr>
          <a:xfrm>
            <a:off x="1447920" y="3200400"/>
            <a:ext cx="183960" cy="366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457200" y="533520"/>
          <a:ext cx="8001000" cy="5866560"/>
        </p:xfrm>
        <a:graphic>
          <a:graphicData uri="http://schemas.openxmlformats.org/drawingml/2006/table">
            <a:tbl>
              <a:tblPr/>
              <a:tblGrid>
                <a:gridCol w="2666880"/>
                <a:gridCol w="2667240"/>
                <a:gridCol w="2666880"/>
              </a:tblGrid>
              <a:tr h="1866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Элемент маркетинга</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Функция, традиционно рассматриваемая как основная</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Функции, традиционно рассматриваемые как дополнительные, но в информационном обществе приобретающие ключевое значение</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r>
              <a:tr h="1466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Продукт (товар, услуга, идея)</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Удовлетворение потребности</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Соответствие ожиданиям потребителя при выборе/покупке (ключевой элемент — упаковка)</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r>
              <a:tr h="146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Цена</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Экономическая функция</a:t>
                      </a:r>
                      <a:br>
                        <a:rPr sz="1400"/>
                      </a:br>
                      <a:r>
                        <a:rPr b="1" lang="en-US" sz="1400" spc="-1" strike="noStrike">
                          <a:solidFill>
                            <a:srgbClr val="000000"/>
                          </a:solidFill>
                          <a:latin typeface="Arial"/>
                          <a:ea typeface="Arial"/>
                        </a:rPr>
                        <a:t>Конкурентная функция</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Соответствие ожиданиям потребителя (ключевой момент — соответствие цены восприятию упаковки)</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r>
              <a:tr h="1065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Каналы товародвижения</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Обеспечение предложения</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Направленность на целевую группу, формирование имиджа товара</a:t>
                      </a:r>
                      <a:endParaRPr b="0" lang="en-US" sz="1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56840"/>
            <a:ext cx="83059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i="1" lang="ru-RU" sz="2000" spc="-1" strike="noStrike">
                <a:solidFill>
                  <a:srgbClr val="000000"/>
                </a:solidFill>
                <a:latin typeface="Arial"/>
              </a:rPr>
              <a:t>Первые буквы четырех составляющих комплекса маркетинга — товар (Product), цена (Price), методы распределения (Place), методы стимулирования (Promotion).</a:t>
            </a:r>
            <a:br>
              <a:rPr sz="4000"/>
            </a:br>
            <a:endParaRPr b="0" lang="en-US" sz="2000" spc="-1" strike="noStrike">
              <a:solidFill>
                <a:srgbClr val="000000"/>
              </a:solidFill>
              <a:latin typeface="Arial"/>
            </a:endParaRPr>
          </a:p>
        </p:txBody>
      </p:sp>
      <p:sp>
        <p:nvSpPr>
          <p:cNvPr id="59"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ля того чтобы определить то место, которое маркетинговые коммуникации традиционно занимают в процессе управления маркетингом, и значимость маркетинговых коммуникаций в новых условиях, необходимо провести сравнительный анализ различных концепций маркетинга, которые описаны в зарубежной и отечественной литературе с точки зрения той роли, которая в них отводится маркетинговым коммуникациям. Результаты анализа отражены в табл 3</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52280" y="228600"/>
          <a:ext cx="8763120" cy="6458040"/>
        </p:xfrm>
        <a:graphic>
          <a:graphicData uri="http://schemas.openxmlformats.org/drawingml/2006/table">
            <a:tbl>
              <a:tblPr/>
              <a:tblGrid>
                <a:gridCol w="2921040"/>
                <a:gridCol w="2921040"/>
                <a:gridCol w="2921040"/>
              </a:tblGrid>
              <a:tr h="275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онцепция маркетинга</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Основные принципы</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Роль коммуникаци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r h="600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оизводственная</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Данная концепция утверждает, что потребители отдают предпочтение доступным и дешевым продуктам</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Ограничивается информированием о цене и месте, где можно товар приобрест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r h="92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Товарная</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Исходит из того, что потребители отдают предпочтение товарам, предлагающим наивысшее качество, обладающими лучшими эксплуатационными свойствами и характеристикам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Ограничивается доказательством того, что данный товар обладает лучшими техническими характеристикам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r h="622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бытовая</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Исходит из того, что потребителям свойственна некая покупательная инертность и даже сопротивление, организация должна вести агрессивную политику продаж и интенсивно продвигать свою продукцию на рынок</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Ориентирована на получение эффекта в виде продаж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лассическая</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Залог достижения целей организации — определение нужд и потребностей целевых рынков и удовлетворение потребителей более эффективными, чем у конкурентов, способам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оммуникация ориентирована на потребителя и имеет цель убедить потребителя в том, что данный товар наилучшим образом удовлетворит его потребност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оциально-этическая</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Основная идея — необходимость удовлетворения нужд и потребностей потребителя более эффективными, чем у конкурентов, способами при сохранении и укреплении благополучия потребителя и общества в целом</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оммуникация ориентирована на необходимость объяснения потребителю пользы, которую он извлекает из товара, а также раскрытия социальной роли деятельности организации</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r h="115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Новая концепция маркетинга (коммуникационная)</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Основная идея — необходимо любое маркетинговое решение, касающееся любого «P» маркетинга анализировать, в первую очередь, с точки зрения той коммуникации, которая будет порождена данным решением</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оммуникация становится основным фактором успеха в управлении маркетингом. Взгляд на анализ и управление коммуникациями является комплексным и именно коммуникативная стратегия является ключевым элементом стратегии маркетинга</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сновные выводы</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990360"/>
            <a:ext cx="8229600" cy="5638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В России в последние 10 лет сложились предпосылки для перехода к информационному обществу, который имеет свои ярко выраженные особенности по сравнению с другими стран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Переход к информационному обществу оказывает влияние на принципы ведения предпринимательской деятельности и требует их адаптации к новым условиям (особенно в сфере построения коммуникативной стратегии предприят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Тенденции развития российского рынка рекламы — одного из основных видов маркетинговых коммуникаций — показывают, что коммуникативная активность бизнеса стремительно растет и требует дополнительного изучения и выработки новых, отвечающих веяниям времени принцип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Анализ разработанной автором классификации участников российского рекламного рынка позволяет сделать выводы о необходимости разработки теоретической и методологической базы для функционально-структурной реорганизации участников данного рынка в целях соответствия их деятельности современным условия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Маркетинговые коммуникации являются важнейшей частью всего маркетингового комплекса, а каждый элемент маркетинга («P» маркетинга) выполняет наряду со своими стандартными функциями коммуникационную функцию, которая в условиях информационного общества приобретает ключевое знач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Та роль, которую играют маркетинговые коммуникации в условиях информационного общества, заставляет пересмотреть традиционные принципы управления маркетингом, так как ни одна из существующих концепций маркетинга не уделяет вопросу управления маркетинговыми коммуникациями должного внимания. Это обусловливает необходимость разработки новой концепции маркетинга — коммуникационно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000"/>
            </a:br>
            <a:r>
              <a:rPr b="1" i="1" lang="en-US" sz="2000" spc="-1" strike="noStrike">
                <a:solidFill>
                  <a:srgbClr val="000000"/>
                </a:solidFill>
                <a:latin typeface="Arial"/>
              </a:rPr>
              <a:t>Маркетинговые коммуникации представляют</a:t>
            </a:r>
            <a:br>
              <a:rPr sz="2000"/>
            </a:br>
            <a:r>
              <a:rPr b="1" i="1" lang="en-US" sz="2000" spc="-1" strike="noStrike">
                <a:solidFill>
                  <a:srgbClr val="000000"/>
                </a:solidFill>
                <a:latin typeface="Arial"/>
              </a:rPr>
              <a:t> собой процесс передачи информации</a:t>
            </a:r>
            <a:br>
              <a:rPr sz="2000"/>
            </a:br>
            <a:r>
              <a:rPr b="1" i="1" lang="en-US" sz="2000" spc="-1" strike="noStrike">
                <a:solidFill>
                  <a:srgbClr val="000000"/>
                </a:solidFill>
                <a:latin typeface="Arial"/>
              </a:rPr>
              <a:t> о товаре целевой аудитории. </a:t>
            </a:r>
            <a:br>
              <a:rPr sz="2000"/>
            </a:br>
            <a:r>
              <a:rPr b="1" i="1" lang="en-US" sz="2000" spc="-1" strike="noStrike">
                <a:solidFill>
                  <a:srgbClr val="000000"/>
                </a:solidFill>
                <a:latin typeface="Arial"/>
              </a:rPr>
              <a:t> Целевая аудитория представляет собой группу людей, которые</a:t>
            </a:r>
            <a:br>
              <a:rPr sz="2000"/>
            </a:br>
            <a:r>
              <a:rPr b="1" i="1" lang="en-US" sz="2000" spc="-1" strike="noStrike">
                <a:solidFill>
                  <a:srgbClr val="000000"/>
                </a:solidFill>
                <a:latin typeface="Arial"/>
              </a:rPr>
              <a:t> получают маркетинговые обращения и имеют возможность</a:t>
            </a:r>
            <a:br>
              <a:rPr sz="2000"/>
            </a:br>
            <a:r>
              <a:rPr b="1" i="1" lang="en-US" sz="2000" spc="-1" strike="noStrike">
                <a:solidFill>
                  <a:srgbClr val="000000"/>
                </a:solidFill>
                <a:latin typeface="Arial"/>
              </a:rPr>
              <a:t> реагировать на них.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Таблица 1. Характерные признаки информационного российского общества и их влияние на предпринимательскую деятельность</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45" name=""/>
          <p:cNvGraphicFramePr/>
          <p:nvPr/>
        </p:nvGraphicFramePr>
        <p:xfrm>
          <a:off x="457200" y="1600200"/>
          <a:ext cx="8229600" cy="5707080"/>
        </p:xfrm>
        <a:graphic>
          <a:graphicData uri="http://schemas.openxmlformats.org/drawingml/2006/table">
            <a:tbl>
              <a:tblPr/>
              <a:tblGrid>
                <a:gridCol w="2743200"/>
                <a:gridCol w="2743200"/>
                <a:gridCol w="2743200"/>
              </a:tblGrid>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Характерные черты и признаки информационного обществ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бщие принципы предпринимательской деятельност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лияние на принципы ведения предпринимательской деятельности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84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Формирование единого информационно-коммуникационного пространства России как части мирового информационного пространства, полноправное участие России в процессах информационной и экономической интеграции регионов, стран, рынков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Становление и в последующем доминирование в экономике новых технологических укладов, базирующихся на массовом использовании перспективных информационных технологий, средств вычислительной техники и телекоммуникации</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едение предпринимательской деятельности в условиях рыночной экономики неразрывно связано с конкурентной борьбой. Степень конкурентного давления определяется развитостью рыночных отношений, экономической политикой государства (в том числе в области протекционизма) и др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Механизмы ведения предпринимательской деятельности, особенно в области взаимодействия с потребителем, зависят от социально-экономических особенностей данного рын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Ужесточение конкуренции за счет выхода на российский рынок международных корпораций</a:t>
                      </a:r>
                      <a:br>
                        <a:rPr sz="1400"/>
                      </a:br>
                      <a:br>
                        <a:rPr sz="1400"/>
                      </a:br>
                      <a:r>
                        <a:rPr b="0" i="1" lang="en-US" sz="1400" spc="-1" strike="noStrike">
                          <a:solidFill>
                            <a:srgbClr val="000000"/>
                          </a:solidFill>
                          <a:latin typeface="Arial"/>
                        </a:rPr>
                        <a:t>«Стирание» границ между национальными рынками</a:t>
                      </a:r>
                      <a:br>
                        <a:rPr sz="1400"/>
                      </a:br>
                      <a:br>
                        <a:rPr sz="1400"/>
                      </a:br>
                      <a:r>
                        <a:rPr b="0" i="1" lang="en-US" sz="1400" spc="-1" strike="noStrike">
                          <a:solidFill>
                            <a:srgbClr val="000000"/>
                          </a:solidFill>
                          <a:latin typeface="Arial"/>
                        </a:rPr>
                        <a:t>Глобализация экономики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Появление новых высокотехнологичных средств и методов воздействия на потребителя (Интернет, спутниковое ТВ, интерактивное ТВ, маркетинг баз данных и т.п.)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7" name=""/>
          <p:cNvGraphicFramePr/>
          <p:nvPr/>
        </p:nvGraphicFramePr>
        <p:xfrm>
          <a:off x="457200" y="1600200"/>
          <a:ext cx="8229600" cy="4989600"/>
        </p:xfrm>
        <a:graphic>
          <a:graphicData uri="http://schemas.openxmlformats.org/drawingml/2006/table">
            <a:tbl>
              <a:tblPr/>
              <a:tblGrid>
                <a:gridCol w="2743200"/>
                <a:gridCol w="2743200"/>
                <a:gridCol w="2743200"/>
              </a:tblGrid>
              <a:tr h="114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Характерные черты и признаки информационного обществ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бщие принципы предпринимательской деятельности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лияние на принципы ведения предпринимательской деятельности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3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оздание и развитие рынка информации и знаний как факторов производства в дополнение к рынкам природных ресурсов, труда и капитала, переход информационных ресурсов общества в реальные ресурсы социально-экономического развития, фактическое удовлетворение потребностей общества в информационных продуктах и услугах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Возрастание роли информационно-коммуникационной инфраструктуры в системе общественного производства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Повышение уровня образования, научно-технического и культурного развития за счет расширения возможностей систем информационного обмена на международном, национальном и региональном уровнях и, соответственно, повышение роли квалификации, профессионализма и способностей к творчеству как важнейших характеристик труда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Предпринимательская деятельность в любой сфере не является автономной и подвержена влиянию других сфер деятельности, которое носит межотраслевой характер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Ориентация предпринимательской деятельности на получение прибыли в результате обменных процессов (как материальных — товарных, так и нематериальных — информационных)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Ориентация предпринимательской деятельности на потребителя требует всестороннего изучения и учета его потребностей, стиля жизни, мотивации поведения и т. п.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Необходимость учета принципов развития и влияния информационных рынков на товарные рынки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Необходимость контроля и координации всей информации, получаемой потребителем о компании/товаре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Изменение потребительского поведения в результате повышения уровня научно-технического развития и образования</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848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План маркетинга представляет собой документ, в котором отражается анализ текущей маркетинговой ситуации, идентифицируются рыночные возможности и связанные с ними опасности, устанавливаются цели развития и намечается план действий, направленных на их дости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523880" y="2895480"/>
            <a:ext cx="6400800" cy="2895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На современном этапе необходимо применение комплексных подходов к управлению коммуникационными процессами в маркетинге. Необходима теоретическая и практическая проработка моделей и механизмов управления маркетинговыми коммуникациями в современных условиях. Особого внимания требует решение вопросов организационно-функционального сопровождения новых подходов к ведению предпринимательской деятельности</a:t>
            </a:r>
            <a:r>
              <a:rPr b="0" i="1" lang="en-US" sz="1800" spc="-1" strike="noStrike">
                <a:solidFill>
                  <a:srgbClr val="000000"/>
                </a:solidFill>
                <a:latin typeface="Arial"/>
              </a:rPr>
              <a:t>.</a:t>
            </a: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601280"/>
            <a:ext cx="88156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дним из важнейших показателей изменения основных принцип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принимательс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еятельности во второй половине нашего века является развит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использование новых информационно-коммуникационных технологий в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сех областях бизнеса. Очевидны изменение отношения к информации 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расширение возможностей получения и применения информации для уси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нкурентоспособности предприятия. Этим определяются возникнов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необходимость решения сложной задачи — создания новой мод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едпринимательской деятельности в информационном общест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явления «точек» и методов воздействий, которые обеспеча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рмальную адаптацию и эффективное существование предприя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условиях информационного общества, а также повысят 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нкурентоспособность.</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009920" y="380520"/>
            <a:ext cx="1676520" cy="5745240"/>
          </a:xfrm>
          <a:prstGeom prst="rect">
            <a:avLst/>
          </a:prstGeom>
          <a:noFill/>
          <a:ln w="0">
            <a:noFill/>
          </a:ln>
        </p:spPr>
        <p:txBody>
          <a:bodyPr lIns="90000" rIns="90000" tIns="46800" bIns="46800" anchor="t">
            <a:normAutofit fontScale="98000"/>
          </a:bodyPr>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обый интерес представляют результаты анализа распределения рекламных затрат по товарным категориям в 2000 г. по 50 крупнейшим рекламодателям </a:t>
            </a:r>
            <a:br>
              <a:rPr sz="1200"/>
            </a:br>
            <a:r>
              <a:rPr b="0" lang="en-US" sz="1000" spc="-1" strike="noStrike">
                <a:solidFill>
                  <a:srgbClr val="000000"/>
                </a:solidFill>
                <a:latin typeface="Arial"/>
              </a:rPr>
              <a:t>Наиболее активными «коммуникаторами» выступают такие категории, как «жевательная резинка», «косметика и парфюмерия», «газированная вода» (см. рис. 1). Очевидно, что реальная (физическая) потребность в данных товарных группах у потребителя не велика или вообще отсутствует. Однако объемы продаж именно этих категорий позволяют им вести наиболее активную маркетинговую политику и получать сверхприбыли </a:t>
            </a:r>
            <a:endParaRPr b="0" lang="en-US" sz="1000" spc="-1" strike="noStrike">
              <a:solidFill>
                <a:srgbClr val="000000"/>
              </a:solidFill>
              <a:latin typeface="Arial"/>
            </a:endParaRPr>
          </a:p>
        </p:txBody>
      </p:sp>
      <p:pic>
        <p:nvPicPr>
          <p:cNvPr id="52" name="" descr=""/>
          <p:cNvPicPr/>
          <p:nvPr/>
        </p:nvPicPr>
        <p:blipFill>
          <a:blip r:embed="rId1"/>
          <a:stretch/>
        </p:blipFill>
        <p:spPr>
          <a:xfrm>
            <a:off x="228600" y="380880"/>
            <a:ext cx="6477120" cy="609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600"/>
            <a:ext cx="7696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0000"/>
                </a:solidFill>
                <a:latin typeface="Arial"/>
              </a:rPr>
              <a:t>Данные анализа доказывают превалирующее значение маркетинговых коммуникаций в управлении маркетингом в частности и в ведении предпринимательской деятельности в целом — в современных условиях компания может производить абсолютно не нужный и, возможно, даже вредный (сладкая газированная вода) для потребителя товар, но при правильно организованной коммуникативной политике не только не терпеть убытки, но получать ощутимую прибыль, величина которой и является главным критерием эффективности ведения предпринимательской деятельност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type="subTitle"/>
          </p:nvPr>
        </p:nvSpPr>
        <p:spPr>
          <a:xfrm>
            <a:off x="1371600" y="3276360"/>
            <a:ext cx="6400800" cy="23619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рно и обратное — компания может производить высококачественный или даже уникальный продукт, но если информация, которую она при этом коммуницирует, не доходит до потребителя или не воспринимается им, такой продукт в условиях жесткой информационной конкуренции обречен на коммерческую неудач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Функциональная классификация российского рекламного рынка</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6" name="" descr=""/>
          <p:cNvPicPr/>
          <p:nvPr/>
        </p:nvPicPr>
        <p:blipFill>
          <a:blip r:embed="rId1"/>
          <a:stretch/>
        </p:blipFill>
        <p:spPr>
          <a:xfrm>
            <a:off x="380880" y="1143000"/>
            <a:ext cx="830592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2-07T18:44:2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