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921-6BD2-4C22-B7A1-24EE9D90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A7C-8023-447E-B9AB-AAECD71D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896-7DA6-48BC-9C19-3C95C060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2C3-FFD0-488E-AC37-45565D13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599-9007-465F-9101-AC97E829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5B1-4E0E-4597-B6CE-1C5DF116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468-832C-40B9-A72A-CBC04B9E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8AA-8BB5-41E6-B8B1-BFC12E8C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CB1-8494-43D6-966E-5C454CB1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45B-7067-4C65-96B9-5B12E4C7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8EB-CF74-48B9-9E70-3C185CF1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F12-00A8-45BF-A743-701BA1CA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22FE-3953-4CAE-96C6-7E01B26FC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907920"/>
            <a:ext cx="777708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рфолог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755640" y="3716280"/>
            <a:ext cx="67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рфография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908000" y="4653000"/>
            <a:ext cx="525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торение изученного в 5,6 кла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2357280" y="6000840"/>
            <a:ext cx="5000760" cy="714240"/>
          </a:xfrm>
          <a:prstGeom prst="rect">
            <a:avLst/>
          </a:prstGeom>
          <a:solidFill>
            <a:srgbClr val="e6b9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якова О.Е., учитель русского языка и литературы МОУ ГСОШ филиал Василёво Калязинского района Тве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850160" cy="94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ИСЛО(СЛАДКИЙ)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СКАЖИТЕ, ОТ КАКИХ СЛОВ ОБРАЗОВАНО ДАННОЕ ПРИЛАГАТЕЛЬНО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КАКОЙ СОЮЗ МОЖНО ВСТАВИТЬ МЕЖДУ ЭТИМИ СЛОВАМ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ЛОЖНЫЕ ПРИЛАГАТЕЛЬНЫ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БРАЗОВАННЫЕ ОТ СЛОЖЕНИЯ РАВНОПРАВНЫХ СЛОВ, МЕЖДУ КОТОРЫМИ МОЖНО ВСТАВИТЬ СОЮЗ </a:t>
            </a:r>
            <a:r>
              <a:rPr b="1" lang="ru-RU" sz="2800" spc="-1" strike="noStrike">
                <a:solidFill>
                  <a:srgbClr val="c0504d"/>
                </a:solidFill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, ПИШУТСЯ ЧЕРЕЗ ДЕФИ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КИСЛО-СЛАД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415280" cy="94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АВО(БЕРЕЖНЫЙ)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СКАЖИТЕ, ОТ КАКИХ СЛОВ ОБРАЗОВАНО ИМЯ ПРИЛАГАТЕЛЬН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КАК ПИШУТСЯ ЭТИ ПРИЛАГАТЕЛЬНЫ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Сложные прилагательные, образованные от подчинительных словосочетаний, пишутся слит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ПРАВОБЕРЕЖ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ква Ь на конце сл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после шипящи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268280"/>
          <a:ext cx="8902800" cy="5327640"/>
        </p:xfrm>
        <a:graphic>
          <a:graphicData uri="http://schemas.openxmlformats.org/drawingml/2006/table">
            <a:tbl>
              <a:tblPr/>
              <a:tblGrid>
                <a:gridCol w="1599840"/>
                <a:gridCol w="1428840"/>
                <a:gridCol w="1352520"/>
                <a:gridCol w="976680"/>
                <a:gridCol w="1726920"/>
                <a:gridCol w="1645560"/>
                <a:gridCol w="173520"/>
              </a:tblGrid>
              <a:tr h="789120"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сть   реч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684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аткие прилаг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68760" rIns="687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.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л., ед.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ве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1120">
                <a:tc>
                  <a:txBody>
                    <a:bodyPr lIns="68760" rIns="687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ранда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ра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504d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ря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ху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ю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ере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504d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тронеш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рвё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504d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ч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504d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2" descr="D:\Мои документы\Мои рисунки\КАРТИНКИ школьные и не только\Цифры\78.png"/>
          <p:cNvPicPr/>
          <p:nvPr/>
        </p:nvPicPr>
        <p:blipFill>
          <a:blip r:embed="rId1"/>
          <a:stretch/>
        </p:blipFill>
        <p:spPr>
          <a:xfrm>
            <a:off x="1357200" y="142920"/>
            <a:ext cx="636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суждаем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Галина Павловна\Рабочий стол\img056.jpg"/>
          <p:cNvPicPr/>
          <p:nvPr/>
        </p:nvPicPr>
        <p:blipFill>
          <a:blip r:embed="rId1"/>
          <a:stretch/>
        </p:blipFill>
        <p:spPr>
          <a:xfrm>
            <a:off x="-60480" y="1243080"/>
            <a:ext cx="9191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ч…, видиш…, скрипуч…, еш…, луч…, луж…, кирпич…, задач…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ткнёш…, пляж…, карандаш…, стереч…, береч…, отреж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39640" y="3645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ч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видиш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крипуч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еш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луч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луж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ирпич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задач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воткнёш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пляж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арандаш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_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тереч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береч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треж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692360" y="5734080"/>
            <a:ext cx="59752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вери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250920" y="1700280"/>
            <a:ext cx="56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амостоятель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-250560" y="2924280"/>
            <a:ext cx="47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лужеб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-309240" y="4292640"/>
            <a:ext cx="551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Междомет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684360" y="260280"/>
            <a:ext cx="74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асти ре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5940360" y="1484280"/>
            <a:ext cx="792360" cy="1008000"/>
          </a:xfrm>
          <a:custGeom>
            <a:avLst/>
            <a:gdLst>
              <a:gd name="textAreaLeft" fmla="*/ 106200 w 792360"/>
              <a:gd name="textAreaRight" fmla="*/ 686160 w 79236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6786720" y="1484280"/>
            <a:ext cx="1025280" cy="2373480"/>
          </a:xfrm>
          <a:custGeom>
            <a:avLst/>
            <a:gdLst>
              <a:gd name="textAreaLeft" fmla="*/ 137160 w 1025280"/>
              <a:gd name="textAreaRight" fmla="*/ 888120 w 1025280"/>
              <a:gd name="textAreaTop" fmla="*/ 397440 h 2373480"/>
              <a:gd name="textAreaBottom" fmla="*/ 1564920 h 237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39" stAng="-5400000" swAng="5400000"/>
                <a:lnTo>
                  <a:pt x="21600" y="10622"/>
                </a:lnTo>
                <a:arcTo wR="21600" hR="7239" stAng="0" swAng="2607984"/>
                <a:lnTo>
                  <a:pt x="7200" y="21186"/>
                </a:lnTo>
                <a:lnTo>
                  <a:pt x="0" y="16169"/>
                </a:lnTo>
                <a:lnTo>
                  <a:pt x="7200" y="10323"/>
                </a:lnTo>
                <a:lnTo>
                  <a:pt x="7200" y="14063"/>
                </a:lnTo>
                <a:arcTo wR="21600" hR="7239" stAng="2607984" swAng="-2331704"/>
                <a:lnTo>
                  <a:pt x="21002" y="8930"/>
                </a:lnTo>
                <a:arcTo wR="21600" hR="7239" stAng="-276280" swAng="-5123720"/>
                <a:close/>
              </a:path>
              <a:path fill="darkenLess" w="21600" h="21600">
                <a:moveTo>
                  <a:pt x="0" y="0"/>
                </a:moveTo>
                <a:arcTo wR="21600" hR="7239" stAng="-5400000" swAng="5400000"/>
                <a:lnTo>
                  <a:pt x="21600" y="10622"/>
                </a:lnTo>
                <a:arcTo wR="21600" hR="7239" stAng="0" swAng="-276280"/>
                <a:lnTo>
                  <a:pt x="21002" y="8930"/>
                </a:lnTo>
                <a:arcTo wR="21600" hR="7239" stAng="-276280" swAng="-5123720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715160" y="1357200"/>
            <a:ext cx="1104840" cy="3657600"/>
          </a:xfrm>
          <a:custGeom>
            <a:avLst/>
            <a:gdLst>
              <a:gd name="textAreaLeft" fmla="*/ 147960 w 1104840"/>
              <a:gd name="textAreaRight" fmla="*/ 956880 w 1104840"/>
              <a:gd name="textAreaTop" fmla="*/ 583560 h 3657600"/>
              <a:gd name="textAreaBottom" fmla="*/ 210060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894" stAng="-5400000" swAng="5400000"/>
                <a:lnTo>
                  <a:pt x="21600" y="8957"/>
                </a:lnTo>
                <a:arcTo wR="21600" hR="6894" stAng="0" swAng="2524429"/>
                <a:lnTo>
                  <a:pt x="7200" y="21206"/>
                </a:lnTo>
                <a:lnTo>
                  <a:pt x="0" y="14820"/>
                </a:lnTo>
                <a:lnTo>
                  <a:pt x="7200" y="7645"/>
                </a:lnTo>
                <a:lnTo>
                  <a:pt x="7200" y="13394"/>
                </a:lnTo>
                <a:arcTo wR="21600" hR="6894" stAng="2524429" swAng="-2358521"/>
                <a:lnTo>
                  <a:pt x="21357" y="7926"/>
                </a:lnTo>
                <a:arcTo wR="21600" hR="6894" stAng="-165908" swAng="-5234092"/>
                <a:close/>
              </a:path>
              <a:path fill="darkenLess" w="21600" h="21600">
                <a:moveTo>
                  <a:pt x="0" y="0"/>
                </a:moveTo>
                <a:arcTo wR="21600" hR="6894" stAng="-5400000" swAng="5400000"/>
                <a:lnTo>
                  <a:pt x="21600" y="8957"/>
                </a:lnTo>
                <a:arcTo wR="21600" hR="6894" stAng="0" swAng="-165908"/>
                <a:lnTo>
                  <a:pt x="21357" y="7926"/>
                </a:lnTo>
                <a:arcTo wR="21600" hR="6894" stAng="-165908" swAng="-5234092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475920"/>
            <a:ext cx="8215200" cy="5880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современном русском языке различаются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самостоятельные части речи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: имя существительное, имя прилагательное, имя числительное, местоимение, глагол, наречие, категория состоя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служебные части речи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(частицы речи): предлоги, союзы, частицы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междометия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(и звукоподражательные слов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хема 3" descr=""/>
          <p:cNvPicPr/>
          <p:nvPr/>
        </p:nvPicPr>
        <p:blipFill>
          <a:blip r:embed="rId1"/>
          <a:stretch/>
        </p:blipFill>
        <p:spPr>
          <a:xfrm>
            <a:off x="12600" y="55440"/>
            <a:ext cx="9112320" cy="671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-144720" y="0"/>
            <a:ext cx="323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име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85840" y="71424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Самостоятельные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части реч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уществительное(стол, девочк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речие(холодно, быстро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илагательное(голубой, красочный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лагол(дружить, делать)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ичастие( бегущий, написанны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еепричастие(придумав, игра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тегория состояния( было весело, стало тепло), числительное( два, шестнадцать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естоимение(я, ем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85840" y="6143760"/>
            <a:ext cx="4000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Междомети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 ужас!  Ох! 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14200" y="507204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Служебные части реч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редлоги(к, за), союзы( и, когда), частицы(разве, 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1440720" y="285840"/>
            <a:ext cx="70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айдем в предложен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-399600" y="1285920"/>
            <a:ext cx="631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амостоятельные части реч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лужебные част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0" y="234936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 утру, когда потёмки реже, стог высится как сеновал, в котором месяц мимоезжий, зарывшись, переноче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4"/>
          <p:cNvSpPr/>
          <p:nvPr/>
        </p:nvSpPr>
        <p:spPr>
          <a:xfrm>
            <a:off x="7596360" y="2492280"/>
            <a:ext cx="285480" cy="21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5"/>
          <p:cNvSpPr/>
          <p:nvPr/>
        </p:nvSpPr>
        <p:spPr>
          <a:xfrm>
            <a:off x="1187280" y="2492280"/>
            <a:ext cx="7858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611280" y="4724280"/>
            <a:ext cx="496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х! Как красив город Калязин летними веч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37800" y="4143240"/>
            <a:ext cx="31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. Междоме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8"/>
          <p:cNvSpPr/>
          <p:nvPr/>
        </p:nvSpPr>
        <p:spPr>
          <a:xfrm>
            <a:off x="684360" y="4869000"/>
            <a:ext cx="500040" cy="28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0"/>
          <p:cNvSpPr/>
          <p:nvPr/>
        </p:nvSpPr>
        <p:spPr>
          <a:xfrm>
            <a:off x="0" y="2421000"/>
            <a:ext cx="395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1"/>
          <p:cNvSpPr/>
          <p:nvPr/>
        </p:nvSpPr>
        <p:spPr>
          <a:xfrm>
            <a:off x="6012000" y="2492280"/>
            <a:ext cx="431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2"/>
          <p:cNvSpPr/>
          <p:nvPr/>
        </p:nvSpPr>
        <p:spPr>
          <a:xfrm>
            <a:off x="0" y="2924280"/>
            <a:ext cx="1476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D:\Мои документы\Мой фотоальбом\Калязин\Колокольня 2.jpg"/>
          <p:cNvPicPr/>
          <p:nvPr/>
        </p:nvPicPr>
        <p:blipFill>
          <a:blip r:embed="rId1"/>
          <a:stretch/>
        </p:blipFill>
        <p:spPr>
          <a:xfrm>
            <a:off x="5143680" y="3857760"/>
            <a:ext cx="3714480" cy="2786040"/>
          </a:xfrm>
          <a:prstGeom prst="rect">
            <a:avLst/>
          </a:prstGeom>
          <a:ln w="0">
            <a:noFill/>
          </a:ln>
        </p:spPr>
      </p:pic>
      <p:sp>
        <p:nvSpPr>
          <p:cNvPr id="70" name="Oval 11"/>
          <p:cNvSpPr/>
          <p:nvPr/>
        </p:nvSpPr>
        <p:spPr>
          <a:xfrm>
            <a:off x="4143240" y="1857240"/>
            <a:ext cx="432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706320" y="2743200"/>
            <a:ext cx="7718400" cy="21938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2"/>
          <a:stretch/>
        </p:blipFill>
        <p:spPr>
          <a:xfrm>
            <a:off x="49320" y="1066680"/>
            <a:ext cx="9283680" cy="114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Мои рисунки\КАРТИНКИ школьные и не только\Цифры\77.png"/>
          <p:cNvPicPr/>
          <p:nvPr/>
        </p:nvPicPr>
        <p:blipFill>
          <a:blip r:embed="rId3"/>
          <a:stretch/>
        </p:blipFill>
        <p:spPr>
          <a:xfrm>
            <a:off x="357120" y="2428920"/>
            <a:ext cx="785880" cy="145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0320" y="429840"/>
            <a:ext cx="785016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РКО(ЗЕЛЁНЫЙ) –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ЧТО ОБОЗНАЧАЕТ ДАННОЕ ИМЯ ПРИЛАГАТЕЛЬН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Сложные прилагательные, обозначающие оттенки цветов, пишутся через дефи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ЯРКО-ЗЕЛЁ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ЮГО(ВОСТОЧНЫЙ)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СКАЖИТЕ, ОТ КАКОГО СУЩЕСТВИТЕЛЬНОГО ОНО ОБРАЗОВА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Сложные прилагательные, образованные от сложных существительных, которые пишутся через дефис, тоже пишутся через дефис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ЮГО-ВОСТОЧ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36:54Z</dcterms:created>
  <dc:creator>Дзера</dc:creator>
  <dc:description/>
  <dc:language>en-US</dc:language>
  <cp:lastModifiedBy>Admin</cp:lastModifiedBy>
  <dcterms:modified xsi:type="dcterms:W3CDTF">2012-12-06T10:36:38Z</dcterms:modified>
  <cp:revision>20</cp:revision>
  <dc:subject/>
  <dc:title>Слайд 1</dc:title>
</cp:coreProperties>
</file>