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45E3-76A2-46FF-A927-C570168A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C182-709A-4B2F-900B-4170CF2C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2B05-2181-4069-A27B-6F8F871E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3DE1-C780-4FE7-A259-92C92F47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3C0C-FA4B-4BE4-8A4B-8F745939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3E1C-C953-484F-894D-CED4A1B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3F1F-949D-4032-97BE-F0303F76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4ADF-B399-4A89-8E5B-78722AC6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3AFD-20E5-4448-A3CB-953DCE0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2F06-11A2-4545-8786-83AA9A9B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9A82-5D61-40EB-AB92-671551A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F58F-D2E5-4310-A6B4-81E9E1B1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D617-D06C-425D-8A0A-69D32CDC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D6D5-FA26-466C-8D66-8957F28E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B23D-76AD-4B87-855F-E63A29CE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FAF-9075-45BB-96DB-8E979E14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203F-929A-4D9A-810B-7E506A8F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B800-4097-4A91-96DC-8BB7459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BAF6-039F-4228-91B6-115230F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A79A-04B8-4747-AD58-FBE91C6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99A0-E4E9-4E5F-8351-B9FB9A49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536C-48A0-4A63-9AF5-156EFA5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DD23-526E-4CFE-BA08-DEB861B2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CA43-B78B-49ED-9E4C-C8C942A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CB7-CAEC-4A71-AC63-54BA92A26E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CE3F-C7DF-4169-9420-54A8750934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f6f8"/>
                </a:solidFill>
                <a:latin typeface="Tahoma"/>
              </a:rPr>
              <a:t>Внимание! Внимание!</a:t>
            </a:r>
            <a:br>
              <a:rPr sz="4400"/>
            </a:br>
            <a:r>
              <a:rPr b="0" lang="en-US" sz="4400" spc="-1" strike="noStrike">
                <a:solidFill>
                  <a:srgbClr val="d8f6f8"/>
                </a:solidFill>
                <a:latin typeface="Tahoma"/>
              </a:rPr>
              <a:t> Внимание!</a:t>
            </a:r>
            <a:endParaRPr b="0" lang="en-US" sz="44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важаемые родител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6 декабря в 12.30  в актовом зале школы состоится Новогодний карнавал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ем очень рады вам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316224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05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8T13:38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