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C36-C381-4C71-A206-91782B9F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0C0-BDFA-49CD-8F04-A37D9634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B43-DCC8-47BC-B7E9-6462AA62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04D-CA4A-4B45-A1A7-7EE55586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9F-6B5A-488F-A465-52AA0E80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374-A480-4F98-8563-2640FA2F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519-ECE6-4407-B366-A0288328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1F0-219F-4C74-973B-1B8DD400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90D-B48B-4977-9A13-223E07C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320-AC2A-4C0B-AB93-C7E3E8B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491-0058-4490-8374-7D1212B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157-BD39-4DEA-952B-CE4FD78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65A5-A122-4EC6-BA0B-4CF011F6F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8985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c902"/>
                </a:solidFill>
                <a:latin typeface="Verdana"/>
                <a:ea typeface="Arial"/>
              </a:rPr>
              <a:t>Компетенция менеджера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c902"/>
                </a:solidFill>
                <a:latin typeface="Verdana"/>
                <a:ea typeface="Arial"/>
              </a:rPr>
              <a:t> </a:t>
            </a:r>
            <a:r>
              <a:rPr b="1" lang="ru-RU" sz="4000" spc="-1" strike="noStrike">
                <a:solidFill>
                  <a:srgbClr val="5ec902"/>
                </a:solidFill>
                <a:latin typeface="Verdana"/>
                <a:ea typeface="Arial"/>
              </a:rPr>
              <a:t>сфере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5680" y="836640"/>
            <a:ext cx="55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ec902"/>
                </a:solidFill>
                <a:uFillTx/>
                <a:latin typeface="Verdana"/>
                <a:ea typeface="Arial"/>
              </a:rPr>
              <a:t>Нравственные нор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0500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ые ориентации личности в образов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ах происходит через положительный опыт, в том числе и историче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акже общение, в первую очередь – </a:t>
            </a:r>
            <a:r>
              <a:rPr b="1" lang="ru-RU" sz="2000" spc="-1" strike="noStrike" u="sng">
                <a:solidFill>
                  <a:srgbClr val="ae1517"/>
                </a:solidFill>
                <a:uFillTx/>
                <a:latin typeface="Arial"/>
                <a:ea typeface="Arial"/>
              </a:rPr>
              <a:t>с преподавателе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этому эффектив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сть образования существенно зависит от личности препода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держ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ую активность студентов можно, предоставив им, например,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 и направлений самостоятельной работы, осуществление организации м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приятий, при котором преподаватель выступает как консультант-помощ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76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92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708120"/>
            <a:ext cx="75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963720"/>
            <a:ext cx="864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00"/>
                </a:solidFill>
                <a:latin typeface="Arial"/>
                <a:ea typeface="Arial"/>
              </a:rPr>
              <a:t>Формирование компетенций происходит в процессе решения практ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  <a:ea typeface="Arial"/>
              </a:rPr>
              <a:t>и исследовательских зада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  <a:ea typeface="Arial"/>
              </a:rPr>
              <a:t>направленных на закрепление приобретенного опыта и получения нов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Для приобретения ключевых компетенций необходимо предоставить студенту широкий выбор форм и методов самостоятельной работы. Такой подход повышает заинтересованность, позволяет приобрести навыки практической организаторской деятельности, а также широкий спектр знаний различной направленности посредством накопления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189000"/>
            <a:ext cx="4613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ючевые компетен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197000"/>
            <a:ext cx="712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.активность в выборе деятельности, самореал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     умение самостоятельно планировать сво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     понимание необходимости личностного роста для успешного самоопределения в будущ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     умение работать в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·     способность к самообразо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Менедж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рофессионалы, управляющие другими профессион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А чтобы профессионально управлять людьми, нужно глубоко понима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мышление и поведение, уметь выявлять способности и потенциальные ресурс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Поэтому в учебной программе подготовки управленцев должны присут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разные дисциплины, разные их циклы, не только узкоспециализированные, н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общеобразовательные, что будет способствовать формированию у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опыта самостоятельного решения познавательных, коммуникативных, орган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зационных, мировоззренческих, нравствен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компетентност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c902"/>
                </a:solidFill>
                <a:latin typeface="Arial"/>
                <a:ea typeface="Arial"/>
              </a:rPr>
              <a:t>совокупность общих принципов определения целей образования, отбора содержания образования, а также организации образовательного процесса и оценки результ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c902"/>
                </a:solidFill>
                <a:latin typeface="Arial"/>
                <a:ea typeface="Arial"/>
              </a:rPr>
              <a:t>В настоящее время многие Российские Высшие учебные заведения в своей воспитательной работе со студентами делают упор на компетентностный подход в образовании.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341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517"/>
                </a:solidFill>
                <a:latin typeface="Arial"/>
                <a:ea typeface="Arial"/>
              </a:rPr>
              <a:t>Профессионал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это не только знания и навы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 и тип личности, формирующийся, в том, чис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се получ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26028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Для специалиста в Тверской области наиболее важны следующие 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ответств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умение работать в команде, умение ориентироваться на профессионально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личностное развитие, коммуникабельность, умение планировать личн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и управлять стрессом, умение грамотно использовать письменную и уст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речь, способность самостоятельно мыслить и работать, дисциплинирова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способность к самоанализу и самоконтролю, способность к самообучению, ц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леустремленность, способность к интенсивной работе, инициативность, ум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682c"/>
                </a:solidFill>
                <a:latin typeface="Arial"/>
                <a:ea typeface="Arial"/>
              </a:rPr>
              <a:t>ориентироваться в меняющихся условиях, мобильность, адап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82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682c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60280"/>
            <a:ext cx="8642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Осуществляемый сегодня в России переход к уровневой образо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системе при всех ее преимуществах привносит опасность снижения воспит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тельной роли образования, что, в частности, проявляется в попытках пере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всего управленческого образования в формат бизнес-школ. Но то, что хорош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для второго высшего образования: магистратуры, профессиональной перепо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готовки и иных его послевузовских форм, может быть опасно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  <a:ea typeface="Arial"/>
              </a:rPr>
              <a:t>первого, в ходе которого формируется личность молод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Компетенци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 — это совокупность качеств личности (знаний, умений, навыков, способов деятельности), являющихся взаимосвязанными и задаваемых по отношению к определенным процессам и предметам, а также необходимых для продуктивной работы по отношению к ним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549360"/>
            <a:ext cx="8353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Управление 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разованием – это фактор подготовки менеджера, который не должен видеть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хорошо организованный менеджмент существует только в теориях, а в орган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зационной среде образования нет примеров для подражания и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позитивных привычек делов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68702"/>
                </a:solidFill>
                <a:latin typeface="Arial"/>
                <a:ea typeface="Arial"/>
              </a:rPr>
              <a:t>Таким образов, путем правильного построения образовательной программы, сочетания различных форм обучения, формирования благоприятной организационно-культурной среды осуществления учебного и внеучебного процесса можно достичь положительного эффекта в формировании необходимых специалисту-управленцу компетенций и подготовке высокопрофессиональных специалистов, востребованных на рынке тру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76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141300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28480"/>
            <a:ext cx="849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ует привлекать сту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нтов к выработке внутривузовских норм поведения, соблюдению и развитию традиций вуза, усилению его взаимодействия с социокультурной средой, гра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ским об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подобная работа создает оптимальные условия для развития ключе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компетенций и  формирования лидерских качеств. Лидерство 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способствует формированию активной жизненной пози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Работодатели заинтересованы именно в такой позиции, пред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собой гарантию неординарных идей, новых подходов, смелых реш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263d4"/>
                </a:solidFill>
                <a:uFillTx/>
                <a:latin typeface="Arial"/>
                <a:ea typeface="Arial"/>
              </a:rPr>
              <a:t>что способствует значительному развитию коллектива в частности и организации в целом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7T16:12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