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59EC-5615-44CE-B6BB-ADD9913E0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D069-BF07-4042-943C-A04020F0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8C01-CA5E-4EAC-9582-FD3D46FE9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223E-A65E-4227-909B-D0D0FD3CB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3CAD-CB38-4C6F-AC30-BA2FB353D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3010-0B34-49A7-87E1-72DE999F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AEFF-D826-4329-B250-D28FECBB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1503-59EB-4E3F-8129-F211B0DC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9E80-88F4-4665-BEE6-4D68B059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17FF-CE6A-48D2-9552-CA516678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5983-5491-453D-98EA-3E2CAB7B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C3FE-A03D-4199-B026-CBE81811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E6B1-B3B4-4C94-B9F2-4075BB31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08DF-5A3E-4988-9EA3-844ECAE1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6765-FF8F-421F-B951-8D1A7CC0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8324-C223-4F0B-B581-4C8034373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1F7D-931B-43B7-9AAB-49463453B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BB27-2C0D-4C34-ABEB-B813E1AF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1A11-E04B-400F-B610-1CBA844D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DCCE-8D4B-4D28-9566-E606E996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4573-EDA8-40C5-9FD4-C1013623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BB72-6859-4409-9067-BB1C9C7E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CE97-1D9B-4DD6-B062-9A29B20A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66CD-9EF6-469E-AA79-4A4A1C90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430E-510E-473C-B054-1D6286D402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CDC5-D1FB-4BA0-85A7-470BDE6199D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1979640" y="1197000"/>
            <a:ext cx="540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99"/>
                </a:solidFill>
                <a:latin typeface="Tahoma"/>
              </a:rPr>
              <a:t>Алгоритмы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99"/>
                </a:solidFill>
                <a:latin typeface="Tahoma"/>
              </a:rPr>
              <a:t>и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99"/>
                </a:solidFill>
                <a:latin typeface="Tahoma"/>
              </a:rPr>
              <a:t>программир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684360" y="5229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99"/>
                </a:solidFill>
                <a:latin typeface="Tahoma"/>
              </a:rPr>
              <a:t>9 клас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еременные и констан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мя переменной или константы начинается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 буквы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состоит из любого набора букв и циф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меют тип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стые тип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рядковые тип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щественные тип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уктурированные тип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сси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пис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ож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о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рядковые тип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целы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логический, символьный, перечисляемый и тип-диапазон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teg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2768..32767 занимает 16 би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int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2147483648..2147483647 занимает 32 би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Заголовок 2"/>
          <p:cNvSpPr/>
          <p:nvPr/>
        </p:nvSpPr>
        <p:spPr>
          <a:xfrm>
            <a:off x="611280" y="538200"/>
            <a:ext cx="8075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Calibri"/>
              </a:rPr>
              <a:t>Простые типы данны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39640" y="1346040"/>
          <a:ext cx="7675560" cy="4687920"/>
        </p:xfrm>
        <a:graphic>
          <a:graphicData uri="http://schemas.openxmlformats.org/drawingml/2006/table">
            <a:tbl>
              <a:tblPr/>
              <a:tblGrid>
                <a:gridCol w="3903840"/>
                <a:gridCol w="3771720"/>
              </a:tblGrid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Название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Обозна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Целочислен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FangSong"/>
                          <a:ea typeface="Arial"/>
                        </a:rPr>
                        <a:t>intege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еществен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FangSong"/>
                          <a:ea typeface="Arial"/>
                        </a:rPr>
                        <a:t>real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имво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FangSong"/>
                          <a:ea typeface="Arial"/>
                        </a:rPr>
                        <a:t>cha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троков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FangSong"/>
                          <a:ea typeface="Arial"/>
                        </a:rPr>
                        <a:t>string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Логичес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FangSong"/>
                          <a:ea typeface="Arial"/>
                        </a:rPr>
                        <a:t>boolea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ещественные тип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395280" y="1628640"/>
            <a:ext cx="8291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сла с плавающей точк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" name="Group 115"/>
          <p:cNvGrpSpPr/>
          <p:nvPr/>
        </p:nvGrpSpPr>
        <p:grpSpPr>
          <a:xfrm>
            <a:off x="468360" y="4241880"/>
            <a:ext cx="8424720" cy="703080"/>
            <a:chOff x="468360" y="4241880"/>
            <a:chExt cx="8424720" cy="703080"/>
          </a:xfrm>
        </p:grpSpPr>
        <p:sp>
          <p:nvSpPr>
            <p:cNvPr id="284" name="Rectangle 37"/>
            <p:cNvSpPr/>
            <p:nvPr/>
          </p:nvSpPr>
          <p:spPr>
            <a:xfrm>
              <a:off x="7596360" y="4241880"/>
              <a:ext cx="12967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8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6"/>
            <p:cNvSpPr/>
            <p:nvPr/>
          </p:nvSpPr>
          <p:spPr>
            <a:xfrm>
              <a:off x="5867280" y="4241880"/>
              <a:ext cx="17290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15-16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5"/>
            <p:cNvSpPr/>
            <p:nvPr/>
          </p:nvSpPr>
          <p:spPr>
            <a:xfrm>
              <a:off x="2573280" y="4241880"/>
              <a:ext cx="32940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5.0e-324..1.7e308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4"/>
            <p:cNvSpPr/>
            <p:nvPr/>
          </p:nvSpPr>
          <p:spPr>
            <a:xfrm>
              <a:off x="468360" y="4241880"/>
              <a:ext cx="21049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Doub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39"/>
            <p:cNvSpPr/>
            <p:nvPr/>
          </p:nvSpPr>
          <p:spPr>
            <a:xfrm>
              <a:off x="468360" y="4944960"/>
              <a:ext cx="8424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Line 40"/>
          <p:cNvSpPr/>
          <p:nvPr/>
        </p:nvSpPr>
        <p:spPr>
          <a:xfrm>
            <a:off x="468360" y="2133720"/>
            <a:ext cx="0" cy="2811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41"/>
          <p:cNvSpPr/>
          <p:nvPr/>
        </p:nvSpPr>
        <p:spPr>
          <a:xfrm>
            <a:off x="8893080" y="2133720"/>
            <a:ext cx="0" cy="2811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Group 112"/>
          <p:cNvGrpSpPr/>
          <p:nvPr/>
        </p:nvGrpSpPr>
        <p:grpSpPr>
          <a:xfrm>
            <a:off x="468360" y="2133720"/>
            <a:ext cx="8424720" cy="703080"/>
            <a:chOff x="468360" y="2133720"/>
            <a:chExt cx="8424720" cy="703080"/>
          </a:xfrm>
        </p:grpSpPr>
        <p:sp>
          <p:nvSpPr>
            <p:cNvPr id="292" name="Rectangle 25"/>
            <p:cNvSpPr/>
            <p:nvPr/>
          </p:nvSpPr>
          <p:spPr>
            <a:xfrm>
              <a:off x="7596360" y="2133720"/>
              <a:ext cx="12967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Бай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Rectangle 24"/>
            <p:cNvSpPr/>
            <p:nvPr/>
          </p:nvSpPr>
          <p:spPr>
            <a:xfrm>
              <a:off x="5867280" y="2133720"/>
              <a:ext cx="17290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Точност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Rectangle 23"/>
            <p:cNvSpPr/>
            <p:nvPr/>
          </p:nvSpPr>
          <p:spPr>
            <a:xfrm>
              <a:off x="2573280" y="2133720"/>
              <a:ext cx="32940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Диапазон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r>
                <a:rPr b="0" lang="ru-RU" sz="2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Паскал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Rectangle 22"/>
            <p:cNvSpPr/>
            <p:nvPr/>
          </p:nvSpPr>
          <p:spPr>
            <a:xfrm>
              <a:off x="468360" y="2133720"/>
              <a:ext cx="21049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Тип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38"/>
            <p:cNvSpPr/>
            <p:nvPr/>
          </p:nvSpPr>
          <p:spPr>
            <a:xfrm>
              <a:off x="468360" y="2133720"/>
              <a:ext cx="8424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44"/>
            <p:cNvSpPr/>
            <p:nvPr/>
          </p:nvSpPr>
          <p:spPr>
            <a:xfrm>
              <a:off x="468360" y="2836800"/>
              <a:ext cx="8424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Line 46"/>
          <p:cNvSpPr/>
          <p:nvPr/>
        </p:nvSpPr>
        <p:spPr>
          <a:xfrm>
            <a:off x="2573280" y="2133720"/>
            <a:ext cx="0" cy="2811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Line 49"/>
          <p:cNvSpPr/>
          <p:nvPr/>
        </p:nvSpPr>
        <p:spPr>
          <a:xfrm>
            <a:off x="5867280" y="2133720"/>
            <a:ext cx="0" cy="2811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Line 52"/>
          <p:cNvSpPr/>
          <p:nvPr/>
        </p:nvSpPr>
        <p:spPr>
          <a:xfrm>
            <a:off x="7596360" y="2133720"/>
            <a:ext cx="0" cy="2811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Group 113"/>
          <p:cNvGrpSpPr/>
          <p:nvPr/>
        </p:nvGrpSpPr>
        <p:grpSpPr>
          <a:xfrm>
            <a:off x="468360" y="2836800"/>
            <a:ext cx="8424720" cy="703440"/>
            <a:chOff x="468360" y="2836800"/>
            <a:chExt cx="8424720" cy="703440"/>
          </a:xfrm>
        </p:grpSpPr>
        <p:sp>
          <p:nvSpPr>
            <p:cNvPr id="302" name="Rectangle 29"/>
            <p:cNvSpPr/>
            <p:nvPr/>
          </p:nvSpPr>
          <p:spPr>
            <a:xfrm>
              <a:off x="7596360" y="2836800"/>
              <a:ext cx="1296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6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Rectangle 28"/>
            <p:cNvSpPr/>
            <p:nvPr/>
          </p:nvSpPr>
          <p:spPr>
            <a:xfrm>
              <a:off x="5867280" y="2836800"/>
              <a:ext cx="172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11-1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Rectangle 27"/>
            <p:cNvSpPr/>
            <p:nvPr/>
          </p:nvSpPr>
          <p:spPr>
            <a:xfrm>
              <a:off x="2573280" y="2836800"/>
              <a:ext cx="329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2.9e-39..1.7e38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Rectangle 26"/>
            <p:cNvSpPr/>
            <p:nvPr/>
          </p:nvSpPr>
          <p:spPr>
            <a:xfrm>
              <a:off x="468360" y="2836800"/>
              <a:ext cx="210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 u="sng">
                  <a:solidFill>
                    <a:srgbClr val="ffffff"/>
                  </a:solidFill>
                  <a:uFillTx/>
                  <a:latin typeface="Arial"/>
                  <a:ea typeface="Times New Roman"/>
                </a:rPr>
                <a:t>Real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56"/>
            <p:cNvSpPr/>
            <p:nvPr/>
          </p:nvSpPr>
          <p:spPr>
            <a:xfrm>
              <a:off x="468360" y="3540240"/>
              <a:ext cx="8424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7" name="Group 114"/>
          <p:cNvGrpSpPr/>
          <p:nvPr/>
        </p:nvGrpSpPr>
        <p:grpSpPr>
          <a:xfrm>
            <a:off x="468360" y="3540240"/>
            <a:ext cx="8424720" cy="701640"/>
            <a:chOff x="468360" y="3540240"/>
            <a:chExt cx="8424720" cy="701640"/>
          </a:xfrm>
        </p:grpSpPr>
        <p:sp>
          <p:nvSpPr>
            <p:cNvPr id="308" name="Rectangle 33"/>
            <p:cNvSpPr/>
            <p:nvPr/>
          </p:nvSpPr>
          <p:spPr>
            <a:xfrm>
              <a:off x="7596360" y="3540240"/>
              <a:ext cx="12967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Rectangle 32"/>
            <p:cNvSpPr/>
            <p:nvPr/>
          </p:nvSpPr>
          <p:spPr>
            <a:xfrm>
              <a:off x="5867280" y="3540240"/>
              <a:ext cx="17290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7-8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Rectangle 31"/>
            <p:cNvSpPr/>
            <p:nvPr/>
          </p:nvSpPr>
          <p:spPr>
            <a:xfrm>
              <a:off x="2573280" y="3540240"/>
              <a:ext cx="32940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1.5e-45..3.4e38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30"/>
            <p:cNvSpPr/>
            <p:nvPr/>
          </p:nvSpPr>
          <p:spPr>
            <a:xfrm>
              <a:off x="468360" y="3540240"/>
              <a:ext cx="21049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Sing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74"/>
            <p:cNvSpPr/>
            <p:nvPr/>
          </p:nvSpPr>
          <p:spPr>
            <a:xfrm>
              <a:off x="468360" y="4241880"/>
              <a:ext cx="8424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3" name="Rectangle 116"/>
          <p:cNvSpPr/>
          <p:nvPr/>
        </p:nvSpPr>
        <p:spPr>
          <a:xfrm>
            <a:off x="324000" y="508644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.9*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39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0,0000000000000000000000000000000000000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.7*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38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7000000000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000000000000000000000000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Заголовок 2"/>
          <p:cNvSpPr/>
          <p:nvPr/>
        </p:nvSpPr>
        <p:spPr>
          <a:xfrm>
            <a:off x="611280" y="704880"/>
            <a:ext cx="8075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Calibri"/>
              </a:rPr>
              <a:t>Оператор присваив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468360" y="1463760"/>
            <a:ext cx="8424720" cy="14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сновное преобразование данных, выполняемое компьютером, - присваивание переменной нового значения, что означает изменение содержимого области памят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бщий вид оператор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Box 18"/>
          <p:cNvSpPr/>
          <p:nvPr/>
        </p:nvSpPr>
        <p:spPr>
          <a:xfrm>
            <a:off x="928800" y="3286080"/>
            <a:ext cx="521496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Команда присваиван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FangSong"/>
              </a:rPr>
              <a:t>&lt;имя переменной&gt;:=&lt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начение</a:t>
            </a:r>
            <a:r>
              <a:rPr b="1" lang="ru-RU" sz="2000" spc="-1" strike="noStrike">
                <a:solidFill>
                  <a:srgbClr val="ffffff"/>
                </a:solidFill>
                <a:latin typeface="FangSong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FangSong"/>
              </a:rPr>
              <a:t>Пример:    А</a:t>
            </a:r>
            <a:r>
              <a:rPr b="1" lang="ru-RU" sz="1800" spc="-1" strike="noStrike">
                <a:solidFill>
                  <a:srgbClr val="ffffff"/>
                </a:solidFill>
                <a:latin typeface="FangSong"/>
              </a:rPr>
              <a:t>:=1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FangSong"/>
              </a:rPr>
              <a:t>              </a:t>
            </a:r>
            <a:r>
              <a:rPr b="1" lang="ru-RU" sz="1800" spc="-1" strike="noStrike">
                <a:solidFill>
                  <a:srgbClr val="ffffff"/>
                </a:solidFill>
                <a:latin typeface="FangSong"/>
              </a:rPr>
              <a:t>в:=5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FangSong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FangSong"/>
              </a:rPr>
              <a:t>S</a:t>
            </a:r>
            <a:r>
              <a:rPr b="1" lang="ru-RU" sz="1800" spc="-1" strike="noStrike">
                <a:solidFill>
                  <a:srgbClr val="ffffff"/>
                </a:solidFill>
                <a:latin typeface="FangSong"/>
              </a:rPr>
              <a:t>:=</a:t>
            </a:r>
            <a:r>
              <a:rPr b="1" lang="en-US" sz="1800" spc="-1" strike="noStrike">
                <a:solidFill>
                  <a:srgbClr val="ffffff"/>
                </a:solidFill>
                <a:latin typeface="FangSong"/>
              </a:rPr>
              <a:t>A</a:t>
            </a:r>
            <a:r>
              <a:rPr b="1" lang="ru-RU" sz="1800" spc="-1" strike="noStrike">
                <a:solidFill>
                  <a:srgbClr val="ffffff"/>
                </a:solidFill>
                <a:latin typeface="FangSong"/>
              </a:rPr>
              <a:t>+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FangSong"/>
              </a:rPr>
              <a:t>              </a:t>
            </a:r>
            <a:r>
              <a:rPr b="1" lang="ru-RU" sz="1800" spc="-1" strike="noStrike">
                <a:solidFill>
                  <a:srgbClr val="ffffff"/>
                </a:solidFill>
                <a:latin typeface="FangSong"/>
              </a:rPr>
              <a:t>Р:=</a:t>
            </a:r>
            <a:r>
              <a:rPr b="1" lang="en-US" sz="1800" spc="-1" strike="noStrike">
                <a:solidFill>
                  <a:srgbClr val="ffffff"/>
                </a:solidFill>
                <a:latin typeface="FangSong"/>
              </a:rPr>
              <a:t>A</a:t>
            </a:r>
            <a:r>
              <a:rPr b="1" lang="ru-RU" sz="1800" spc="-1" strike="noStrike">
                <a:solidFill>
                  <a:srgbClr val="ffffff"/>
                </a:solidFill>
                <a:latin typeface="FangSong"/>
              </a:rPr>
              <a:t>*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AutoShape 15"/>
          <p:cNvSpPr/>
          <p:nvPr/>
        </p:nvSpPr>
        <p:spPr>
          <a:xfrm>
            <a:off x="3286080" y="4143240"/>
            <a:ext cx="4680000" cy="1152720"/>
          </a:xfrm>
          <a:prstGeom prst="roundRect">
            <a:avLst>
              <a:gd name="adj" fmla="val 16667"/>
            </a:avLst>
          </a:prstGeom>
          <a:solidFill>
            <a:srgbClr val="58bb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Оперативная памят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Заголовок 2"/>
          <p:cNvSpPr/>
          <p:nvPr/>
        </p:nvSpPr>
        <p:spPr>
          <a:xfrm>
            <a:off x="214200" y="488880"/>
            <a:ext cx="878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Calibri"/>
              </a:rPr>
              <a:t>Выполнение оператора присваив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AutoShape 7"/>
          <p:cNvSpPr/>
          <p:nvPr/>
        </p:nvSpPr>
        <p:spPr>
          <a:xfrm>
            <a:off x="3348000" y="1557360"/>
            <a:ext cx="4680000" cy="1079640"/>
          </a:xfrm>
          <a:prstGeom prst="roundRect">
            <a:avLst>
              <a:gd name="adj" fmla="val 16667"/>
            </a:avLst>
          </a:prstGeom>
          <a:solidFill>
            <a:srgbClr val="58bb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Процессор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4748040" y="2062080"/>
            <a:ext cx="1803600" cy="432000"/>
          </a:xfrm>
          <a:prstGeom prst="rect">
            <a:avLst/>
          </a:prstGeom>
          <a:solidFill>
            <a:srgbClr val="9febf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0 +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12"/>
          <p:cNvSpPr/>
          <p:nvPr/>
        </p:nvSpPr>
        <p:spPr>
          <a:xfrm>
            <a:off x="3740040" y="4294080"/>
            <a:ext cx="720720" cy="432000"/>
          </a:xfrm>
          <a:prstGeom prst="rect">
            <a:avLst/>
          </a:prstGeom>
          <a:solidFill>
            <a:srgbClr val="9febf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13"/>
          <p:cNvSpPr/>
          <p:nvPr/>
        </p:nvSpPr>
        <p:spPr>
          <a:xfrm>
            <a:off x="5251320" y="4294080"/>
            <a:ext cx="720720" cy="432000"/>
          </a:xfrm>
          <a:prstGeom prst="rect">
            <a:avLst/>
          </a:prstGeom>
          <a:solidFill>
            <a:srgbClr val="9febf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14"/>
          <p:cNvSpPr/>
          <p:nvPr/>
        </p:nvSpPr>
        <p:spPr>
          <a:xfrm>
            <a:off x="6692760" y="4294080"/>
            <a:ext cx="720720" cy="432000"/>
          </a:xfrm>
          <a:prstGeom prst="rect">
            <a:avLst/>
          </a:prstGeom>
          <a:solidFill>
            <a:srgbClr val="9febf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Oval 16"/>
          <p:cNvSpPr/>
          <p:nvPr/>
        </p:nvSpPr>
        <p:spPr>
          <a:xfrm>
            <a:off x="3379680" y="5662440"/>
            <a:ext cx="505080" cy="505080"/>
          </a:xfrm>
          <a:prstGeom prst="ellipse">
            <a:avLst/>
          </a:prstGeom>
          <a:solidFill>
            <a:srgbClr val="9febf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Oval 17"/>
          <p:cNvSpPr/>
          <p:nvPr/>
        </p:nvSpPr>
        <p:spPr>
          <a:xfrm>
            <a:off x="7701120" y="5734080"/>
            <a:ext cx="504720" cy="504720"/>
          </a:xfrm>
          <a:prstGeom prst="ellipse">
            <a:avLst/>
          </a:prstGeom>
          <a:solidFill>
            <a:srgbClr val="9febf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18"/>
          <p:cNvSpPr/>
          <p:nvPr/>
        </p:nvSpPr>
        <p:spPr>
          <a:xfrm flipV="1">
            <a:off x="3668760" y="4725720"/>
            <a:ext cx="431640" cy="93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19"/>
          <p:cNvSpPr/>
          <p:nvPr/>
        </p:nvSpPr>
        <p:spPr>
          <a:xfrm flipV="1">
            <a:off x="4532400" y="2493720"/>
            <a:ext cx="43164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Oval 9"/>
          <p:cNvSpPr/>
          <p:nvPr/>
        </p:nvSpPr>
        <p:spPr>
          <a:xfrm>
            <a:off x="4172040" y="3286080"/>
            <a:ext cx="504720" cy="504720"/>
          </a:xfrm>
          <a:prstGeom prst="ellipse">
            <a:avLst/>
          </a:prstGeom>
          <a:solidFill>
            <a:srgbClr val="9febf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Line 20"/>
          <p:cNvSpPr/>
          <p:nvPr/>
        </p:nvSpPr>
        <p:spPr>
          <a:xfrm>
            <a:off x="4765680" y="2565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Line 21"/>
          <p:cNvSpPr/>
          <p:nvPr/>
        </p:nvSpPr>
        <p:spPr>
          <a:xfrm>
            <a:off x="5611680" y="371808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Oval 10"/>
          <p:cNvSpPr/>
          <p:nvPr/>
        </p:nvSpPr>
        <p:spPr>
          <a:xfrm>
            <a:off x="5396040" y="3286080"/>
            <a:ext cx="504720" cy="504720"/>
          </a:xfrm>
          <a:prstGeom prst="ellipse">
            <a:avLst/>
          </a:prstGeom>
          <a:solidFill>
            <a:srgbClr val="9febf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Line 22"/>
          <p:cNvSpPr/>
          <p:nvPr/>
        </p:nvSpPr>
        <p:spPr>
          <a:xfrm flipH="1" flipV="1">
            <a:off x="7340400" y="4726080"/>
            <a:ext cx="431640" cy="107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Line 23"/>
          <p:cNvSpPr/>
          <p:nvPr/>
        </p:nvSpPr>
        <p:spPr>
          <a:xfrm flipH="1" flipV="1">
            <a:off x="6835320" y="3718080"/>
            <a:ext cx="28908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Line 24"/>
          <p:cNvSpPr/>
          <p:nvPr/>
        </p:nvSpPr>
        <p:spPr>
          <a:xfrm flipV="1">
            <a:off x="4100400" y="3718080"/>
            <a:ext cx="21600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Line 25"/>
          <p:cNvSpPr/>
          <p:nvPr/>
        </p:nvSpPr>
        <p:spPr>
          <a:xfrm>
            <a:off x="5611680" y="249408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Line 26"/>
          <p:cNvSpPr/>
          <p:nvPr/>
        </p:nvSpPr>
        <p:spPr>
          <a:xfrm flipH="1" flipV="1">
            <a:off x="6260760" y="2493720"/>
            <a:ext cx="35892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Oval 11"/>
          <p:cNvSpPr/>
          <p:nvPr/>
        </p:nvSpPr>
        <p:spPr>
          <a:xfrm>
            <a:off x="6477120" y="3286080"/>
            <a:ext cx="504720" cy="504720"/>
          </a:xfrm>
          <a:prstGeom prst="ellipse">
            <a:avLst/>
          </a:prstGeom>
          <a:solidFill>
            <a:srgbClr val="9febf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Box 24"/>
          <p:cNvSpPr/>
          <p:nvPr/>
        </p:nvSpPr>
        <p:spPr>
          <a:xfrm>
            <a:off x="1042920" y="2565360"/>
            <a:ext cx="128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:=10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:=5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:=a+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6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7000"/>
                            </p:stCondLst>
                            <p:childTnLst>
                              <p:par>
                                <p:cTn id="4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800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90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7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9000"/>
                            </p:stCondLst>
                            <p:childTnLst>
                              <p:par>
                                <p:cTn id="4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9" name="Object 4"/>
              <p:cNvSpPr txBox="1"/>
              <p:nvPr/>
            </p:nvSpPr>
            <p:spPr>
              <a:xfrm>
                <a:off x="1666800" y="2252520"/>
                <a:ext cx="442908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5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4"/>
              <p:cNvSpPr txBox="1"/>
              <p:nvPr/>
            </p:nvSpPr>
            <p:spPr>
              <a:xfrm>
                <a:off x="1031760" y="1413000"/>
                <a:ext cx="6577200" cy="28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930240" y="1620720"/>
                <a:ext cx="7763040" cy="26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4"/>
              <p:cNvSpPr txBox="1"/>
              <p:nvPr/>
            </p:nvSpPr>
            <p:spPr>
              <a:xfrm>
                <a:off x="571680" y="1700280"/>
                <a:ext cx="8481960" cy="24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1692360" y="47628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ЛГОРИТ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755640" y="184464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Линейны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755640" y="292428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Циклическ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755640" y="407664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 ветвление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785880" y="521496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 процедуро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971640" y="2102400"/>
            <a:ext cx="64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(-b+b*b-4*a*c)/2/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(-b+b*b-4*a*c)/(2*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971640" y="234540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=(1-3*a*a)/(3*x*x-21*a*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971640" y="234540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=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24-х*х+23*х/(12-Х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971640" y="234540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24-х*х+23*х)/(12-Х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оманда ввод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500040" y="10000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 n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 a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, c, d, m, n: intege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Read  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или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readln (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курсор перемещается в начало  новой строк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(‘a, b, c, d =‘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(a, b, c, d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:=a*d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:=b*c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l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l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тапы решения задач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тановка зада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троение математической моде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троение алгоритма (блок-схем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исание програм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р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900000" y="1052640"/>
            <a:ext cx="646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грамма –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пись алгоритма на языке программирования для компьютер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Заголовок 2"/>
          <p:cNvSpPr/>
          <p:nvPr/>
        </p:nvSpPr>
        <p:spPr>
          <a:xfrm>
            <a:off x="660240" y="455760"/>
            <a:ext cx="80758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Calibri"/>
              </a:rPr>
              <a:t>Алфавит язы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484200" y="103176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atisse ITC"/>
              </a:rPr>
              <a:t>Алфавит языка программирования Паскаль - набор допустимых символов, которые можно использовать для записи программы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32"/>
          <p:cNvSpPr/>
          <p:nvPr/>
        </p:nvSpPr>
        <p:spPr>
          <a:xfrm>
            <a:off x="4572000" y="2708280"/>
            <a:ext cx="3960720" cy="576360"/>
          </a:xfrm>
          <a:prstGeom prst="roundRect">
            <a:avLst>
              <a:gd name="adj" fmla="val 16667"/>
            </a:avLst>
          </a:prstGeom>
          <a:solidFill>
            <a:srgbClr val="0068ae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atisse ITC"/>
              </a:rPr>
              <a:t>A, B, C, …, X Y, Z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826920" y="2563920"/>
            <a:ext cx="3168720" cy="79200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Латинские пропис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букв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826920" y="3500280"/>
            <a:ext cx="3168720" cy="79236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Латинские строч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букв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826920" y="4508640"/>
            <a:ext cx="3168720" cy="79200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Арабские циф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826920" y="5445000"/>
            <a:ext cx="3168720" cy="79236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пециаль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имвол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39"/>
          <p:cNvSpPr/>
          <p:nvPr/>
        </p:nvSpPr>
        <p:spPr>
          <a:xfrm>
            <a:off x="4572000" y="3645000"/>
            <a:ext cx="3960720" cy="576000"/>
          </a:xfrm>
          <a:prstGeom prst="roundRect">
            <a:avLst>
              <a:gd name="adj" fmla="val 16667"/>
            </a:avLst>
          </a:prstGeom>
          <a:solidFill>
            <a:srgbClr val="0068ae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atisse ITC"/>
              </a:rPr>
              <a:t>a, b, c,…, x, y, z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40"/>
          <p:cNvSpPr/>
          <p:nvPr/>
        </p:nvSpPr>
        <p:spPr>
          <a:xfrm>
            <a:off x="4572000" y="4581360"/>
            <a:ext cx="3960720" cy="576360"/>
          </a:xfrm>
          <a:prstGeom prst="roundRect">
            <a:avLst>
              <a:gd name="adj" fmla="val 16667"/>
            </a:avLst>
          </a:prstGeom>
          <a:solidFill>
            <a:srgbClr val="0068ae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atisse ITC"/>
              </a:rPr>
              <a:t>0, 1, 2, …, 7, 8, 9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41"/>
          <p:cNvSpPr/>
          <p:nvPr/>
        </p:nvSpPr>
        <p:spPr>
          <a:xfrm>
            <a:off x="4572000" y="5373720"/>
            <a:ext cx="4248000" cy="863640"/>
          </a:xfrm>
          <a:prstGeom prst="roundRect">
            <a:avLst>
              <a:gd name="adj" fmla="val 16667"/>
            </a:avLst>
          </a:prstGeom>
          <a:solidFill>
            <a:srgbClr val="0068ae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atisse ITC"/>
              </a:rPr>
              <a:t>Знаки арифметические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atisse ITC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Matisse ITC"/>
              </a:rPr>
              <a:t>препинания, скобки и другие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№,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^, &amp;…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28"/>
          <p:cNvSpPr/>
          <p:nvPr/>
        </p:nvSpPr>
        <p:spPr>
          <a:xfrm flipV="1">
            <a:off x="611280" y="2204640"/>
            <a:ext cx="0" cy="4032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28"/>
          <p:cNvSpPr/>
          <p:nvPr/>
        </p:nvSpPr>
        <p:spPr>
          <a:xfrm>
            <a:off x="611280" y="2924280"/>
            <a:ext cx="2156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28"/>
          <p:cNvSpPr/>
          <p:nvPr/>
        </p:nvSpPr>
        <p:spPr>
          <a:xfrm>
            <a:off x="611280" y="3860640"/>
            <a:ext cx="2156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28"/>
          <p:cNvSpPr/>
          <p:nvPr/>
        </p:nvSpPr>
        <p:spPr>
          <a:xfrm>
            <a:off x="611280" y="4869000"/>
            <a:ext cx="2156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28"/>
          <p:cNvSpPr/>
          <p:nvPr/>
        </p:nvSpPr>
        <p:spPr>
          <a:xfrm>
            <a:off x="3995640" y="2997360"/>
            <a:ext cx="5763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28"/>
          <p:cNvSpPr/>
          <p:nvPr/>
        </p:nvSpPr>
        <p:spPr>
          <a:xfrm>
            <a:off x="3995640" y="3932280"/>
            <a:ext cx="5763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28"/>
          <p:cNvSpPr/>
          <p:nvPr/>
        </p:nvSpPr>
        <p:spPr>
          <a:xfrm>
            <a:off x="3995640" y="4869000"/>
            <a:ext cx="5763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28"/>
          <p:cNvSpPr/>
          <p:nvPr/>
        </p:nvSpPr>
        <p:spPr>
          <a:xfrm>
            <a:off x="3995640" y="5805360"/>
            <a:ext cx="5763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28"/>
          <p:cNvSpPr/>
          <p:nvPr/>
        </p:nvSpPr>
        <p:spPr>
          <a:xfrm>
            <a:off x="611280" y="6237360"/>
            <a:ext cx="2156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AutoShape 6"/>
          <p:cNvSpPr/>
          <p:nvPr/>
        </p:nvSpPr>
        <p:spPr>
          <a:xfrm>
            <a:off x="5651640" y="3286080"/>
            <a:ext cx="1800000" cy="576360"/>
          </a:xfrm>
          <a:prstGeom prst="roundRect">
            <a:avLst>
              <a:gd name="adj" fmla="val 16667"/>
            </a:avLst>
          </a:prstGeom>
          <a:solidFill>
            <a:srgbClr val="0068ae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=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28"/>
          <p:cNvSpPr/>
          <p:nvPr/>
        </p:nvSpPr>
        <p:spPr>
          <a:xfrm>
            <a:off x="611280" y="2422440"/>
            <a:ext cx="22320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843280" y="2133720"/>
            <a:ext cx="3889440" cy="57600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4472"/>
                </a:solidFill>
                <a:latin typeface="Arial"/>
                <a:ea typeface="Arial"/>
              </a:rPr>
              <a:t>Неделимые элемент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826920" y="3141720"/>
            <a:ext cx="3313440" cy="79200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472"/>
                </a:solidFill>
                <a:latin typeface="Arial"/>
                <a:ea typeface="Arial"/>
              </a:rPr>
              <a:t>Знак опер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472"/>
                </a:solidFill>
                <a:latin typeface="Arial"/>
                <a:ea typeface="Arial"/>
              </a:rPr>
              <a:t>присваива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826920" y="4078440"/>
            <a:ext cx="3313440" cy="79200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472"/>
                </a:solidFill>
                <a:latin typeface="Arial"/>
                <a:ea typeface="Arial"/>
              </a:rPr>
              <a:t>Знаки больше или равно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472"/>
                </a:solidFill>
                <a:latin typeface="Arial"/>
                <a:ea typeface="Arial"/>
              </a:rPr>
              <a:t>меньше или рав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826920" y="5086440"/>
            <a:ext cx="3313440" cy="79200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472"/>
                </a:solidFill>
                <a:latin typeface="Arial"/>
                <a:ea typeface="Arial"/>
              </a:rPr>
              <a:t>Начало или коне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472"/>
                </a:solidFill>
                <a:latin typeface="Arial"/>
                <a:ea typeface="Arial"/>
              </a:rPr>
              <a:t>комментар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12"/>
          <p:cNvSpPr/>
          <p:nvPr/>
        </p:nvSpPr>
        <p:spPr>
          <a:xfrm>
            <a:off x="5651640" y="4222800"/>
            <a:ext cx="1800000" cy="576360"/>
          </a:xfrm>
          <a:prstGeom prst="roundRect">
            <a:avLst>
              <a:gd name="adj" fmla="val 16667"/>
            </a:avLst>
          </a:prstGeom>
          <a:solidFill>
            <a:srgbClr val="0068ae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&gt; =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&lt; =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13"/>
          <p:cNvSpPr/>
          <p:nvPr/>
        </p:nvSpPr>
        <p:spPr>
          <a:xfrm>
            <a:off x="5651640" y="5159520"/>
            <a:ext cx="1800000" cy="576000"/>
          </a:xfrm>
          <a:prstGeom prst="roundRect">
            <a:avLst>
              <a:gd name="adj" fmla="val 16667"/>
            </a:avLst>
          </a:prstGeom>
          <a:solidFill>
            <a:srgbClr val="0068ae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* и *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28"/>
          <p:cNvSpPr/>
          <p:nvPr/>
        </p:nvSpPr>
        <p:spPr>
          <a:xfrm flipV="1">
            <a:off x="611280" y="2422440"/>
            <a:ext cx="0" cy="30225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28"/>
          <p:cNvSpPr/>
          <p:nvPr/>
        </p:nvSpPr>
        <p:spPr>
          <a:xfrm>
            <a:off x="611280" y="3502080"/>
            <a:ext cx="2156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28"/>
          <p:cNvSpPr/>
          <p:nvPr/>
        </p:nvSpPr>
        <p:spPr>
          <a:xfrm>
            <a:off x="611280" y="4438800"/>
            <a:ext cx="2156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28"/>
          <p:cNvSpPr/>
          <p:nvPr/>
        </p:nvSpPr>
        <p:spPr>
          <a:xfrm>
            <a:off x="611280" y="5446800"/>
            <a:ext cx="2156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28"/>
          <p:cNvSpPr/>
          <p:nvPr/>
        </p:nvSpPr>
        <p:spPr>
          <a:xfrm>
            <a:off x="4140360" y="3573360"/>
            <a:ext cx="15112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28"/>
          <p:cNvSpPr/>
          <p:nvPr/>
        </p:nvSpPr>
        <p:spPr>
          <a:xfrm>
            <a:off x="4140360" y="4508640"/>
            <a:ext cx="15112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28"/>
          <p:cNvSpPr/>
          <p:nvPr/>
        </p:nvSpPr>
        <p:spPr>
          <a:xfrm>
            <a:off x="4140360" y="5445000"/>
            <a:ext cx="15112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Заголовок 2"/>
          <p:cNvSpPr/>
          <p:nvPr/>
        </p:nvSpPr>
        <p:spPr>
          <a:xfrm>
            <a:off x="611280" y="571680"/>
            <a:ext cx="8075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Calibri"/>
              </a:rPr>
              <a:t>Алфавит язы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468360" y="124776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алфавит языка Паскаль включены неделимые элементы (составные символы)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7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9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AutoShape 3"/>
          <p:cNvSpPr/>
          <p:nvPr/>
        </p:nvSpPr>
        <p:spPr>
          <a:xfrm>
            <a:off x="4645080" y="1413000"/>
            <a:ext cx="3960720" cy="1006200"/>
          </a:xfrm>
          <a:prstGeom prst="roundRect">
            <a:avLst>
              <a:gd name="adj" fmla="val 16667"/>
            </a:avLst>
          </a:prstGeom>
          <a:solidFill>
            <a:srgbClr val="0068ae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atisse ITC"/>
              </a:rPr>
              <a:t>Служебное слово </a:t>
            </a:r>
            <a:r>
              <a:rPr b="1" lang="en-US" sz="2800" spc="-1" strike="noStrike">
                <a:solidFill>
                  <a:srgbClr val="99ff99"/>
                </a:solidFill>
                <a:latin typeface="FangSong"/>
              </a:rPr>
              <a:t>program</a:t>
            </a:r>
            <a:r>
              <a:rPr b="1" lang="ru-RU" sz="2800" spc="-1" strike="noStrike">
                <a:solidFill>
                  <a:srgbClr val="ffffff"/>
                </a:solidFill>
                <a:latin typeface="FangSong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atisse ITC"/>
              </a:rPr>
              <a:t>и имя программ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28"/>
          <p:cNvSpPr/>
          <p:nvPr/>
        </p:nvSpPr>
        <p:spPr>
          <a:xfrm flipV="1">
            <a:off x="684360" y="764640"/>
            <a:ext cx="2232000" cy="18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2916360" y="476280"/>
            <a:ext cx="3889080" cy="57636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Структура программ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900000" y="1484280"/>
            <a:ext cx="3168720" cy="79236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Заголовок програм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900000" y="2995560"/>
            <a:ext cx="3168720" cy="79236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Описание дан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900000" y="4579920"/>
            <a:ext cx="3168720" cy="79236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Описание действ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AutoShape 9"/>
          <p:cNvSpPr/>
          <p:nvPr/>
        </p:nvSpPr>
        <p:spPr>
          <a:xfrm>
            <a:off x="4645080" y="2924280"/>
            <a:ext cx="3960720" cy="1006200"/>
          </a:xfrm>
          <a:prstGeom prst="roundRect">
            <a:avLst>
              <a:gd name="adj" fmla="val 16667"/>
            </a:avLst>
          </a:prstGeom>
          <a:solidFill>
            <a:srgbClr val="0068ae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atisse ITC"/>
              </a:rPr>
              <a:t>Описание констант(</a:t>
            </a:r>
            <a:r>
              <a:rPr b="1" lang="en-US" sz="2800" spc="-1" strike="noStrike">
                <a:solidFill>
                  <a:srgbClr val="cc0000"/>
                </a:solidFill>
                <a:latin typeface="FangSong"/>
              </a:rPr>
              <a:t>const</a:t>
            </a:r>
            <a:r>
              <a:rPr b="0" lang="ru-RU" sz="2200" spc="-1" strike="noStrike">
                <a:solidFill>
                  <a:srgbClr val="ffffff"/>
                </a:solidFill>
                <a:latin typeface="Matisse ITC"/>
              </a:rPr>
              <a:t>) 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atisse ITC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Matisse ITC"/>
              </a:rPr>
              <a:t>описание переменных (</a:t>
            </a:r>
            <a:r>
              <a:rPr b="1" lang="en-US" sz="2800" spc="-1" strike="noStrike">
                <a:solidFill>
                  <a:srgbClr val="cc0000"/>
                </a:solidFill>
                <a:latin typeface="FangSong"/>
              </a:rPr>
              <a:t>var</a:t>
            </a:r>
            <a:r>
              <a:rPr b="0" lang="ru-RU" sz="2200" spc="-1" strike="noStrike">
                <a:solidFill>
                  <a:srgbClr val="ffffff"/>
                </a:solidFill>
                <a:latin typeface="Matisse ITC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AutoShape 10"/>
          <p:cNvSpPr/>
          <p:nvPr/>
        </p:nvSpPr>
        <p:spPr>
          <a:xfrm>
            <a:off x="4645080" y="4363920"/>
            <a:ext cx="3960720" cy="1152720"/>
          </a:xfrm>
          <a:prstGeom prst="roundRect">
            <a:avLst>
              <a:gd name="adj" fmla="val 16667"/>
            </a:avLst>
          </a:prstGeom>
          <a:solidFill>
            <a:srgbClr val="0068ae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atisse ITC"/>
              </a:rPr>
              <a:t>Начинается словом </a:t>
            </a:r>
            <a:r>
              <a:rPr b="1" lang="en-US" sz="2800" spc="-1" strike="noStrike">
                <a:solidFill>
                  <a:srgbClr val="cc0000"/>
                </a:solidFill>
                <a:latin typeface="FangSong"/>
              </a:rPr>
              <a:t>begin</a:t>
            </a:r>
            <a:r>
              <a:rPr b="1" lang="en-US" sz="2800" spc="-1" strike="noStrike">
                <a:solidFill>
                  <a:srgbClr val="ffffff"/>
                </a:solidFill>
                <a:latin typeface="Matisse ITC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Matisse ITC"/>
              </a:rPr>
              <a:t>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atisse ITC"/>
              </a:rPr>
              <a:t>заканчивается словом</a:t>
            </a:r>
            <a:r>
              <a:rPr b="0" lang="en-US" sz="2200" spc="-1" strike="noStrike">
                <a:solidFill>
                  <a:srgbClr val="ffffff"/>
                </a:solidFill>
                <a:latin typeface="Matisse ITC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FangSong"/>
              </a:rPr>
              <a:t>end</a:t>
            </a:r>
            <a:r>
              <a:rPr b="0" lang="ru-RU" sz="2200" spc="-1" strike="noStrike">
                <a:solidFill>
                  <a:srgbClr val="ffffff"/>
                </a:solidFill>
                <a:latin typeface="Matisse ITC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atisse ITC"/>
              </a:rPr>
              <a:t>с точко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28"/>
          <p:cNvSpPr/>
          <p:nvPr/>
        </p:nvSpPr>
        <p:spPr>
          <a:xfrm flipH="1" flipV="1">
            <a:off x="684360" y="765000"/>
            <a:ext cx="1440" cy="41752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28"/>
          <p:cNvSpPr/>
          <p:nvPr/>
        </p:nvSpPr>
        <p:spPr>
          <a:xfrm flipV="1">
            <a:off x="684360" y="1844280"/>
            <a:ext cx="215640" cy="1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28"/>
          <p:cNvSpPr/>
          <p:nvPr/>
        </p:nvSpPr>
        <p:spPr>
          <a:xfrm flipV="1">
            <a:off x="684360" y="3355560"/>
            <a:ext cx="215640" cy="1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28"/>
          <p:cNvSpPr/>
          <p:nvPr/>
        </p:nvSpPr>
        <p:spPr>
          <a:xfrm flipV="1">
            <a:off x="684360" y="4940280"/>
            <a:ext cx="215640" cy="1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28"/>
          <p:cNvSpPr/>
          <p:nvPr/>
        </p:nvSpPr>
        <p:spPr>
          <a:xfrm flipV="1">
            <a:off x="4068720" y="1917720"/>
            <a:ext cx="576360" cy="1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28"/>
          <p:cNvSpPr/>
          <p:nvPr/>
        </p:nvSpPr>
        <p:spPr>
          <a:xfrm flipV="1">
            <a:off x="4068720" y="3427560"/>
            <a:ext cx="576360" cy="1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28"/>
          <p:cNvSpPr/>
          <p:nvPr/>
        </p:nvSpPr>
        <p:spPr>
          <a:xfrm flipV="1">
            <a:off x="4068720" y="4940280"/>
            <a:ext cx="576360" cy="1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9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Заголовок 2"/>
          <p:cNvSpPr/>
          <p:nvPr/>
        </p:nvSpPr>
        <p:spPr>
          <a:xfrm>
            <a:off x="468360" y="404640"/>
            <a:ext cx="821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Calibri"/>
              </a:rPr>
              <a:t>Общий вид програм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1111320" y="1241280"/>
            <a:ext cx="7389720" cy="350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FangSong"/>
              </a:rPr>
              <a:t>program</a:t>
            </a:r>
            <a:r>
              <a:rPr b="0" lang="ru-RU" sz="2800" spc="-1" strike="noStrike">
                <a:solidFill>
                  <a:srgbClr val="ffffff"/>
                </a:solidFill>
                <a:latin typeface="FangSong"/>
              </a:rPr>
              <a:t> &lt;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мя программы</a:t>
            </a:r>
            <a:r>
              <a:rPr b="0" lang="ru-RU" sz="2800" spc="-1" strike="noStrike">
                <a:solidFill>
                  <a:srgbClr val="ffffff"/>
                </a:solidFill>
                <a:latin typeface="FangSong"/>
              </a:rPr>
              <a:t>&gt;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angSong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FangSong"/>
              </a:rPr>
              <a:t>const</a:t>
            </a:r>
            <a:r>
              <a:rPr b="0" lang="ru-RU" sz="2800" spc="-1" strike="noStrike">
                <a:solidFill>
                  <a:srgbClr val="ffffff"/>
                </a:solidFill>
                <a:latin typeface="FangSong"/>
              </a:rPr>
              <a:t> &lt;</a:t>
            </a:r>
            <a:r>
              <a:rPr b="0" lang="ru-RU" sz="2000" spc="-1" strike="noStrike">
                <a:solidFill>
                  <a:srgbClr val="ffffff"/>
                </a:solidFill>
                <a:latin typeface="FangSong"/>
              </a:rPr>
              <a:t>список постоянных значений&gt;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angSong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FangSong"/>
              </a:rPr>
              <a:t>var</a:t>
            </a:r>
            <a:r>
              <a:rPr b="0" lang="ru-RU" sz="2800" spc="-1" strike="noStrike">
                <a:solidFill>
                  <a:srgbClr val="ffffff"/>
                </a:solidFill>
                <a:latin typeface="FangSong"/>
              </a:rPr>
              <a:t> &lt;</a:t>
            </a:r>
            <a:r>
              <a:rPr b="0" lang="ru-RU" sz="2000" spc="-1" strike="noStrike">
                <a:solidFill>
                  <a:srgbClr val="ffffff"/>
                </a:solidFill>
                <a:latin typeface="FangSong"/>
              </a:rPr>
              <a:t>описание используемых переменных&gt;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FangSong"/>
              </a:rPr>
              <a:t>begin</a:t>
            </a:r>
            <a:r>
              <a:rPr b="1" lang="ru-RU" sz="2800" spc="-1" strike="noStrike">
                <a:solidFill>
                  <a:srgbClr val="ffffff"/>
                </a:solidFill>
                <a:latin typeface="FangSong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FangSong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FangSong"/>
              </a:rPr>
              <a:t>начало программного блока</a:t>
            </a:r>
            <a:r>
              <a:rPr b="0" lang="ru-RU" sz="2800" spc="-1" strike="noStrike">
                <a:solidFill>
                  <a:srgbClr val="ffffff"/>
                </a:solidFill>
                <a:latin typeface="FangSong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angSong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&lt;оператор 1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angSong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&lt;оператор 2&gt;;…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FangSong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angSong"/>
              </a:rPr>
              <a:t>e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395280" y="5157720"/>
            <a:ext cx="83534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ператоры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- языковые конструкции для записи действия, выполняемого над данными в процессе решения задач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FangSong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70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8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9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Box 16"/>
          <p:cNvSpPr/>
          <p:nvPr/>
        </p:nvSpPr>
        <p:spPr>
          <a:xfrm>
            <a:off x="285840" y="857160"/>
            <a:ext cx="8358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екомендаци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ждая часть программы пишется с новой стро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думывать решение задачи за наименьшее число действ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515880" y="515880"/>
          <a:ext cx="8191440" cy="6027840"/>
        </p:xfrm>
        <a:graphic>
          <a:graphicData uri="http://schemas.openxmlformats.org/drawingml/2006/table">
            <a:tbl>
              <a:tblPr/>
              <a:tblGrid>
                <a:gridCol w="4095720"/>
                <a:gridCol w="4095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Служебное слово языка Паска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Значение служебного сло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FangSong"/>
                          <a:ea typeface="Arial"/>
                        </a:rPr>
                        <a:t>and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FangSong"/>
                          <a:ea typeface="Arial"/>
                        </a:rPr>
                        <a:t>array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масси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FangSong"/>
                          <a:ea typeface="Arial"/>
                        </a:rPr>
                        <a:t>begi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чал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FangSong"/>
                          <a:ea typeface="Arial"/>
                        </a:rPr>
                        <a:t>d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ыполни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FangSong"/>
                          <a:ea typeface="Arial"/>
                        </a:rPr>
                        <a:t>els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инач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FangSong"/>
                          <a:ea typeface="Arial"/>
                        </a:rPr>
                        <a:t>for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л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FangSong"/>
                          <a:ea typeface="Arial"/>
                        </a:rPr>
                        <a:t>if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ес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FangSong"/>
                          <a:ea typeface="Arial"/>
                        </a:rPr>
                        <a:t>of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и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FangSong"/>
                          <a:ea typeface="Arial"/>
                        </a:rPr>
                        <a:t>or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и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FangSong"/>
                          <a:ea typeface="Arial"/>
                        </a:rPr>
                        <a:t>procedur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роцедур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FangSong"/>
                          <a:ea typeface="Arial"/>
                        </a:rPr>
                        <a:t>program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рограм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FangSong"/>
                          <a:ea typeface="Arial"/>
                        </a:rPr>
                        <a:t>repeat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овторя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FangSong"/>
                          <a:ea typeface="Arial"/>
                        </a:rPr>
                        <a:t>the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FangSong"/>
                          <a:ea typeface="Arial"/>
                        </a:rPr>
                        <a:t>t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о (увеличивая до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FangSong"/>
                          <a:ea typeface="Arial"/>
                        </a:rPr>
                        <a:t>until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о (до тех пор, пок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FangSong"/>
                          <a:ea typeface="Arial"/>
                        </a:rPr>
                        <a:t>var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еремен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FangSong"/>
                          <a:ea typeface="Arial"/>
                        </a:rPr>
                        <a:t>whil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ок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3T05:49:50Z</dcterms:created>
  <dc:creator>шарина</dc:creator>
  <dc:description/>
  <dc:language>en-US</dc:language>
  <cp:lastModifiedBy>Наталья</cp:lastModifiedBy>
  <dcterms:modified xsi:type="dcterms:W3CDTF">2012-11-17T20:54:38Z</dcterms:modified>
  <cp:revision>39</cp:revision>
  <dc:subject/>
  <dc:title>Слайд 1</dc:title>
</cp:coreProperties>
</file>