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185-0DD5-4A38-A7DA-DD8D491F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F4B-C16C-4E85-ADEE-AB4CC829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5CA-72DC-4003-9DBB-8776CC86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385-3061-46F9-98C8-49253929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906-450C-4318-B667-419904AC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8D1-1D14-4416-ACAE-7DBDAC32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901-8D6B-439A-9C7C-A34B1378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782-82C8-4AC2-984F-CC6CC5B7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980-0DCE-4299-A7BE-F045629A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A11-A9D3-477B-9333-3941E05E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978-970E-43D9-ACE2-0A3B796B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A32-CCCB-43B6-8446-833871D0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78B6-2F42-4B93-AB63-4AE38073B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нктуац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нктуационный раз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3920" y="4000680"/>
            <a:ext cx="694548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ение в конце учебного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2357280" y="6000840"/>
            <a:ext cx="5000760" cy="7142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якова О.Е., учитель русского языка и литературы МОУ ГСОШ филиал Василёво Калязинского района Тве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должи фраз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уация изучает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связана с разделом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763640" y="2924280"/>
            <a:ext cx="6121440" cy="792000"/>
          </a:xfrm>
          <a:custGeom>
            <a:avLst/>
            <a:gdLst>
              <a:gd name="textAreaLeft" fmla="*/ 93240 w 6121440"/>
              <a:gd name="textAreaRight" fmla="*/ 6028200 w 61214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668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63282" y="21600"/>
                </a:lnTo>
                <a:arcTo wR="3600" hR="3600" stAng="10800000" swAng="5400000"/>
                <a:lnTo>
                  <a:pt x="16688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наки препи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79280" y="3933720"/>
            <a:ext cx="3097440" cy="863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5940360" y="3933720"/>
            <a:ext cx="2952720" cy="863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50920" y="4869000"/>
            <a:ext cx="2665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ая р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2771640" y="5157720"/>
            <a:ext cx="3240360" cy="935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ер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5724360" y="4869000"/>
            <a:ext cx="323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ые пред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оставе слож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2771640" y="5950080"/>
            <a:ext cx="32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хорош лес в весе(н, нн)ем уборе чист и прозрачен воздух  вот и  первые цветы далеко слышны звуки лесного ручейка  а где же ежи они еще (не) проснулись хочется долго бродить по ле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исать, разделить текст на предложения и поставить знаки завершения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189000"/>
            <a:ext cx="65631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ки заверш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  !  ? 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равить ошибки в предложения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я положи книжку на верхнюю полк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разительная картина» - воскликнул ё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ер попросил ребята играйте в коман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будешь тренироваться? – спросили игр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88640"/>
            <a:ext cx="5699520" cy="100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ки выдел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»  ,  ! ( ) 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яснить схемы и постановку знаков препин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74320"/>
            <a:ext cx="8229960" cy="100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ки раздел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;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900000" y="2781360"/>
            <a:ext cx="1800360" cy="7189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3492360" y="2781360"/>
            <a:ext cx="1800360" cy="7189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900000" y="3860640"/>
            <a:ext cx="1800360" cy="71928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276720" y="3860640"/>
            <a:ext cx="1800000" cy="71928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900000" y="4869000"/>
            <a:ext cx="1800360" cy="7189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3276720" y="4869000"/>
            <a:ext cx="1800000" cy="7189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2771640" y="2852640"/>
            <a:ext cx="6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3492360" y="400536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2700360" y="4149720"/>
            <a:ext cx="50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2771640" y="50133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6"/>
          <p:cNvSpPr/>
          <p:nvPr/>
        </p:nvSpPr>
        <p:spPr>
          <a:xfrm>
            <a:off x="5867280" y="2781360"/>
            <a:ext cx="1009800" cy="7207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7"/>
          <p:cNvSpPr/>
          <p:nvPr/>
        </p:nvSpPr>
        <p:spPr>
          <a:xfrm>
            <a:off x="7740720" y="2708280"/>
            <a:ext cx="1009440" cy="7207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8"/>
          <p:cNvSpPr/>
          <p:nvPr/>
        </p:nvSpPr>
        <p:spPr>
          <a:xfrm>
            <a:off x="5867280" y="3933720"/>
            <a:ext cx="1009800" cy="7207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9"/>
          <p:cNvSpPr/>
          <p:nvPr/>
        </p:nvSpPr>
        <p:spPr>
          <a:xfrm>
            <a:off x="7812000" y="3933720"/>
            <a:ext cx="1009800" cy="7207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0"/>
          <p:cNvSpPr/>
          <p:nvPr/>
        </p:nvSpPr>
        <p:spPr>
          <a:xfrm>
            <a:off x="5940360" y="5084640"/>
            <a:ext cx="1009800" cy="7207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7094520" y="2851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7021800" y="3933720"/>
            <a:ext cx="6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3"/>
          <p:cNvSpPr/>
          <p:nvPr/>
        </p:nvSpPr>
        <p:spPr>
          <a:xfrm>
            <a:off x="7740720" y="5084640"/>
            <a:ext cx="1009440" cy="7207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4"/>
          <p:cNvSpPr/>
          <p:nvPr/>
        </p:nvSpPr>
        <p:spPr>
          <a:xfrm>
            <a:off x="7166160" y="508464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5"/>
          <p:cNvSpPr/>
          <p:nvPr/>
        </p:nvSpPr>
        <p:spPr>
          <a:xfrm>
            <a:off x="5724360" y="2421000"/>
            <a:ext cx="3168720" cy="4176720"/>
          </a:xfrm>
          <a:prstGeom prst="flowChartMultidocumen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вор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шите сочинение-миниатюру на одну из те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айский день. Каким я его увидел(а) сегодня (вчера, из окна дома, на улице)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равда ли, что весна – лучшее время год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3" descr=""/>
          <p:cNvPicPr/>
          <p:nvPr/>
        </p:nvPicPr>
        <p:blipFill>
          <a:blip r:embed="rId1"/>
          <a:stretch/>
        </p:blipFill>
        <p:spPr>
          <a:xfrm>
            <a:off x="523800" y="5224320"/>
            <a:ext cx="820584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7:22:11Z</dcterms:created>
  <dc:creator> Полякова</dc:creator>
  <dc:description/>
  <dc:language>en-US</dc:language>
  <cp:lastModifiedBy>Admin</cp:lastModifiedBy>
  <dcterms:modified xsi:type="dcterms:W3CDTF">2012-12-06T10:13:47Z</dcterms:modified>
  <cp:revision>3</cp:revision>
  <dc:subject/>
  <dc:title>Пунктуация. Пунктуационный разбор.</dc:title>
</cp:coreProperties>
</file>