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5.png" ContentType="image/png"/>
  <Override PartName="/ppt/media/image2.jpeg" ContentType="image/jpeg"/>
  <Override PartName="/ppt/media/image4.jpeg" ContentType="image/jpeg"/>
  <Override PartName="/ppt/media/image6.gif" ContentType="image/gif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gif" ContentType="image/gif"/>
  <Override PartName="/ppt/media/image10.gif" ContentType="image/gif"/>
  <Override PartName="/ppt/media/image11.png" ContentType="image/png"/>
  <Override PartName="/ppt/media/image3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8D5-E1F5-4665-B664-4E8D5D69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11D-0449-4F66-8D28-D35AEECD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78B-61A0-4270-8A4D-1DE63EB0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A8F-835A-44DE-9507-A5F0DD43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C83-04F2-455F-A7D9-343C792C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513-2A2D-462E-822E-84FBA280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DEF-DBBB-45C4-A9B4-85E28AC3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FD2-4CEA-461F-A717-ED9C9A95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50C-FC69-4EB3-A417-33309C7D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3A8-F6DC-4E35-A1E4-58103072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7BD-5981-43B6-93B4-6D091BA7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578-BCC0-413E-82A1-47E024A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C25F-17C6-4F58-B0A9-77CA36FEE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зделы науки о языке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рфограф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14272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в конце учебно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929040" y="6000840"/>
            <a:ext cx="500076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якова О.Е., учитель русского языка и литературы МОУ ГСОШ филиал Василёво Калязинского района Тве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400800" y="-1339920"/>
            <a:ext cx="3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749160" y="2127240"/>
            <a:ext cx="3895920" cy="42069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0" y="59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692360" y="3213000"/>
            <a:ext cx="216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ши п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арением,</a:t>
            </a:r>
            <a:r>
              <a:rPr b="1" lang="ru-RU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удар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145120" y="2127240"/>
            <a:ext cx="3779640" cy="4206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940360" y="3284640"/>
            <a:ext cx="213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ши без ударения,</a:t>
            </a:r>
            <a:r>
              <a:rPr b="1" lang="ru-RU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 уда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755640" y="2602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1371600" y="-762120"/>
            <a:ext cx="3048120" cy="21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1" i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ГАР- - -ГОР-</a:t>
            </a:r>
            <a:endParaRPr b="1" i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5076720" y="333360"/>
            <a:ext cx="3657600" cy="1447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5638680" y="53352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ЗАР- - -ЗОР-</a:t>
            </a:r>
            <a:endParaRPr b="1" i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птицы летят"/>
          <p:cNvPicPr/>
          <p:nvPr/>
        </p:nvPicPr>
        <p:blipFill>
          <a:blip r:embed="rId1"/>
          <a:stretch/>
        </p:blipFill>
        <p:spPr>
          <a:xfrm>
            <a:off x="6588000" y="2133720"/>
            <a:ext cx="2305080" cy="2288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Загорает"/>
          <p:cNvPicPr/>
          <p:nvPr/>
        </p:nvPicPr>
        <p:blipFill>
          <a:blip r:embed="rId2"/>
          <a:stretch/>
        </p:blipFill>
        <p:spPr>
          <a:xfrm>
            <a:off x="324000" y="4508640"/>
            <a:ext cx="3313080" cy="210816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2556000" y="836640"/>
            <a:ext cx="3886200" cy="43988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Times New Roman"/>
              </a:rPr>
              <a:t>Горе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Times New Roman"/>
              </a:rPr>
              <a:t>Г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Times New Roman"/>
              </a:rPr>
              <a:t>Загор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5435640" y="1700280"/>
            <a:ext cx="838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Arc 6"/>
          <p:cNvSpPr/>
          <p:nvPr/>
        </p:nvSpPr>
        <p:spPr>
          <a:xfrm flipV="1" rot="12810600">
            <a:off x="2771640" y="836280"/>
            <a:ext cx="758880" cy="431640"/>
          </a:xfrm>
          <a:custGeom>
            <a:avLst/>
            <a:gdLst>
              <a:gd name="textAreaLeft" fmla="*/ 0 w 758880"/>
              <a:gd name="textAreaRight" fmla="*/ 759240 w 7588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fill="none" w="22782" h="21600">
                <a:moveTo>
                  <a:pt x="0" y="32"/>
                </a:moveTo>
                <a:cubicBezTo>
                  <a:pt x="393" y="10"/>
                  <a:pt x="787" y="-1"/>
                  <a:pt x="1182" y="0"/>
                </a:cubicBezTo>
                <a:cubicBezTo>
                  <a:pt x="13111" y="0"/>
                  <a:pt x="22782" y="9670"/>
                  <a:pt x="22782" y="21600"/>
                </a:cubicBezTo>
              </a:path>
              <a:path stroke="0" w="22782" h="21600">
                <a:moveTo>
                  <a:pt x="0" y="32"/>
                </a:moveTo>
                <a:cubicBezTo>
                  <a:pt x="393" y="10"/>
                  <a:pt x="787" y="-1"/>
                  <a:pt x="1182" y="0"/>
                </a:cubicBezTo>
                <a:cubicBezTo>
                  <a:pt x="13111" y="0"/>
                  <a:pt x="22782" y="9670"/>
                  <a:pt x="22782" y="21600"/>
                </a:cubicBezTo>
                <a:lnTo>
                  <a:pt x="1182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7"/>
          <p:cNvSpPr/>
          <p:nvPr/>
        </p:nvSpPr>
        <p:spPr>
          <a:xfrm flipV="1" rot="12810600">
            <a:off x="2771640" y="2276280"/>
            <a:ext cx="758880" cy="431640"/>
          </a:xfrm>
          <a:custGeom>
            <a:avLst/>
            <a:gdLst>
              <a:gd name="textAreaLeft" fmla="*/ 0 w 758880"/>
              <a:gd name="textAreaRight" fmla="*/ 759240 w 7588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fill="none" w="22782" h="21600">
                <a:moveTo>
                  <a:pt x="0" y="32"/>
                </a:moveTo>
                <a:cubicBezTo>
                  <a:pt x="393" y="10"/>
                  <a:pt x="787" y="-1"/>
                  <a:pt x="1182" y="0"/>
                </a:cubicBezTo>
                <a:cubicBezTo>
                  <a:pt x="13111" y="0"/>
                  <a:pt x="22782" y="9670"/>
                  <a:pt x="22782" y="21600"/>
                </a:cubicBezTo>
              </a:path>
              <a:path stroke="0" w="22782" h="21600">
                <a:moveTo>
                  <a:pt x="0" y="32"/>
                </a:moveTo>
                <a:cubicBezTo>
                  <a:pt x="393" y="10"/>
                  <a:pt x="787" y="-1"/>
                  <a:pt x="1182" y="0"/>
                </a:cubicBezTo>
                <a:cubicBezTo>
                  <a:pt x="13111" y="0"/>
                  <a:pt x="22782" y="9670"/>
                  <a:pt x="22782" y="21600"/>
                </a:cubicBezTo>
                <a:lnTo>
                  <a:pt x="1182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8"/>
          <p:cNvSpPr/>
          <p:nvPr/>
        </p:nvSpPr>
        <p:spPr>
          <a:xfrm flipV="1" rot="12810600">
            <a:off x="3347280" y="3860280"/>
            <a:ext cx="755640" cy="432360"/>
          </a:xfrm>
          <a:custGeom>
            <a:avLst/>
            <a:gdLst>
              <a:gd name="textAreaLeft" fmla="*/ 0 w 755640"/>
              <a:gd name="textAreaRight" fmla="*/ 756000 w 755640"/>
              <a:gd name="textAreaTop" fmla="*/ -360 h 432360"/>
              <a:gd name="textAreaBottom" fmla="*/ 432360 h 432360"/>
            </a:gdLst>
            <a:ahLst/>
            <a:rect l="textAreaLeft" t="textAreaTop" r="textAreaRight" b="textAreaBottom"/>
            <a:pathLst>
              <a:path fill="none" w="22695" h="21600">
                <a:moveTo>
                  <a:pt x="0" y="32"/>
                </a:moveTo>
                <a:cubicBezTo>
                  <a:pt x="393" y="10"/>
                  <a:pt x="787" y="-1"/>
                  <a:pt x="1182" y="0"/>
                </a:cubicBezTo>
                <a:cubicBezTo>
                  <a:pt x="12360" y="0"/>
                  <a:pt x="21691" y="8528"/>
                  <a:pt x="22694" y="19662"/>
                </a:cubicBezTo>
              </a:path>
              <a:path stroke="0" w="22695" h="21600">
                <a:moveTo>
                  <a:pt x="0" y="32"/>
                </a:moveTo>
                <a:cubicBezTo>
                  <a:pt x="393" y="10"/>
                  <a:pt x="787" y="-1"/>
                  <a:pt x="1182" y="0"/>
                </a:cubicBezTo>
                <a:cubicBezTo>
                  <a:pt x="12360" y="0"/>
                  <a:pt x="21691" y="8528"/>
                  <a:pt x="22694" y="19662"/>
                </a:cubicBezTo>
                <a:lnTo>
                  <a:pt x="1182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Девочка"/>
          <p:cNvPicPr/>
          <p:nvPr/>
        </p:nvPicPr>
        <p:blipFill>
          <a:blip r:embed="rId4"/>
          <a:stretch/>
        </p:blipFill>
        <p:spPr>
          <a:xfrm>
            <a:off x="179280" y="1268280"/>
            <a:ext cx="2448000" cy="1768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думай и напиш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971640" y="1484280"/>
            <a:ext cx="7772400" cy="502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Times New Roman"/>
              </a:rPr>
              <a:t>Выг.реть, г.рит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Times New Roman"/>
              </a:rPr>
              <a:t>подг.реть, обг.рел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Times New Roman"/>
              </a:rPr>
              <a:t>выг.ревший, уг.рет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Times New Roman"/>
              </a:rPr>
              <a:t>заг.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258920" y="9079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ПРИ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79280" y="1989000"/>
            <a:ext cx="453708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Monotype Corsiva"/>
              </a:rPr>
              <a:t>приближен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Monotype Corsiva"/>
              </a:rPr>
              <a:t>присоединен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Monotype Corsiva"/>
              </a:rPr>
              <a:t>неполнота действ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Monotype Corsiva"/>
              </a:rPr>
              <a:t>близость;</a:t>
            </a:r>
            <a:r>
              <a:rPr b="1" lang="ru-RU" sz="4800" spc="-1" strike="noStrike" u="sng">
                <a:solidFill>
                  <a:srgbClr val="99cc00"/>
                </a:solidFill>
                <a:uFillTx/>
                <a:latin typeface="Monotype Corsiv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7280" y="155700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Monotype Corsiva"/>
              </a:rPr>
              <a:t>ПРЕ 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88000" y="2565000"/>
            <a:ext cx="40384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Monotype Corsiva"/>
              </a:rPr>
              <a:t>очень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по-иному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Monotype Corsiva"/>
              </a:rPr>
              <a:t>пере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асть корня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42920" y="1557000"/>
            <a:ext cx="4105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ч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леж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я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4"/>
          <p:cNvSpPr/>
          <p:nvPr/>
        </p:nvSpPr>
        <p:spPr>
          <a:xfrm flipV="1" rot="11647800">
            <a:off x="3322800" y="1341360"/>
            <a:ext cx="1666800" cy="712800"/>
          </a:xfrm>
          <a:custGeom>
            <a:avLst/>
            <a:gdLst>
              <a:gd name="textAreaLeft" fmla="*/ 0 w 1666800"/>
              <a:gd name="textAreaRight" fmla="*/ 1667160 w 1666800"/>
              <a:gd name="textAreaTop" fmla="*/ 360 h 712800"/>
              <a:gd name="textAreaBottom" fmla="*/ 713520 h 712800"/>
            </a:gdLst>
            <a:ahLst/>
            <a:rect l="textAreaLeft" t="textAreaTop" r="textAreaRight" b="textAreaBottom"/>
            <a:pathLst>
              <a:path fill="none" w="21649" h="21600">
                <a:moveTo>
                  <a:pt x="-1" y="100"/>
                </a:moveTo>
                <a:cubicBezTo>
                  <a:pt x="692" y="33"/>
                  <a:pt x="1387" y="-1"/>
                  <a:pt x="2083" y="0"/>
                </a:cubicBezTo>
                <a:cubicBezTo>
                  <a:pt x="10468" y="0"/>
                  <a:pt x="18096" y="4853"/>
                  <a:pt x="21648" y="12449"/>
                </a:cubicBezTo>
              </a:path>
              <a:path stroke="0" w="21649" h="21600">
                <a:moveTo>
                  <a:pt x="-1" y="100"/>
                </a:moveTo>
                <a:cubicBezTo>
                  <a:pt x="692" y="33"/>
                  <a:pt x="1387" y="-1"/>
                  <a:pt x="2083" y="0"/>
                </a:cubicBezTo>
                <a:cubicBezTo>
                  <a:pt x="10468" y="0"/>
                  <a:pt x="18096" y="4853"/>
                  <a:pt x="21648" y="12449"/>
                </a:cubicBezTo>
                <a:lnTo>
                  <a:pt x="2083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5"/>
          <p:cNvSpPr/>
          <p:nvPr/>
        </p:nvSpPr>
        <p:spPr>
          <a:xfrm flipV="1" rot="11647800">
            <a:off x="3348000" y="2133720"/>
            <a:ext cx="1666800" cy="712800"/>
          </a:xfrm>
          <a:custGeom>
            <a:avLst/>
            <a:gdLst>
              <a:gd name="textAreaLeft" fmla="*/ 0 w 1666800"/>
              <a:gd name="textAreaRight" fmla="*/ 1667160 w 1666800"/>
              <a:gd name="textAreaTop" fmla="*/ 360 h 712800"/>
              <a:gd name="textAreaBottom" fmla="*/ 713520 h 712800"/>
            </a:gdLst>
            <a:ahLst/>
            <a:rect l="textAreaLeft" t="textAreaTop" r="textAreaRight" b="textAreaBottom"/>
            <a:pathLst>
              <a:path fill="none" w="21649" h="21600">
                <a:moveTo>
                  <a:pt x="-1" y="100"/>
                </a:moveTo>
                <a:cubicBezTo>
                  <a:pt x="692" y="33"/>
                  <a:pt x="1387" y="-1"/>
                  <a:pt x="2083" y="0"/>
                </a:cubicBezTo>
                <a:cubicBezTo>
                  <a:pt x="10468" y="0"/>
                  <a:pt x="18096" y="4853"/>
                  <a:pt x="21648" y="12449"/>
                </a:cubicBezTo>
              </a:path>
              <a:path stroke="0" w="21649" h="21600">
                <a:moveTo>
                  <a:pt x="-1" y="100"/>
                </a:moveTo>
                <a:cubicBezTo>
                  <a:pt x="692" y="33"/>
                  <a:pt x="1387" y="-1"/>
                  <a:pt x="2083" y="0"/>
                </a:cubicBezTo>
                <a:cubicBezTo>
                  <a:pt x="10468" y="0"/>
                  <a:pt x="18096" y="4853"/>
                  <a:pt x="21648" y="12449"/>
                </a:cubicBezTo>
                <a:lnTo>
                  <a:pt x="2083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6"/>
          <p:cNvSpPr/>
          <p:nvPr/>
        </p:nvSpPr>
        <p:spPr>
          <a:xfrm flipV="1" rot="11647800">
            <a:off x="3348000" y="2781360"/>
            <a:ext cx="1666800" cy="712800"/>
          </a:xfrm>
          <a:custGeom>
            <a:avLst/>
            <a:gdLst>
              <a:gd name="textAreaLeft" fmla="*/ 0 w 1666800"/>
              <a:gd name="textAreaRight" fmla="*/ 1667160 w 1666800"/>
              <a:gd name="textAreaTop" fmla="*/ 360 h 712800"/>
              <a:gd name="textAreaBottom" fmla="*/ 713520 h 712800"/>
            </a:gdLst>
            <a:ahLst/>
            <a:rect l="textAreaLeft" t="textAreaTop" r="textAreaRight" b="textAreaBottom"/>
            <a:pathLst>
              <a:path fill="none" w="21649" h="21600">
                <a:moveTo>
                  <a:pt x="-1" y="100"/>
                </a:moveTo>
                <a:cubicBezTo>
                  <a:pt x="692" y="33"/>
                  <a:pt x="1387" y="-1"/>
                  <a:pt x="2083" y="0"/>
                </a:cubicBezTo>
                <a:cubicBezTo>
                  <a:pt x="10468" y="0"/>
                  <a:pt x="18096" y="4853"/>
                  <a:pt x="21648" y="12449"/>
                </a:cubicBezTo>
              </a:path>
              <a:path stroke="0" w="21649" h="21600">
                <a:moveTo>
                  <a:pt x="-1" y="100"/>
                </a:moveTo>
                <a:cubicBezTo>
                  <a:pt x="692" y="33"/>
                  <a:pt x="1387" y="-1"/>
                  <a:pt x="2083" y="0"/>
                </a:cubicBezTo>
                <a:cubicBezTo>
                  <a:pt x="10468" y="0"/>
                  <a:pt x="18096" y="4853"/>
                  <a:pt x="21648" y="12449"/>
                </a:cubicBezTo>
                <a:lnTo>
                  <a:pt x="2083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7"/>
          <p:cNvSpPr/>
          <p:nvPr/>
        </p:nvSpPr>
        <p:spPr>
          <a:xfrm flipV="1" rot="11647800">
            <a:off x="3417480" y="3419640"/>
            <a:ext cx="1598760" cy="712800"/>
          </a:xfrm>
          <a:custGeom>
            <a:avLst/>
            <a:gdLst>
              <a:gd name="textAreaLeft" fmla="*/ 0 w 1598760"/>
              <a:gd name="textAreaRight" fmla="*/ 1599120 w 1598760"/>
              <a:gd name="textAreaTop" fmla="*/ 360 h 712800"/>
              <a:gd name="textAreaBottom" fmla="*/ 713520 h 712800"/>
            </a:gdLst>
            <a:ahLst/>
            <a:rect l="textAreaLeft" t="textAreaTop" r="textAreaRight" b="textAreaBottom"/>
            <a:pathLst>
              <a:path fill="none" w="20757" h="21600">
                <a:moveTo>
                  <a:pt x="-1" y="32"/>
                </a:moveTo>
                <a:cubicBezTo>
                  <a:pt x="396" y="10"/>
                  <a:pt x="793" y="-1"/>
                  <a:pt x="1191" y="0"/>
                </a:cubicBezTo>
                <a:cubicBezTo>
                  <a:pt x="9576" y="0"/>
                  <a:pt x="17204" y="4853"/>
                  <a:pt x="20756" y="12449"/>
                </a:cubicBezTo>
              </a:path>
              <a:path stroke="0" w="20757" h="21600">
                <a:moveTo>
                  <a:pt x="-1" y="32"/>
                </a:moveTo>
                <a:cubicBezTo>
                  <a:pt x="396" y="10"/>
                  <a:pt x="793" y="-1"/>
                  <a:pt x="1191" y="0"/>
                </a:cubicBezTo>
                <a:cubicBezTo>
                  <a:pt x="9576" y="0"/>
                  <a:pt x="17204" y="4853"/>
                  <a:pt x="20756" y="12449"/>
                </a:cubicBezTo>
                <a:lnTo>
                  <a:pt x="1191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8"/>
          <p:cNvSpPr/>
          <p:nvPr/>
        </p:nvSpPr>
        <p:spPr>
          <a:xfrm flipV="1" rot="11647800">
            <a:off x="3348000" y="4075560"/>
            <a:ext cx="1827360" cy="712800"/>
          </a:xfrm>
          <a:custGeom>
            <a:avLst/>
            <a:gdLst>
              <a:gd name="textAreaLeft" fmla="*/ 0 w 1827360"/>
              <a:gd name="textAreaRight" fmla="*/ 1827720 w 1827360"/>
              <a:gd name="textAreaTop" fmla="*/ 360 h 712800"/>
              <a:gd name="textAreaBottom" fmla="*/ 713520 h 712800"/>
            </a:gdLst>
            <a:ahLst/>
            <a:rect l="textAreaLeft" t="textAreaTop" r="textAreaRight" b="textAreaBottom"/>
            <a:pathLst>
              <a:path fill="none" w="23724" h="21600">
                <a:moveTo>
                  <a:pt x="-1" y="403"/>
                </a:moveTo>
                <a:cubicBezTo>
                  <a:pt x="1369" y="135"/>
                  <a:pt x="2762" y="-1"/>
                  <a:pt x="4158" y="0"/>
                </a:cubicBezTo>
                <a:cubicBezTo>
                  <a:pt x="12543" y="0"/>
                  <a:pt x="20171" y="4853"/>
                  <a:pt x="23723" y="12449"/>
                </a:cubicBezTo>
              </a:path>
              <a:path stroke="0" w="23724" h="21600">
                <a:moveTo>
                  <a:pt x="-1" y="403"/>
                </a:moveTo>
                <a:cubicBezTo>
                  <a:pt x="1369" y="135"/>
                  <a:pt x="2762" y="-1"/>
                  <a:pt x="4158" y="0"/>
                </a:cubicBezTo>
                <a:cubicBezTo>
                  <a:pt x="12543" y="0"/>
                  <a:pt x="20171" y="4853"/>
                  <a:pt x="23723" y="12449"/>
                </a:cubicBezTo>
                <a:lnTo>
                  <a:pt x="4158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9"/>
          <p:cNvSpPr/>
          <p:nvPr/>
        </p:nvSpPr>
        <p:spPr>
          <a:xfrm flipV="1" rot="11647800">
            <a:off x="3344760" y="4744800"/>
            <a:ext cx="1835280" cy="713160"/>
          </a:xfrm>
          <a:custGeom>
            <a:avLst/>
            <a:gdLst>
              <a:gd name="textAreaLeft" fmla="*/ 0 w 1835280"/>
              <a:gd name="textAreaRight" fmla="*/ 1835640 w 1835280"/>
              <a:gd name="textAreaTop" fmla="*/ -360 h 713160"/>
              <a:gd name="textAreaBottom" fmla="*/ 713160 h 713160"/>
            </a:gdLst>
            <a:ahLst/>
            <a:rect l="textAreaLeft" t="textAreaTop" r="textAreaRight" b="textAreaBottom"/>
            <a:pathLst>
              <a:path fill="none" w="23819" h="21600">
                <a:moveTo>
                  <a:pt x="-1" y="422"/>
                </a:moveTo>
                <a:cubicBezTo>
                  <a:pt x="1400" y="141"/>
                  <a:pt x="2824" y="-1"/>
                  <a:pt x="4253" y="0"/>
                </a:cubicBezTo>
                <a:cubicBezTo>
                  <a:pt x="12638" y="0"/>
                  <a:pt x="20266" y="4853"/>
                  <a:pt x="23818" y="12449"/>
                </a:cubicBezTo>
              </a:path>
              <a:path stroke="0" w="23819" h="21600">
                <a:moveTo>
                  <a:pt x="-1" y="422"/>
                </a:moveTo>
                <a:cubicBezTo>
                  <a:pt x="1400" y="141"/>
                  <a:pt x="2824" y="-1"/>
                  <a:pt x="4253" y="0"/>
                </a:cubicBezTo>
                <a:cubicBezTo>
                  <a:pt x="12638" y="0"/>
                  <a:pt x="20266" y="4853"/>
                  <a:pt x="23818" y="12449"/>
                </a:cubicBezTo>
                <a:lnTo>
                  <a:pt x="4253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10"/>
          <p:cNvSpPr/>
          <p:nvPr/>
        </p:nvSpPr>
        <p:spPr>
          <a:xfrm flipV="1" rot="11647800">
            <a:off x="3348000" y="5373720"/>
            <a:ext cx="1666800" cy="712800"/>
          </a:xfrm>
          <a:custGeom>
            <a:avLst/>
            <a:gdLst>
              <a:gd name="textAreaLeft" fmla="*/ 0 w 1666800"/>
              <a:gd name="textAreaRight" fmla="*/ 1667160 w 1666800"/>
              <a:gd name="textAreaTop" fmla="*/ 360 h 712800"/>
              <a:gd name="textAreaBottom" fmla="*/ 713520 h 712800"/>
            </a:gdLst>
            <a:ahLst/>
            <a:rect l="textAreaLeft" t="textAreaTop" r="textAreaRight" b="textAreaBottom"/>
            <a:pathLst>
              <a:path fill="none" w="21649" h="21600">
                <a:moveTo>
                  <a:pt x="-1" y="100"/>
                </a:moveTo>
                <a:cubicBezTo>
                  <a:pt x="692" y="33"/>
                  <a:pt x="1387" y="-1"/>
                  <a:pt x="2083" y="0"/>
                </a:cubicBezTo>
                <a:cubicBezTo>
                  <a:pt x="10468" y="0"/>
                  <a:pt x="18096" y="4853"/>
                  <a:pt x="21648" y="12449"/>
                </a:cubicBezTo>
              </a:path>
              <a:path stroke="0" w="21649" h="21600">
                <a:moveTo>
                  <a:pt x="-1" y="100"/>
                </a:moveTo>
                <a:cubicBezTo>
                  <a:pt x="692" y="33"/>
                  <a:pt x="1387" y="-1"/>
                  <a:pt x="2083" y="0"/>
                </a:cubicBezTo>
                <a:cubicBezTo>
                  <a:pt x="10468" y="0"/>
                  <a:pt x="18096" y="4853"/>
                  <a:pt x="21648" y="12449"/>
                </a:cubicBezTo>
                <a:lnTo>
                  <a:pt x="2083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39589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.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.гла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.сут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.мер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.мир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.кра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.гот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.обра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.вра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932360" y="1197000"/>
            <a:ext cx="338472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.бр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.го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.одол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.вы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.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.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.л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.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.я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900000" y="260280"/>
            <a:ext cx="748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-пре- или -при-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оединительные О и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ложных словах посл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вёрд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глас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шется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посл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ягк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ц –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Звер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лов, пу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провод, пеш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ход, птиц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фабр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24000" y="4508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а, падать. Лес, рубить. Каша, вар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з, проводить. Лёд, колоть. Общий, ж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ом, ходить. Буря, ломать. Птица, лов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на, ходить. Путь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"/>
              </a:rPr>
              <a:t>Запишите слова с данными пристав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-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  -- играть, искать;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-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играть;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ПРО-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 -играть;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РАЗ-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 - играть;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ОД-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 - итожить;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БЕЗ-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 - известный;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Ы-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 -игр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-</a:t>
            </a: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-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гу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1. от сущ. с основой на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песч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тум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 -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тум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я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гли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2.   –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н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авиац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кл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тек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н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,               -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ен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ут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о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н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,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кл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ет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 (д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ре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н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челов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3"/>
          <p:cNvSpPr txBox="1"/>
          <p:nvPr/>
        </p:nvSpPr>
        <p:spPr>
          <a:xfrm>
            <a:off x="468360" y="1890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овторим теорию 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3348000" y="5130720"/>
            <a:ext cx="3168720" cy="1727280"/>
          </a:xfrm>
          <a:prstGeom prst="wedgeRoundRectCallout">
            <a:avLst>
              <a:gd name="adj1" fmla="val -120490"/>
              <a:gd name="adj2" fmla="val -54962"/>
              <a:gd name="adj3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ГРЯ                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                  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                   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                     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И                     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                         Ы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500720" y="5202360"/>
            <a:ext cx="57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11280" y="4653000"/>
            <a:ext cx="28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D:\Мои документы\Мои рисунки\КАРТИНКИ школьные и не только\Ручки, перо\прикольный карандаш.jpg"/>
          <p:cNvPicPr/>
          <p:nvPr/>
        </p:nvPicPr>
        <p:blipFill>
          <a:blip r:embed="rId1"/>
          <a:stretch/>
        </p:blipFill>
        <p:spPr>
          <a:xfrm>
            <a:off x="357120" y="5357880"/>
            <a:ext cx="78912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данных имен существительных образовать и записать имена прилагательные с помощью суффиксов: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-Н-, -АН-, -ЯН-, -ИН-, -ЕНН-, -ОН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виация, журавль, утка, петух, кожа, серебро, машина, торф, государство, камень, искусство, солома, дер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Творческий диктан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11280" y="4581360"/>
            <a:ext cx="7991280" cy="201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иац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журавл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ут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петуш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ж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серебр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я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маши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торф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я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сударств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н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каме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искусств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н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ом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н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, дерев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ян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науки о язы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773360"/>
          <a:ext cx="8785440" cy="2832120"/>
        </p:xfrm>
        <a:graphic>
          <a:graphicData uri="http://schemas.openxmlformats.org/drawingml/2006/table">
            <a:tbl>
              <a:tblPr/>
              <a:tblGrid>
                <a:gridCol w="1255680"/>
                <a:gridCol w="1254240"/>
                <a:gridCol w="1255680"/>
                <a:gridCol w="1254240"/>
                <a:gridCol w="1255680"/>
                <a:gridCol w="1254240"/>
                <a:gridCol w="1255680"/>
              </a:tblGrid>
              <a:tr h="13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не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зе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фем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ф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с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44"/>
          <p:cNvSpPr/>
          <p:nvPr/>
        </p:nvSpPr>
        <p:spPr>
          <a:xfrm>
            <a:off x="468360" y="5084640"/>
            <a:ext cx="230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осоче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2843280" y="551664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зео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39640" y="6093000"/>
            <a:ext cx="20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7"/>
          <p:cNvSpPr/>
          <p:nvPr/>
        </p:nvSpPr>
        <p:spPr>
          <a:xfrm>
            <a:off x="4716360" y="4941720"/>
            <a:ext cx="201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8"/>
          <p:cNvSpPr/>
          <p:nvPr/>
        </p:nvSpPr>
        <p:spPr>
          <a:xfrm>
            <a:off x="5580000" y="616572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ф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9"/>
          <p:cNvSpPr/>
          <p:nvPr/>
        </p:nvSpPr>
        <p:spPr>
          <a:xfrm>
            <a:off x="6516720" y="5516640"/>
            <a:ext cx="1655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0"/>
          <p:cNvSpPr/>
          <p:nvPr/>
        </p:nvSpPr>
        <p:spPr>
          <a:xfrm>
            <a:off x="3708360" y="623736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4185 L 0.69289 -0.25156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4717 L 0.55521 -0.30936 E"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185 L -0.05104 -0.30404 E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-0.03654 L -0.38594 -0.42474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-0.02613 L 0.2283 -0.08902 E">
                                      <p:cBhvr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82 -0.02104 L -0.57882 -0.20971 E">
                                      <p:cBhvr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-0.03654 L -0.13386 -0.43515 E">
                                      <p:cBhvr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Исправить ошибки в написании суффиксов прилага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знецский, матроский, француский, солдацкий, близский, бурлакский, гиганцкий, рыбацский, вязский, ткацский, утрений, свинной, юнный, ветренный, стекляный, землянной, соный, кожанный, утинный, румя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знец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матрос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француз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солдат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близ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бурлац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гигант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рыбац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вяз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ткац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утр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ен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й, св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й, ю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ый, ветр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е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ый, стекл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ян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ый, земл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я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й, со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ый, кож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ый, ут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ый, рум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ставить пропущенные буквы. Записать слова в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1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ч..к, врач..м, бараш..к, товарищ..м, снеж..к, деревц..м, барсуч..нок, певц..м, веноч..к, луч..м, башмач..к, зеркальц..м, височ..к, меч..м, бельч..нок, чаш..й, береж..к, багаж..м, песоч..к, внуч..к, списоч..к, платочек, пастуш..к, холщ.вый, колюч.го, жж.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4360" y="4952880"/>
          <a:ext cx="7926120" cy="1006560"/>
        </p:xfrm>
        <a:graphic>
          <a:graphicData uri="http://schemas.openxmlformats.org/drawingml/2006/table">
            <a:tbl>
              <a:tblPr/>
              <a:tblGrid>
                <a:gridCol w="1981080"/>
                <a:gridCol w="1982880"/>
                <a:gridCol w="1981080"/>
                <a:gridCol w="198108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кон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ффи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11280" y="1557360"/>
          <a:ext cx="7867440" cy="4627440"/>
        </p:xfrm>
        <a:graphic>
          <a:graphicData uri="http://schemas.openxmlformats.org/drawingml/2006/table">
            <a:tbl>
              <a:tblPr/>
              <a:tblGrid>
                <a:gridCol w="2038320"/>
                <a:gridCol w="1942920"/>
                <a:gridCol w="1943280"/>
                <a:gridCol w="1942920"/>
              </a:tblGrid>
              <a:tr h="420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Оконч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врач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певц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лу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ме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багаж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товарищ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м деревц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м зеркальц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чаш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олю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жж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ё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Боч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снеж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барсу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нок башма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бель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но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береж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вну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пастуш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холщ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ов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бараш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вено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висо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песо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списо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платоч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264d73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02" name="Picture 26" descr="D:\Мои документы\Мои рисунки\КАРТИНКИ школьные и не только\Ручки, перо\прикольный карандаш.jpg"/>
          <p:cNvPicPr/>
          <p:nvPr/>
        </p:nvPicPr>
        <p:blipFill>
          <a:blip r:embed="rId1"/>
          <a:stretch/>
        </p:blipFill>
        <p:spPr>
          <a:xfrm>
            <a:off x="2857680" y="5000760"/>
            <a:ext cx="518760" cy="98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рф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2818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изучается в орфограф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ими разделами она связ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924280"/>
          <a:ext cx="8424720" cy="2103480"/>
        </p:xfrm>
        <a:graphic>
          <a:graphicData uri="http://schemas.openxmlformats.org/drawingml/2006/table">
            <a:tbl>
              <a:tblPr/>
              <a:tblGrid>
                <a:gridCol w="2106360"/>
                <a:gridCol w="2106720"/>
                <a:gridCol w="2104920"/>
                <a:gridCol w="2106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Приста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Кор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уффик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Оконч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Oval 26"/>
          <p:cNvSpPr/>
          <p:nvPr/>
        </p:nvSpPr>
        <p:spPr>
          <a:xfrm>
            <a:off x="3564000" y="544500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ос-/-ка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6084720" y="5300640"/>
            <a:ext cx="1872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гор-/-га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227640" y="6237360"/>
            <a:ext cx="2521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- и пр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826920" y="5157720"/>
            <a:ext cx="2016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чик- и –щи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476360" y="5950080"/>
            <a:ext cx="2087640" cy="691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ек- и –и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6913 C 0.08525 -0.0904 0.15382 -0.11167 0.22153 -0.10497 C 0.28924 -0.09826 0.39375 -0.00855 0.42309 -0.0289 C 0.45244 -0.04925 0.40018 -0.19537 0.39775 -0.22751 C 0.39532 -0.25965 0.40816 -0.22011 0.40886 -0.22127 C 0.40955 -0.22243 0.40591 -0.22821 0.40244 -0.23399 E">
                                      <p:cBhvr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67052E-007 L -0.12204 -0.23075 E">
                                      <p:cBhvr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85 -0.00717 C -0.11771 0.05503 -0.14757 0.11746 -0.20208 0.11746 C -0.2566 0.11746 -0.38108 0.03699 -0.41493 -0.00717 C -0.44879 -0.05133 -0.40695 -0.12347 -0.40538 -0.14682 E">
                                      <p:cBhvr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21965E-006 L 0.31892 -0.21826 E">
                                      <p:cBhvr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 0.00301 C -0.40243 0.02752 -0.65885 0.05203 -0.74913 0.00509 C -0.83941 -0.04185 -0.69739 -0.22289 -0.68715 -0.27815 C -0.67691 -0.33341 -0.68715 -0.31884 -0.68715 -0.32693 E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азобрать слова по соста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тяжка, старушка, лесной, мягко, чистота, съездить, наводнение, предгорье, приболеть, речуш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2" descr="D:\Мои документы\Мои рисунки\КАРТИНКИ школьные и не только\Ручки, перо\прикольный карандаш.jpg"/>
          <p:cNvPicPr/>
          <p:nvPr/>
        </p:nvPicPr>
        <p:blipFill>
          <a:blip r:embed="rId1"/>
          <a:stretch/>
        </p:blipFill>
        <p:spPr>
          <a:xfrm>
            <a:off x="214200" y="1214280"/>
            <a:ext cx="1027080" cy="1951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3499920"/>
            <a:ext cx="8229600" cy="25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Если видишь, что </a:t>
            </a: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за корнем</a:t>
            </a: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появился </a:t>
            </a: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суффикс</a:t>
            </a: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5600" spc="-1" strike="noStrike" baseline="30000">
                <a:solidFill>
                  <a:srgbClr val="ff3300"/>
                </a:solidFill>
                <a:latin typeface="Century Gothic"/>
              </a:rPr>
              <a:t>А</a:t>
            </a: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То, без всякого сомненья,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Корень </a:t>
            </a: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«к</a:t>
            </a:r>
            <a:r>
              <a:rPr b="1" i="1" lang="ru-RU" sz="5600" spc="-1" strike="noStrike" baseline="30000">
                <a:solidFill>
                  <a:srgbClr val="ff3300"/>
                </a:solidFill>
                <a:latin typeface="Century Gothic"/>
              </a:rPr>
              <a:t>а</a:t>
            </a: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с »</a:t>
            </a:r>
            <a:r>
              <a:rPr b="1" i="1" lang="ru-RU" sz="5600" spc="-1" strike="noStrike" baseline="30000">
                <a:solidFill>
                  <a:srgbClr val="000000"/>
                </a:solidFill>
                <a:latin typeface="Century Gothic"/>
              </a:rPr>
              <a:t> пиши всегда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771640" y="333360"/>
            <a:ext cx="389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зелок на память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411280" y="189000"/>
            <a:ext cx="4535640" cy="790560"/>
          </a:xfrm>
          <a:prstGeom prst="wedgeRoundRectCallout">
            <a:avLst>
              <a:gd name="adj1" fmla="val -75615"/>
              <a:gd name="adj2" fmla="val 17728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7"/>
          <p:cNvSpPr/>
          <p:nvPr/>
        </p:nvSpPr>
        <p:spPr>
          <a:xfrm>
            <a:off x="3205080" y="2349360"/>
            <a:ext cx="1079640" cy="5749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fill="none" w="41548" h="21600">
                <a:moveTo>
                  <a:pt x="0" y="16098"/>
                </a:moveTo>
                <a:cubicBezTo>
                  <a:pt x="2499" y="6611"/>
                  <a:pt x="11077" y="-1"/>
                  <a:pt x="20888" y="0"/>
                </a:cubicBezTo>
                <a:cubicBezTo>
                  <a:pt x="30389" y="0"/>
                  <a:pt x="38775" y="6209"/>
                  <a:pt x="41548" y="15297"/>
                </a:cubicBezTo>
              </a:path>
              <a:path stroke="0" w="41548" h="21600">
                <a:moveTo>
                  <a:pt x="0" y="16098"/>
                </a:moveTo>
                <a:cubicBezTo>
                  <a:pt x="2499" y="6611"/>
                  <a:pt x="11077" y="-1"/>
                  <a:pt x="20888" y="0"/>
                </a:cubicBezTo>
                <a:cubicBezTo>
                  <a:pt x="30389" y="0"/>
                  <a:pt x="38775" y="6209"/>
                  <a:pt x="41548" y="15297"/>
                </a:cubicBezTo>
                <a:lnTo>
                  <a:pt x="20888" y="21600"/>
                </a:ln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3132000" y="2708280"/>
            <a:ext cx="11541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...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4356000" y="278136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4427640" y="2420640"/>
            <a:ext cx="215640" cy="360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4643280" y="2421000"/>
            <a:ext cx="144720" cy="360360"/>
          </a:xfrm>
          <a:prstGeom prst="line">
            <a:avLst/>
          </a:prstGeom>
          <a:ln w="38160">
            <a:solidFill>
              <a:srgbClr val="000099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6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6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69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70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75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76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81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3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87" dur="3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88" dur="3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dArt 2" descr="Частый вертикальный"/>
          <p:cNvPicPr/>
          <p:nvPr/>
        </p:nvPicPr>
        <p:blipFill>
          <a:blip r:embed="rId1"/>
          <a:stretch/>
        </p:blipFill>
        <p:spPr>
          <a:xfrm>
            <a:off x="353880" y="1262160"/>
            <a:ext cx="7869240" cy="2030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28320" y="3944520"/>
            <a:ext cx="84682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0e0e"/>
                </a:solidFill>
                <a:latin typeface="Tahoma"/>
              </a:rPr>
              <a:t>Исключите в каждом ряду «лишнее»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. Коситься, коснуться, кас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. Прикосновение, коса, каса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3640" y="2997000"/>
            <a:ext cx="849780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ться дна, 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уться плиты, 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ие мяча, 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лись растений, 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улся ветвями воды, 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юсь темы разговора, только не 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есь истории, 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ется рукой, 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тельная линия, русая к</a:t>
            </a:r>
            <a:r>
              <a:rPr b="1" lang="ru-RU" sz="2800" spc="-1" strike="noStrike">
                <a:solidFill>
                  <a:srgbClr val="f20e0e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539640" y="1413000"/>
            <a:ext cx="8001000" cy="121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ная трениров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755640" y="907920"/>
            <a:ext cx="777240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авописание о-а в корнях с чередованием зависит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685800" y="19810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 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1600200" y="2057040"/>
            <a:ext cx="15228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752480" y="205740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2819520" y="198108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5029200" y="198108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7086600" y="19810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685800" y="2819520"/>
            <a:ext cx="2057400" cy="3276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276360"/>
              <a:gd name="textAreaBottom" fmla="*/ 3175920 h 3276360"/>
            </a:gdLst>
            <a:ahLst/>
            <a:rect l="textAreaLeft" t="textAreaTop" r="textAreaRight" b="textAreaBottom"/>
            <a:pathLst>
              <a:path w="21600" h="34395">
                <a:moveTo>
                  <a:pt x="3600" y="0"/>
                </a:moveTo>
                <a:arcTo wR="3600" hR="3600" stAng="16200000" swAng="-5400000"/>
                <a:lnTo>
                  <a:pt x="0" y="30795"/>
                </a:lnTo>
                <a:arcTo wR="3600" hR="3600" stAng="10800000" swAng="-5400000"/>
                <a:lnTo>
                  <a:pt x="18000" y="34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лаг- (-а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кас- (-а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лож-(-а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кос- (-а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2209680" y="3352680"/>
            <a:ext cx="152640" cy="152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2362320" y="3352680"/>
            <a:ext cx="152280" cy="152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2209680" y="3962160"/>
            <a:ext cx="15264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2362320" y="3962520"/>
            <a:ext cx="7596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1600200" y="25146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V="1">
            <a:off x="2209680" y="4495680"/>
            <a:ext cx="152640" cy="152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362320" y="4495680"/>
            <a:ext cx="152280" cy="152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 flipV="1">
            <a:off x="2209680" y="5028840"/>
            <a:ext cx="15264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2362320" y="5029200"/>
            <a:ext cx="7596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2133720" y="4572000"/>
            <a:ext cx="38088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 flipH="1">
            <a:off x="2209320" y="4572000"/>
            <a:ext cx="30492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2133720" y="51055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3"/>
          <p:cNvSpPr/>
          <p:nvPr/>
        </p:nvSpPr>
        <p:spPr>
          <a:xfrm flipH="1">
            <a:off x="2133720" y="510552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4"/>
          <p:cNvSpPr/>
          <p:nvPr/>
        </p:nvSpPr>
        <p:spPr>
          <a:xfrm>
            <a:off x="2819520" y="2819520"/>
            <a:ext cx="2133360" cy="327636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276360"/>
              <a:gd name="textAreaBottom" fmla="*/ 3172320 h 3276360"/>
            </a:gdLst>
            <a:ahLst/>
            <a:rect l="textAreaLeft" t="textAreaTop" r="textAreaRight" b="textAreaBottom"/>
            <a:pathLst>
              <a:path w="21600" h="33171">
                <a:moveTo>
                  <a:pt x="3600" y="0"/>
                </a:moveTo>
                <a:arcTo wR="3600" hR="3600" stAng="16200000" swAng="-5400000"/>
                <a:lnTo>
                  <a:pt x="0" y="29571"/>
                </a:lnTo>
                <a:arcTo wR="3600" hR="3600" stAng="10800000" swAng="-5400000"/>
                <a:lnTo>
                  <a:pt x="18000" y="33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5"/>
          <p:cNvSpPr/>
          <p:nvPr/>
        </p:nvSpPr>
        <p:spPr>
          <a:xfrm>
            <a:off x="5029200" y="2819520"/>
            <a:ext cx="1981080" cy="327636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276360"/>
              <a:gd name="textAreaBottom" fmla="*/ 3179880 h 3276360"/>
            </a:gdLst>
            <a:ahLst/>
            <a:rect l="textAreaLeft" t="textAreaTop" r="textAreaRight" b="textAreaBottom"/>
            <a:pathLst>
              <a:path w="21600" h="35720">
                <a:moveTo>
                  <a:pt x="3600" y="0"/>
                </a:moveTo>
                <a:arcTo wR="3600" hR="3600" stAng="16200000" swAng="-5400000"/>
                <a:lnTo>
                  <a:pt x="0" y="32120"/>
                </a:lnTo>
                <a:arcTo wR="3600" hR="3600" stAng="10800000" swAng="-5400000"/>
                <a:lnTo>
                  <a:pt x="18000" y="3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7086600" y="2819520"/>
            <a:ext cx="1828800" cy="32763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276360"/>
              <a:gd name="textAreaBottom" fmla="*/ 3187080 h 3276360"/>
            </a:gdLst>
            <a:ahLst/>
            <a:rect l="textAreaLeft" t="textAreaTop" r="textAreaRight" b="textAreaBottom"/>
            <a:pathLst>
              <a:path w="21600" h="38694">
                <a:moveTo>
                  <a:pt x="3600" y="0"/>
                </a:moveTo>
                <a:arcTo wR="3600" hR="3600" stAng="16200000" swAng="-5400000"/>
                <a:lnTo>
                  <a:pt x="0" y="35094"/>
                </a:lnTo>
                <a:arcTo wR="3600" hR="3600" stAng="10800000" swAng="-5400000"/>
                <a:lnTo>
                  <a:pt x="18000" y="38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900000" y="260280"/>
            <a:ext cx="7772400" cy="685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авописание о-а в корнях с чередованием зависит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685800" y="12193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 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1600200" y="1295280"/>
            <a:ext cx="15228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1752480" y="1295280"/>
            <a:ext cx="15264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2819520" y="12193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согла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5029200" y="12193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7086600" y="12193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685800" y="1981080"/>
            <a:ext cx="2057400" cy="3505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05320"/>
              <a:gd name="textAreaBottom" fmla="*/ 3404880 h 3505320"/>
            </a:gdLst>
            <a:ahLst/>
            <a:rect l="textAreaLeft" t="textAreaTop" r="textAreaRight" b="textAreaBottom"/>
            <a:pathLst>
              <a:path w="21600" h="36799">
                <a:moveTo>
                  <a:pt x="3600" y="0"/>
                </a:moveTo>
                <a:arcTo wR="3600" hR="3600" stAng="16200000" swAng="-5400000"/>
                <a:lnTo>
                  <a:pt x="0" y="33199"/>
                </a:lnTo>
                <a:arcTo wR="3600" hR="3600" stAng="10800000" swAng="-5400000"/>
                <a:lnTo>
                  <a:pt x="18000" y="36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г- (-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ж-(-а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2133720" y="3200040"/>
            <a:ext cx="15228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2286000" y="3200400"/>
            <a:ext cx="15228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2209680" y="3809880"/>
            <a:ext cx="152640" cy="152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1600200" y="175248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1600200" y="18288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V="1">
            <a:off x="2209680" y="4343040"/>
            <a:ext cx="15264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2362320" y="4343400"/>
            <a:ext cx="15228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V="1">
            <a:off x="2133720" y="2666880"/>
            <a:ext cx="152280" cy="152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133720" y="4419720"/>
            <a:ext cx="38088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H="1">
            <a:off x="2209320" y="4419720"/>
            <a:ext cx="30492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2209680" y="388620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2133720" y="388620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2819520" y="1981080"/>
            <a:ext cx="2133360" cy="35053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505320"/>
              <a:gd name="textAreaBottom" fmla="*/ 3401280 h 3505320"/>
            </a:gdLst>
            <a:ahLst/>
            <a:rect l="textAreaLeft" t="textAreaTop" r="textAreaRight" b="textAreaBottom"/>
            <a:pathLst>
              <a:path w="21600" h="35489">
                <a:moveTo>
                  <a:pt x="3600" y="0"/>
                </a:moveTo>
                <a:arcTo wR="3600" hR="3600" stAng="16200000" swAng="-5400000"/>
                <a:lnTo>
                  <a:pt x="0" y="31889"/>
                </a:lnTo>
                <a:arcTo wR="3600" hR="3600" stAng="10800000" swAng="-5400000"/>
                <a:lnTo>
                  <a:pt x="18000" y="354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ст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(перед с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щ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(перед щ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с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(нет ст,  щ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5029200" y="1981080"/>
            <a:ext cx="1981080" cy="350532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505320"/>
              <a:gd name="textAreaBottom" fmla="*/ 3408840 h 3505320"/>
            </a:gdLst>
            <a:ahLst/>
            <a:rect l="textAreaLeft" t="textAreaTop" r="textAreaRight" b="textAreaBottom"/>
            <a:pathLst>
              <a:path w="21600" h="38216">
                <a:moveTo>
                  <a:pt x="3600" y="0"/>
                </a:moveTo>
                <a:arcTo wR="3600" hR="3600" stAng="16200000" swAng="-5400000"/>
                <a:lnTo>
                  <a:pt x="0" y="34616"/>
                </a:lnTo>
                <a:arcTo wR="3600" hR="3600" stAng="10800000" swAng="-5400000"/>
                <a:lnTo>
                  <a:pt x="18000" y="38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7086600" y="19810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3886200" y="25909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4343400" y="3124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4343400" y="3200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3962520" y="373392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3962520" y="380988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343400" y="4267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4343400" y="4343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3962520" y="480060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3962520" y="487692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3733920" y="53341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6"/>
          <p:cNvSpPr/>
          <p:nvPr/>
        </p:nvSpPr>
        <p:spPr>
          <a:xfrm>
            <a:off x="4495680" y="5410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>
            <a:off x="4495680" y="533412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3733920" y="54100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2362320" y="3809880"/>
            <a:ext cx="152280" cy="152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2286000" y="2666880"/>
            <a:ext cx="152280" cy="152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1"/>
          <p:cNvSpPr/>
          <p:nvPr/>
        </p:nvSpPr>
        <p:spPr>
          <a:xfrm>
            <a:off x="2743200" y="5562720"/>
            <a:ext cx="2286000" cy="1295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Искл.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ст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стовщик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с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тислав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на выро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от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2"/>
          <p:cNvSpPr/>
          <p:nvPr/>
        </p:nvSpPr>
        <p:spPr>
          <a:xfrm>
            <a:off x="5105520" y="5562720"/>
            <a:ext cx="198108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отккрытая книга"/>
          <p:cNvPicPr/>
          <p:nvPr/>
        </p:nvPicPr>
        <p:blipFill>
          <a:blip r:embed="rId1"/>
          <a:stretch/>
        </p:blipFill>
        <p:spPr>
          <a:xfrm>
            <a:off x="5105520" y="281952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6:56:14Z</dcterms:created>
  <dc:creator> Полякова</dc:creator>
  <dc:description/>
  <dc:language>en-US</dc:language>
  <cp:lastModifiedBy>Admin</cp:lastModifiedBy>
  <dcterms:modified xsi:type="dcterms:W3CDTF">2012-12-06T09:57:25Z</dcterms:modified>
  <cp:revision>4</cp:revision>
  <dc:subject/>
  <dc:title>Разделы науки о языке. Орфография. </dc:title>
</cp:coreProperties>
</file>